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1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8.wmf" ContentType="image/x-wmf"/>
  <Override PartName="/ppt/media/image1.png" ContentType="image/png"/>
  <Override PartName="/ppt/media/image16.png" ContentType="image/png"/>
  <Override PartName="/ppt/media/image14.jpeg" ContentType="image/jpeg"/>
  <Override PartName="/ppt/media/image2.wmf" ContentType="image/x-wmf"/>
  <Override PartName="/ppt/media/image15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comments/comment3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disasi" initials="d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<Relationship Id="rId47" Type="http://schemas.openxmlformats.org/officeDocument/2006/relationships/commentAuthors" Target="commentAuthors.xml"/>
</Relationships>
</file>

<file path=ppt/comments/comment32.xml><?xml version="1.0" encoding="utf-8"?>
<p:cmLst xmlns:p="http://schemas.openxmlformats.org/presentationml/2006/main">
  <p:cm authorId="0" dt="2004-08-31T20:14:57.244000000" idx="1">
    <p:pos x="5376" y="460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0A276-745B-4729-8A0C-EC1EDDDAFE9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C6796-D92E-4C70-B7EF-19A5553B854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l 44% de nuestras exportaciones a EE.UU. son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E.UU. absorbe el 40% de nuestras exportaciones de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EE.UU. representa un mercado equivalente a 170 veces el del Per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En el 200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, EE.UU. fue el mayor exportador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de bienes y servicios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en el mundo al totalizar US$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006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mil 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millones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: 11% del total mundial y el principal importador en el mundo al registrar US$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52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4 mil millones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: 1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% del total mundi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Todas las exportaciones peruanas del año 2003 (US$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8.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 mil 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millones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) equivalen escasamente a dos días y medio de todo lo que importa EE.UU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Para satisfacer el equivalente a un mes de importaciones de EE.UU., el Perú tendría que multiplicar sus exportaciones por un factor cercano a 11. Ese es el tamaño del mercado que se puede consolidar con un TL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olombia empezará las negociaciones del TLC con EE.UU. en mayo de este año, mientras que el Perú aún tiene pendiente la fecha de inic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Implica menores costos en la importación de insumos y bienes de capi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Genera mejoras en la productividad y la competitiv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Fomenta la realización de reformas estructurales y la estabilidad de las reglas del jue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trae inversión directa extranj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xportaciones (1993-2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xportaciones crecieron en 13.4% anu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xportaciones se triplicaron entre 1994 y 200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       </a:t>
            </a: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93: US$ 51.83 mil mill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2002: US$ 160.8 mil mill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B82FA-6D60-43D9-8630-B4A12212D86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9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250" name="PlaceHolder 2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N CAMBIO MEXICO SÍ HA APRENDIDO LA LECCION Y HA ADECUADO SU OFERTA A LA DEMANDA MUNDIAL POR MANUFACTURAS. ASI, EN EL 2001, MEXICO EXPORTABA APROXIMADAMENTE, PARA HABLAR DE CIFRAS GRUESAS, EL 90% DE SUS EXPORTACIONES EN BIENES MANUFACTURADOS Y YA VIMOS COMO SUS EXPORTACIONES HAN CRECIDO EN 790%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tre 1993 y el 2002 las exportaciones de manufacturas crecieron en 14.6% anu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Índice de apertura económica*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80 = 28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88 = 31.4 dos años después de su ingreso al GA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93 = 42.9 ya antes de firmarse el NAFTA el índice de apertura de México había aumentado considerablemente (no se trata de un solo tratado, sino de toda una estrategia de apertura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2002 = 49.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* (X + M) / PB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(en 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Inversión extranjera direc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1993 fue US$ 4,389 mill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2001 fue US$ 26,204 mill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2002 fue US$ 14,623 mill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tre 1993 y 2002: crecimiento anual de 14.3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tre 1994 y 2002: IED se cuadruplic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abe destacar que la pobreza se redujo del </a:t>
            </a: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3</a:t>
            </a: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8% de la población en 1992 al 26% en el 2000. El ajuste ante la Crisis del Tequila también fue rápido en términos de pobreza: de 43% en 1995 se pasó a 35% en 1996 (tan solo en un añ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omo se puede ver, a partir de 1994 el desempleo ha presentado una tendencia decrecien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ste se ajustó rápidamente tras la Crisis del Tequila y luego de 1998, llegó a los niveles más bajos desde 198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l NAFTA también permitió un rápido ajuste de los salarios reales tras dicha cri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Las exportaciones agroalimentarias de México a EE.UU. se han casi duplicado desde la firma del NAFTA (entre 1993 y el 2001 crecieron en 94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La producción de maíz no muestra relación con el arancel del NAFTA. Argumentos por ese lado no tienen susten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México enfrentó retos antes, durante y luego de las negociacio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Según el Banco Mundial, los beneficios no necesariamente llegan inmediatamente, pues dependen de políticas complementarias (la reforma inter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3CA07-2B57-40C6-BCB6-EADDD5C8B74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¿Quiénes están realmente detrás de imágenes como las de la pantal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Paladines de la ecología, ONG, grupos antiglobalización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¿Y quién los financia?: ¿sectores ineficientes?, ¿proteccionista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En 1806, luego de que fracasa su intento para invadir Gran Bretaña cuando la flota Franco Española es aniquilada por Nelson en Trafalgar, Napoleón busca bloquear comercialmente a Gran Bretaña, con la intención de aislarla </a:t>
            </a: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del </a:t>
            </a:r>
            <a:r>
              <a:rPr b="0" lang="es-PE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mercado europeo y ahogarla económicamente. Esta política lo conduce a la guerra con Portugal y a la intervención de España en 1808. Más recientemente, en 1991 a raíz del conflicto del Golfo Pérsico, luego del ataque de Iraq a Kuwait, Estados Unidos castiga a esa nación con un bloqueo comercial y, aún hoy, Cuba es tal vez el ejemplo más cercano que tenemos del daño que puede el aislamiento comercial ocasionar a una nac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BEC9C-DE66-41C3-A8E9-41ECD1EE3DB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l 44% de nuestras exportaciones a EE.UU. son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E.UU. absorbe el 40% de nuestras exportaciones de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Mayores salarios en el sector exportador y también en el que compite con las importaci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77D86-5352-41EE-84C6-6D32BE25F8E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45755-BA01-4ACC-A6AB-37D8165E417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pertura Comercial: promover competitiv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Reducción significativa de aranceles y demás restric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Trato no discriminatorio con empresas internacionales: atraer invers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0424A-5854-4AF8-8C85-B1400AE904B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Los que dicen que el Perú ha seguido una política liberal extrema, y que nos hemos abierto excesivamente a las importaciones no tienen idea de lo que sucede en el mund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Actualmente nuestras importaciones de bienes y servicios como porcentaje del PBI (17.34%) son menores que las de Cuba (18.17%) y China (25.91%)… Chile tiene 32.1%, Tailandia, con quienes estamos negociando un TLC, 27.48% y los países de altos ingresos tienen en promedio 22.2%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quí es donde se puede venir con el tema Irlanda y explicar la importancia de la apertura comercial (economías de escala, acceso a tecnología, no monopolios, etc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ara diapositivas 1 y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l Perú es una economía pequeña en el contexto mundial y únicamente podrá emplear a su población y elevar su nivel de vida y progresar si aprovecha sus recursos humanos y naturales, y se conecta con todo el mund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a experiencia reciente muestra que aún en países con territorios y poblaciones enormes, como la India y China, la creciente integración al mundo de estas economías ha resultado en tasas de crecimiento de su ingreso por habitante que superan largamente a las de todo el resto de países del mun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los 90 la inversión dio un salto, pero desde 1998 ha descendido, manteniéndose estable en los últimos año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Necesitamos mayores niveles de inversión si queremos crecer a un ritmo de 7%, por ejemp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l TLC abre las puertas a la inversión directa extranj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1A9BF-E89B-4CB4-95D0-E38DF4578EC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0845F-48E5-44D9-B0FC-38BE2B06043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 u="sng">
                <a:solidFill>
                  <a:srgbClr val="000000"/>
                </a:solidFill>
                <a:uFillTx/>
                <a:latin typeface="Trebuchet MS"/>
              </a:rPr>
              <a:t>OBJETIVOS PLANTEADOS POR GOBIERN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OMC: Liberalizar Agricultura, Salud Pública, Profundizar Normas (Antidumping, Políticas de competencia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TLC EE.UU. : Consolidar ATPDEA, plazo 200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LCA: </a:t>
            </a: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Consolidar ATPDEA, Mejorar Acceso con otros Países, Mejorar Normas de Comercio, Plazo: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MERCOSUR: Afianzar relaciones con el MERCOS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AN: Mercado Común Andino, Plazo: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PEC: Afianzar relaciones con el Asia Pacíf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No hay tiempo ni recursos para todo: establecer priorida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9EB3-3F7D-4A25-832B-7768DF4CB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0509-4F19-44FF-9D8F-321E6537F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33CD-4BDE-4568-9EDA-699C2084D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08C4-CCCF-4E79-95E2-1F1324CCB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4B194-4208-4D58-86E6-29554ADCD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7DC14-ECB2-4BE9-8C0D-8700824D7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1CEA9-0D85-4A51-BAC0-2895797F4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D2B61-6ACF-4DB2-B9AB-BF57FBAE2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D7CA1-BEF7-4217-96E8-F29CFA2FF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E58E5-1426-4621-8222-D36F3167E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A5037-64EB-4F29-ADF0-13FFB6715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6053-DAFC-48D2-BF23-A8E022224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019A6-E08D-4530-BB76-133ED05A4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C18CB-71B4-405C-B324-47197B72A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2DD87-4C91-4BEF-B81E-A8D59D4CE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0E6AB-F5B9-4DED-97A1-779B9990F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30232-85C0-4FA6-AB21-7B5C476D9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7A6C-512D-4993-AC87-173FF29CA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4A30-421F-41F1-9ECE-A6319CEC3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1DC8-A597-4880-B310-16684F4AD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6096-AFC0-4C64-821B-087D1F7A9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583F-3500-4A31-9A25-4A81C2939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71BE-24F2-42FF-80FA-4B3DA53B8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BD02-7692-45CD-BA19-16A3A0AC6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8824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82424"/>
                </a:gs>
                <a:gs pos="100000">
                  <a:srgbClr val="d40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54D09-737A-4F76-BCAE-9E1F2EF8E295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6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7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50000">
                  <a:srgbClr val="ffffff"/>
                </a:gs>
                <a:gs pos="100000">
                  <a:srgbClr val="cc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100000">
                  <a:srgbClr val="d4002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0CA4E-4CD4-4A94-A3C1-AADD8F40AB57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nadir.org/nadir/initiativ/agp/free/cancun/action/images17.htm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529360" y="5305320"/>
            <a:ext cx="42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Verdana"/>
              </a:rPr>
              <a:t>WWW.COMEXPERU.ORG.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421840" cy="124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Negociaciones comerciales: agend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03480" y="1676160"/>
            <a:ext cx="733104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Darle prioridad adecuada a cada mercado: EE.UU., UE y As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El grado de apertura y estabilidad económica del Perú es mayor al de la región latinoamericana: velar que acuerdos acojan ese objetiv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898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ortaciones e importaciones </a:t>
            </a:r>
            <a:br>
              <a:rPr sz="3800"/>
            </a:b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del Perú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31" name=""/>
          <p:cNvSpPr/>
          <p:nvPr/>
        </p:nvSpPr>
        <p:spPr>
          <a:xfrm>
            <a:off x="838080" y="4556160"/>
            <a:ext cx="3429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SUNAT. </a:t>
            </a:r>
            <a:r>
              <a:rPr b="1" lang="es-ES" sz="9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876920" y="6568920"/>
            <a:ext cx="3997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SUNAT. </a:t>
            </a:r>
            <a:r>
              <a:rPr b="1" lang="es-ES" sz="9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-152280" y="1752480"/>
            <a:ext cx="5410080" cy="29703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3809880" y="3581280"/>
            <a:ext cx="563904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ortaciones a EE.UU.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5219640" y="2589120"/>
            <a:ext cx="3463920" cy="3719160"/>
            <a:chOff x="5219640" y="2589120"/>
            <a:chExt cx="3463920" cy="3719160"/>
          </a:xfrm>
        </p:grpSpPr>
        <p:sp>
          <p:nvSpPr>
            <p:cNvPr id="237" name=""/>
            <p:cNvSpPr/>
            <p:nvPr/>
          </p:nvSpPr>
          <p:spPr>
            <a:xfrm>
              <a:off x="6483600" y="2765160"/>
              <a:ext cx="357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EE.UU.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140600" y="2765160"/>
              <a:ext cx="267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Total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752600" y="2765160"/>
              <a:ext cx="639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art. EE.UU.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976160" y="2944800"/>
              <a:ext cx="165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(%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261760" y="3111480"/>
              <a:ext cx="290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Verdana"/>
                </a:rPr>
                <a:t>Total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455520" y="311148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,348.0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092360" y="311148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8,806.2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914240" y="31114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6.6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265360" y="3278160"/>
              <a:ext cx="70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Tradicionale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455520" y="32781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,321.6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092360" y="32781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,199.9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914240" y="32781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1.3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248800" y="3444840"/>
              <a:ext cx="438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iner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554520" y="34448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993.3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092360" y="344484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,512.6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914240" y="34448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2.0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256360" y="3611520"/>
              <a:ext cx="563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esquer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686640" y="361152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.4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191000" y="361152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818.7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944120" y="361152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0.4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283000" y="3778200"/>
              <a:ext cx="1096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etróleo y derivad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554520" y="37782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54.2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191000" y="37782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55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914240" y="37782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8.8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257800" y="3944880"/>
              <a:ext cx="491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Agrícola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620400" y="3944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70.6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191000" y="394488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13.3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914240" y="3944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3.1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258520" y="4111560"/>
              <a:ext cx="744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anufactura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455520" y="41115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,026.3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092360" y="41115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,606.3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914240" y="41115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9.3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59600" y="4278240"/>
              <a:ext cx="727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Agropecuari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554520" y="42782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.2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191000" y="42782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16.1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914240" y="42782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2.1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256000" y="444492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Textil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554520" y="444492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515.9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91000" y="444492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817.2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914240" y="444492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3.1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253480" y="4611600"/>
              <a:ext cx="508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esquer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620400" y="46116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3.6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191000" y="46116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08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914240" y="46116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0.9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253120" y="477828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Quím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620400" y="47782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2.3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191000" y="477828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12.5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914240" y="47782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3.5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270040" y="4944960"/>
              <a:ext cx="851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etal-mecán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620400" y="4944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4.7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256880" y="4944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96.2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914240" y="4944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5.7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281560" y="5110200"/>
              <a:ext cx="1023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Sidero-metalúrg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620400" y="51102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8.8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91000" y="51102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0.9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914240" y="51102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5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276160" y="5276880"/>
              <a:ext cx="1059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inería no metálica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620400" y="5276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0.2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256880" y="5276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72.2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914240" y="5276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55.6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262480" y="5443560"/>
              <a:ext cx="563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Artesanía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86640" y="544356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0.7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323120" y="544356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.2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914240" y="54435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2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276520" y="5610240"/>
              <a:ext cx="1003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aderas y papele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620400" y="56102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2.6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91000" y="56102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71.0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914240" y="56102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6.6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277600" y="5776920"/>
              <a:ext cx="788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ieles y cuer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686640" y="577692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256880" y="577692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5.2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914240" y="577692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6.4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316480" y="5940360"/>
              <a:ext cx="1009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Varios (inc. Joyería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620400" y="59403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4.7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256880" y="59403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95.3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914240" y="59403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7.8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329800" y="6186240"/>
              <a:ext cx="1996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Fuente: SUNAT</a:t>
              </a:r>
              <a:r>
                <a:rPr b="0" lang="es-MX" sz="800" spc="-1" strike="noStrike">
                  <a:solidFill>
                    <a:srgbClr val="ffffff"/>
                  </a:solidFill>
                  <a:latin typeface="Verdana"/>
                </a:rPr>
                <a:t>. </a:t>
              </a: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Elaboración: COMEXPERU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587920" y="2589120"/>
              <a:ext cx="2736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articipación de EE.UU. en las Exportaciones (2003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534000" y="2944800"/>
              <a:ext cx="928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(millones de US$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219640" y="2736720"/>
              <a:ext cx="3295440" cy="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346800" y="2913120"/>
              <a:ext cx="2168280" cy="2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219640" y="325260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219640" y="3252600"/>
              <a:ext cx="32954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219640" y="341928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219640" y="3419280"/>
              <a:ext cx="32954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219640" y="408600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387760" y="4086000"/>
              <a:ext cx="32958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219640" y="425268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387760" y="4252680"/>
              <a:ext cx="32958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219640" y="6087960"/>
              <a:ext cx="3295440" cy="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3116160" y="2212920"/>
            <a:ext cx="1600200" cy="550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Verdana"/>
              </a:rPr>
              <a:t>El 40% del total de nuestras manufacturas van a EE.UU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79280" y="3213000"/>
            <a:ext cx="4775400" cy="254340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324000" y="5848200"/>
            <a:ext cx="403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Fuente: SUNAT. </a:t>
            </a: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¿Por qué empezar por EE.UU.?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055160" y="227664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EE.UU. representa el 25% del PBI mundial y el 26.5% de las exportaciones peruanas en el 200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Su población asciende a 288 </a:t>
            </a: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millones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de habitantes: 11 veces la población del Per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Un estadounidense posee un ingreso anual de US$ 35,400: 17 veces el peruan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El Perú apenas contribuyó con el 0.19% de las importaciones de EE.UU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Las ventajas del TL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066320" y="20509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Nos abre las puertas al mercado más grande del mund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Consolida preferencias del ATPDEA y abarcará todo el universo arancelario de manera vinculante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Implica menores costos en la importación de insumos y bienes de capital, lo que genera mejoras en la productividad y la competitividad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Fomenta la estabilidad de las reglas del jueg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Atrae inversión directa extranjer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7632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¿Qué se negocia en un TLC ?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276200" y="1981080"/>
            <a:ext cx="349272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Acceso a mercancías </a:t>
            </a: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(Agricultur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Reglas de orig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Administración aduaner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Medidas sanitarias y fitosanitari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Obstáculos técnicos al comerci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Defensa comerci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Contratación públic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Comercio electrónic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Políticas de competenc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908240" y="1981080"/>
            <a:ext cx="349236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Propiedad intelectu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Comercio transfronterizo de servic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Servicios financier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Telecomunicaci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Entrada temporal de personas de negoc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Solución de controversi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Transparenc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Labor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Medio ambien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066680" y="30492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1547640" y="1967040"/>
            <a:ext cx="6769080" cy="4281480"/>
            <a:chOff x="1547640" y="1967040"/>
            <a:chExt cx="6769080" cy="4281480"/>
          </a:xfrm>
        </p:grpSpPr>
        <p:pic>
          <p:nvPicPr>
            <p:cNvPr id="339" name="" descr=""/>
            <p:cNvPicPr/>
            <p:nvPr/>
          </p:nvPicPr>
          <p:blipFill>
            <a:blip r:embed="rId1"/>
            <a:stretch/>
          </p:blipFill>
          <p:spPr>
            <a:xfrm>
              <a:off x="1547640" y="1967040"/>
              <a:ext cx="676908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3563640" y="3329280"/>
              <a:ext cx="112392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Inicio del NAFT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427280" y="3329280"/>
              <a:ext cx="10238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Crisis del Tequil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4284360" y="3474720"/>
              <a:ext cx="2303640" cy="857160"/>
            </a:xfrm>
            <a:prstGeom prst="line">
              <a:avLst/>
            </a:prstGeom>
            <a:ln w="57240">
              <a:solidFill>
                <a:srgbClr val="c0c0c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2109240" y="6272280"/>
            <a:ext cx="365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Secretaría de Economía de México</a:t>
            </a:r>
            <a:r>
              <a:rPr b="1" lang="es-MX" sz="8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MX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1908000" y="620640"/>
            <a:ext cx="6121440" cy="720720"/>
          </a:xfrm>
          <a:prstGeom prst="rect">
            <a:avLst/>
          </a:prstGeom>
          <a:solidFill>
            <a:srgbClr val="8824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México: composición de las exportacion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290520" y="1501920"/>
            <a:ext cx="4262400" cy="2220120"/>
            <a:chOff x="290520" y="1501920"/>
            <a:chExt cx="4262400" cy="2220120"/>
          </a:xfrm>
        </p:grpSpPr>
        <p:sp>
          <p:nvSpPr>
            <p:cNvPr id="346" name=""/>
            <p:cNvSpPr/>
            <p:nvPr/>
          </p:nvSpPr>
          <p:spPr>
            <a:xfrm>
              <a:off x="3560760" y="2546280"/>
              <a:ext cx="101520" cy="511200"/>
            </a:xfrm>
            <a:custGeom>
              <a:avLst/>
              <a:gdLst/>
              <a:ahLst/>
              <a:rect l="l" t="t" r="r" b="b"/>
              <a:pathLst>
                <a:path w="64" h="322">
                  <a:moveTo>
                    <a:pt x="64" y="0"/>
                  </a:moveTo>
                  <a:lnTo>
                    <a:pt x="64" y="8"/>
                  </a:lnTo>
                  <a:lnTo>
                    <a:pt x="56" y="16"/>
                  </a:lnTo>
                  <a:lnTo>
                    <a:pt x="56" y="24"/>
                  </a:lnTo>
                  <a:lnTo>
                    <a:pt x="56" y="24"/>
                  </a:lnTo>
                  <a:lnTo>
                    <a:pt x="48" y="33"/>
                  </a:lnTo>
                  <a:lnTo>
                    <a:pt x="48" y="41"/>
                  </a:lnTo>
                  <a:lnTo>
                    <a:pt x="40" y="49"/>
                  </a:lnTo>
                  <a:lnTo>
                    <a:pt x="32" y="57"/>
                  </a:lnTo>
                  <a:lnTo>
                    <a:pt x="24" y="65"/>
                  </a:lnTo>
                  <a:lnTo>
                    <a:pt x="16" y="65"/>
                  </a:lnTo>
                  <a:lnTo>
                    <a:pt x="8" y="73"/>
                  </a:lnTo>
                  <a:lnTo>
                    <a:pt x="0" y="81"/>
                  </a:lnTo>
                  <a:lnTo>
                    <a:pt x="0" y="322"/>
                  </a:lnTo>
                  <a:lnTo>
                    <a:pt x="8" y="314"/>
                  </a:lnTo>
                  <a:lnTo>
                    <a:pt x="16" y="306"/>
                  </a:lnTo>
                  <a:lnTo>
                    <a:pt x="24" y="306"/>
                  </a:lnTo>
                  <a:lnTo>
                    <a:pt x="32" y="298"/>
                  </a:lnTo>
                  <a:lnTo>
                    <a:pt x="40" y="290"/>
                  </a:lnTo>
                  <a:lnTo>
                    <a:pt x="48" y="282"/>
                  </a:lnTo>
                  <a:lnTo>
                    <a:pt x="48" y="274"/>
                  </a:lnTo>
                  <a:lnTo>
                    <a:pt x="56" y="265"/>
                  </a:lnTo>
                  <a:lnTo>
                    <a:pt x="56" y="265"/>
                  </a:lnTo>
                  <a:lnTo>
                    <a:pt x="56" y="257"/>
                  </a:lnTo>
                  <a:lnTo>
                    <a:pt x="64" y="249"/>
                  </a:lnTo>
                  <a:lnTo>
                    <a:pt x="64" y="241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60606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282760" y="2546280"/>
              <a:ext cx="1278000" cy="511200"/>
            </a:xfrm>
            <a:custGeom>
              <a:avLst/>
              <a:gdLst/>
              <a:ahLst/>
              <a:rect l="l" t="t" r="r" b="b"/>
              <a:pathLst>
                <a:path w="805" h="322">
                  <a:moveTo>
                    <a:pt x="0" y="0"/>
                  </a:moveTo>
                  <a:lnTo>
                    <a:pt x="805" y="81"/>
                  </a:lnTo>
                  <a:lnTo>
                    <a:pt x="805" y="322"/>
                  </a:lnTo>
                  <a:lnTo>
                    <a:pt x="0" y="2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0606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282760" y="2189160"/>
              <a:ext cx="1379520" cy="485640"/>
            </a:xfrm>
            <a:custGeom>
              <a:avLst/>
              <a:gdLst/>
              <a:ahLst/>
              <a:rect l="l" t="t" r="r" b="b"/>
              <a:pathLst>
                <a:path w="869" h="306">
                  <a:moveTo>
                    <a:pt x="0" y="0"/>
                  </a:moveTo>
                  <a:lnTo>
                    <a:pt x="32" y="0"/>
                  </a:lnTo>
                  <a:lnTo>
                    <a:pt x="73" y="0"/>
                  </a:lnTo>
                  <a:lnTo>
                    <a:pt x="105" y="0"/>
                  </a:lnTo>
                  <a:lnTo>
                    <a:pt x="137" y="0"/>
                  </a:lnTo>
                  <a:lnTo>
                    <a:pt x="177" y="0"/>
                  </a:lnTo>
                  <a:lnTo>
                    <a:pt x="209" y="8"/>
                  </a:lnTo>
                  <a:lnTo>
                    <a:pt x="242" y="8"/>
                  </a:lnTo>
                  <a:lnTo>
                    <a:pt x="282" y="8"/>
                  </a:lnTo>
                  <a:lnTo>
                    <a:pt x="306" y="16"/>
                  </a:lnTo>
                  <a:lnTo>
                    <a:pt x="338" y="16"/>
                  </a:lnTo>
                  <a:lnTo>
                    <a:pt x="378" y="25"/>
                  </a:lnTo>
                  <a:lnTo>
                    <a:pt x="403" y="25"/>
                  </a:lnTo>
                  <a:lnTo>
                    <a:pt x="435" y="33"/>
                  </a:lnTo>
                  <a:lnTo>
                    <a:pt x="475" y="33"/>
                  </a:lnTo>
                  <a:lnTo>
                    <a:pt x="499" y="41"/>
                  </a:lnTo>
                  <a:lnTo>
                    <a:pt x="523" y="41"/>
                  </a:lnTo>
                  <a:lnTo>
                    <a:pt x="555" y="49"/>
                  </a:lnTo>
                  <a:lnTo>
                    <a:pt x="580" y="57"/>
                  </a:lnTo>
                  <a:lnTo>
                    <a:pt x="604" y="65"/>
                  </a:lnTo>
                  <a:lnTo>
                    <a:pt x="636" y="73"/>
                  </a:lnTo>
                  <a:lnTo>
                    <a:pt x="652" y="73"/>
                  </a:lnTo>
                  <a:lnTo>
                    <a:pt x="676" y="81"/>
                  </a:lnTo>
                  <a:lnTo>
                    <a:pt x="700" y="89"/>
                  </a:lnTo>
                  <a:lnTo>
                    <a:pt x="716" y="97"/>
                  </a:lnTo>
                  <a:lnTo>
                    <a:pt x="732" y="105"/>
                  </a:lnTo>
                  <a:lnTo>
                    <a:pt x="757" y="113"/>
                  </a:lnTo>
                  <a:lnTo>
                    <a:pt x="773" y="121"/>
                  </a:lnTo>
                  <a:lnTo>
                    <a:pt x="789" y="129"/>
                  </a:lnTo>
                  <a:lnTo>
                    <a:pt x="805" y="137"/>
                  </a:lnTo>
                  <a:lnTo>
                    <a:pt x="813" y="145"/>
                  </a:lnTo>
                  <a:lnTo>
                    <a:pt x="821" y="153"/>
                  </a:lnTo>
                  <a:lnTo>
                    <a:pt x="837" y="169"/>
                  </a:lnTo>
                  <a:lnTo>
                    <a:pt x="845" y="169"/>
                  </a:lnTo>
                  <a:lnTo>
                    <a:pt x="853" y="177"/>
                  </a:lnTo>
                  <a:lnTo>
                    <a:pt x="861" y="193"/>
                  </a:lnTo>
                  <a:lnTo>
                    <a:pt x="861" y="201"/>
                  </a:lnTo>
                  <a:lnTo>
                    <a:pt x="861" y="209"/>
                  </a:lnTo>
                  <a:lnTo>
                    <a:pt x="869" y="217"/>
                  </a:lnTo>
                  <a:lnTo>
                    <a:pt x="869" y="225"/>
                  </a:lnTo>
                  <a:lnTo>
                    <a:pt x="869" y="233"/>
                  </a:lnTo>
                  <a:lnTo>
                    <a:pt x="861" y="249"/>
                  </a:lnTo>
                  <a:lnTo>
                    <a:pt x="861" y="258"/>
                  </a:lnTo>
                  <a:lnTo>
                    <a:pt x="853" y="266"/>
                  </a:lnTo>
                  <a:lnTo>
                    <a:pt x="845" y="274"/>
                  </a:lnTo>
                  <a:lnTo>
                    <a:pt x="837" y="282"/>
                  </a:lnTo>
                  <a:lnTo>
                    <a:pt x="829" y="290"/>
                  </a:lnTo>
                  <a:lnTo>
                    <a:pt x="813" y="298"/>
                  </a:lnTo>
                  <a:lnTo>
                    <a:pt x="805" y="306"/>
                  </a:ln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64040" y="2776680"/>
              <a:ext cx="396720" cy="522000"/>
            </a:xfrm>
            <a:custGeom>
              <a:avLst/>
              <a:gdLst/>
              <a:ahLst/>
              <a:rect l="l" t="t" r="r" b="b"/>
              <a:pathLst>
                <a:path w="250" h="329">
                  <a:moveTo>
                    <a:pt x="250" y="0"/>
                  </a:moveTo>
                  <a:lnTo>
                    <a:pt x="234" y="8"/>
                  </a:lnTo>
                  <a:lnTo>
                    <a:pt x="218" y="16"/>
                  </a:lnTo>
                  <a:lnTo>
                    <a:pt x="202" y="24"/>
                  </a:lnTo>
                  <a:lnTo>
                    <a:pt x="185" y="32"/>
                  </a:lnTo>
                  <a:lnTo>
                    <a:pt x="161" y="40"/>
                  </a:lnTo>
                  <a:lnTo>
                    <a:pt x="145" y="48"/>
                  </a:lnTo>
                  <a:lnTo>
                    <a:pt x="129" y="56"/>
                  </a:lnTo>
                  <a:lnTo>
                    <a:pt x="97" y="64"/>
                  </a:lnTo>
                  <a:lnTo>
                    <a:pt x="81" y="72"/>
                  </a:lnTo>
                  <a:lnTo>
                    <a:pt x="57" y="80"/>
                  </a:lnTo>
                  <a:lnTo>
                    <a:pt x="25" y="88"/>
                  </a:lnTo>
                  <a:lnTo>
                    <a:pt x="0" y="88"/>
                  </a:lnTo>
                  <a:lnTo>
                    <a:pt x="0" y="329"/>
                  </a:lnTo>
                  <a:lnTo>
                    <a:pt x="25" y="329"/>
                  </a:lnTo>
                  <a:lnTo>
                    <a:pt x="57" y="321"/>
                  </a:lnTo>
                  <a:lnTo>
                    <a:pt x="81" y="313"/>
                  </a:lnTo>
                  <a:lnTo>
                    <a:pt x="97" y="305"/>
                  </a:lnTo>
                  <a:lnTo>
                    <a:pt x="129" y="297"/>
                  </a:lnTo>
                  <a:lnTo>
                    <a:pt x="145" y="289"/>
                  </a:lnTo>
                  <a:lnTo>
                    <a:pt x="161" y="281"/>
                  </a:lnTo>
                  <a:lnTo>
                    <a:pt x="185" y="273"/>
                  </a:lnTo>
                  <a:lnTo>
                    <a:pt x="202" y="265"/>
                  </a:lnTo>
                  <a:lnTo>
                    <a:pt x="218" y="257"/>
                  </a:lnTo>
                  <a:lnTo>
                    <a:pt x="234" y="249"/>
                  </a:lnTo>
                  <a:lnTo>
                    <a:pt x="250" y="241"/>
                  </a:lnTo>
                  <a:lnTo>
                    <a:pt x="250" y="0"/>
                  </a:lnTo>
                  <a:close/>
                </a:path>
              </a:pathLst>
            </a:custGeom>
            <a:solidFill>
              <a:srgbClr val="80404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82760" y="2649600"/>
              <a:ext cx="881280" cy="649080"/>
            </a:xfrm>
            <a:custGeom>
              <a:avLst/>
              <a:gdLst/>
              <a:ahLst/>
              <a:rect l="l" t="t" r="r" b="b"/>
              <a:pathLst>
                <a:path w="555" h="409">
                  <a:moveTo>
                    <a:pt x="0" y="0"/>
                  </a:moveTo>
                  <a:lnTo>
                    <a:pt x="555" y="168"/>
                  </a:lnTo>
                  <a:lnTo>
                    <a:pt x="555" y="409"/>
                  </a:lnTo>
                  <a:lnTo>
                    <a:pt x="0" y="2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404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282760" y="2649600"/>
              <a:ext cx="1278000" cy="266760"/>
            </a:xfrm>
            <a:custGeom>
              <a:avLst/>
              <a:gdLst/>
              <a:ahLst/>
              <a:rect l="l" t="t" r="r" b="b"/>
              <a:pathLst>
                <a:path w="805" h="168">
                  <a:moveTo>
                    <a:pt x="805" y="80"/>
                  </a:moveTo>
                  <a:lnTo>
                    <a:pt x="789" y="88"/>
                  </a:lnTo>
                  <a:lnTo>
                    <a:pt x="773" y="96"/>
                  </a:lnTo>
                  <a:lnTo>
                    <a:pt x="757" y="104"/>
                  </a:lnTo>
                  <a:lnTo>
                    <a:pt x="740" y="112"/>
                  </a:lnTo>
                  <a:lnTo>
                    <a:pt x="716" y="120"/>
                  </a:lnTo>
                  <a:lnTo>
                    <a:pt x="700" y="128"/>
                  </a:lnTo>
                  <a:lnTo>
                    <a:pt x="684" y="136"/>
                  </a:lnTo>
                  <a:lnTo>
                    <a:pt x="652" y="144"/>
                  </a:lnTo>
                  <a:lnTo>
                    <a:pt x="636" y="152"/>
                  </a:lnTo>
                  <a:lnTo>
                    <a:pt x="612" y="160"/>
                  </a:lnTo>
                  <a:lnTo>
                    <a:pt x="580" y="168"/>
                  </a:lnTo>
                  <a:lnTo>
                    <a:pt x="555" y="168"/>
                  </a:lnTo>
                  <a:lnTo>
                    <a:pt x="0" y="0"/>
                  </a:lnTo>
                  <a:lnTo>
                    <a:pt x="805" y="80"/>
                  </a:lnTo>
                  <a:close/>
                </a:path>
              </a:pathLst>
            </a:custGeom>
            <a:solidFill>
              <a:srgbClr val="ff808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857320" y="2941560"/>
              <a:ext cx="217800" cy="422280"/>
            </a:xfrm>
            <a:custGeom>
              <a:avLst/>
              <a:gdLst/>
              <a:ahLst/>
              <a:rect l="l" t="t" r="r" b="b"/>
              <a:pathLst>
                <a:path w="137" h="266">
                  <a:moveTo>
                    <a:pt x="137" y="0"/>
                  </a:moveTo>
                  <a:lnTo>
                    <a:pt x="113" y="8"/>
                  </a:lnTo>
                  <a:lnTo>
                    <a:pt x="89" y="8"/>
                  </a:lnTo>
                  <a:lnTo>
                    <a:pt x="65" y="16"/>
                  </a:lnTo>
                  <a:lnTo>
                    <a:pt x="57" y="16"/>
                  </a:lnTo>
                  <a:lnTo>
                    <a:pt x="24" y="25"/>
                  </a:lnTo>
                  <a:lnTo>
                    <a:pt x="0" y="25"/>
                  </a:lnTo>
                  <a:lnTo>
                    <a:pt x="0" y="266"/>
                  </a:lnTo>
                  <a:lnTo>
                    <a:pt x="24" y="266"/>
                  </a:lnTo>
                  <a:lnTo>
                    <a:pt x="57" y="258"/>
                  </a:lnTo>
                  <a:lnTo>
                    <a:pt x="65" y="258"/>
                  </a:lnTo>
                  <a:lnTo>
                    <a:pt x="89" y="249"/>
                  </a:lnTo>
                  <a:lnTo>
                    <a:pt x="113" y="249"/>
                  </a:lnTo>
                  <a:lnTo>
                    <a:pt x="137" y="241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33334d"/>
            </a:solidFill>
            <a:ln w="12600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193840" y="2674800"/>
              <a:ext cx="663480" cy="689040"/>
            </a:xfrm>
            <a:custGeom>
              <a:avLst/>
              <a:gdLst/>
              <a:ahLst/>
              <a:rect l="l" t="t" r="r" b="b"/>
              <a:pathLst>
                <a:path w="418" h="434">
                  <a:moveTo>
                    <a:pt x="0" y="0"/>
                  </a:moveTo>
                  <a:lnTo>
                    <a:pt x="418" y="193"/>
                  </a:lnTo>
                  <a:lnTo>
                    <a:pt x="418" y="434"/>
                  </a:lnTo>
                  <a:lnTo>
                    <a:pt x="0" y="2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4d"/>
            </a:solidFill>
            <a:ln w="12600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193840" y="2674800"/>
              <a:ext cx="881280" cy="306360"/>
            </a:xfrm>
            <a:custGeom>
              <a:avLst/>
              <a:gdLst/>
              <a:ahLst/>
              <a:rect l="l" t="t" r="r" b="b"/>
              <a:pathLst>
                <a:path w="555" h="193">
                  <a:moveTo>
                    <a:pt x="555" y="168"/>
                  </a:moveTo>
                  <a:lnTo>
                    <a:pt x="531" y="176"/>
                  </a:lnTo>
                  <a:lnTo>
                    <a:pt x="507" y="176"/>
                  </a:lnTo>
                  <a:lnTo>
                    <a:pt x="483" y="184"/>
                  </a:lnTo>
                  <a:lnTo>
                    <a:pt x="475" y="184"/>
                  </a:lnTo>
                  <a:lnTo>
                    <a:pt x="442" y="193"/>
                  </a:lnTo>
                  <a:lnTo>
                    <a:pt x="418" y="193"/>
                  </a:lnTo>
                  <a:lnTo>
                    <a:pt x="0" y="0"/>
                  </a:lnTo>
                  <a:lnTo>
                    <a:pt x="555" y="168"/>
                  </a:lnTo>
                  <a:close/>
                </a:path>
              </a:pathLst>
            </a:custGeom>
            <a:solidFill>
              <a:srgbClr val="666699"/>
            </a:solidFill>
            <a:ln w="12600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90520" y="2624040"/>
              <a:ext cx="2043000" cy="739800"/>
            </a:xfrm>
            <a:custGeom>
              <a:avLst/>
              <a:gdLst/>
              <a:ahLst/>
              <a:rect l="l" t="t" r="r" b="b"/>
              <a:pathLst>
                <a:path w="1287" h="466">
                  <a:moveTo>
                    <a:pt x="1287" y="192"/>
                  </a:moveTo>
                  <a:lnTo>
                    <a:pt x="1263" y="200"/>
                  </a:lnTo>
                  <a:lnTo>
                    <a:pt x="1223" y="200"/>
                  </a:lnTo>
                  <a:lnTo>
                    <a:pt x="1191" y="208"/>
                  </a:lnTo>
                  <a:lnTo>
                    <a:pt x="1167" y="208"/>
                  </a:lnTo>
                  <a:lnTo>
                    <a:pt x="1118" y="216"/>
                  </a:lnTo>
                  <a:lnTo>
                    <a:pt x="1094" y="216"/>
                  </a:lnTo>
                  <a:lnTo>
                    <a:pt x="1062" y="216"/>
                  </a:lnTo>
                  <a:lnTo>
                    <a:pt x="1022" y="216"/>
                  </a:lnTo>
                  <a:lnTo>
                    <a:pt x="990" y="216"/>
                  </a:lnTo>
                  <a:lnTo>
                    <a:pt x="957" y="225"/>
                  </a:lnTo>
                  <a:lnTo>
                    <a:pt x="909" y="225"/>
                  </a:lnTo>
                  <a:lnTo>
                    <a:pt x="885" y="225"/>
                  </a:lnTo>
                  <a:lnTo>
                    <a:pt x="853" y="225"/>
                  </a:lnTo>
                  <a:lnTo>
                    <a:pt x="805" y="225"/>
                  </a:lnTo>
                  <a:lnTo>
                    <a:pt x="772" y="225"/>
                  </a:lnTo>
                  <a:lnTo>
                    <a:pt x="748" y="216"/>
                  </a:lnTo>
                  <a:lnTo>
                    <a:pt x="700" y="216"/>
                  </a:lnTo>
                  <a:lnTo>
                    <a:pt x="668" y="216"/>
                  </a:lnTo>
                  <a:lnTo>
                    <a:pt x="644" y="216"/>
                  </a:lnTo>
                  <a:lnTo>
                    <a:pt x="595" y="208"/>
                  </a:lnTo>
                  <a:lnTo>
                    <a:pt x="571" y="208"/>
                  </a:lnTo>
                  <a:lnTo>
                    <a:pt x="539" y="208"/>
                  </a:lnTo>
                  <a:lnTo>
                    <a:pt x="499" y="200"/>
                  </a:lnTo>
                  <a:lnTo>
                    <a:pt x="475" y="200"/>
                  </a:lnTo>
                  <a:lnTo>
                    <a:pt x="442" y="192"/>
                  </a:lnTo>
                  <a:lnTo>
                    <a:pt x="410" y="184"/>
                  </a:lnTo>
                  <a:lnTo>
                    <a:pt x="378" y="184"/>
                  </a:lnTo>
                  <a:lnTo>
                    <a:pt x="354" y="176"/>
                  </a:lnTo>
                  <a:lnTo>
                    <a:pt x="322" y="176"/>
                  </a:lnTo>
                  <a:lnTo>
                    <a:pt x="298" y="168"/>
                  </a:lnTo>
                  <a:lnTo>
                    <a:pt x="274" y="160"/>
                  </a:lnTo>
                  <a:lnTo>
                    <a:pt x="241" y="152"/>
                  </a:lnTo>
                  <a:lnTo>
                    <a:pt x="217" y="144"/>
                  </a:lnTo>
                  <a:lnTo>
                    <a:pt x="201" y="144"/>
                  </a:lnTo>
                  <a:lnTo>
                    <a:pt x="169" y="136"/>
                  </a:lnTo>
                  <a:lnTo>
                    <a:pt x="153" y="128"/>
                  </a:lnTo>
                  <a:lnTo>
                    <a:pt x="137" y="120"/>
                  </a:lnTo>
                  <a:lnTo>
                    <a:pt x="113" y="112"/>
                  </a:lnTo>
                  <a:lnTo>
                    <a:pt x="96" y="104"/>
                  </a:lnTo>
                  <a:lnTo>
                    <a:pt x="88" y="96"/>
                  </a:lnTo>
                  <a:lnTo>
                    <a:pt x="64" y="88"/>
                  </a:lnTo>
                  <a:lnTo>
                    <a:pt x="56" y="80"/>
                  </a:lnTo>
                  <a:lnTo>
                    <a:pt x="48" y="72"/>
                  </a:lnTo>
                  <a:lnTo>
                    <a:pt x="32" y="56"/>
                  </a:lnTo>
                  <a:lnTo>
                    <a:pt x="24" y="56"/>
                  </a:lnTo>
                  <a:lnTo>
                    <a:pt x="16" y="48"/>
                  </a:lnTo>
                  <a:lnTo>
                    <a:pt x="8" y="32"/>
                  </a:lnTo>
                  <a:lnTo>
                    <a:pt x="8" y="24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241"/>
                  </a:lnTo>
                  <a:lnTo>
                    <a:pt x="0" y="249"/>
                  </a:lnTo>
                  <a:lnTo>
                    <a:pt x="0" y="257"/>
                  </a:lnTo>
                  <a:lnTo>
                    <a:pt x="8" y="265"/>
                  </a:lnTo>
                  <a:lnTo>
                    <a:pt x="8" y="273"/>
                  </a:lnTo>
                  <a:lnTo>
                    <a:pt x="16" y="289"/>
                  </a:lnTo>
                  <a:lnTo>
                    <a:pt x="24" y="297"/>
                  </a:lnTo>
                  <a:lnTo>
                    <a:pt x="32" y="297"/>
                  </a:lnTo>
                  <a:lnTo>
                    <a:pt x="48" y="313"/>
                  </a:lnTo>
                  <a:lnTo>
                    <a:pt x="56" y="321"/>
                  </a:lnTo>
                  <a:lnTo>
                    <a:pt x="64" y="329"/>
                  </a:lnTo>
                  <a:lnTo>
                    <a:pt x="88" y="337"/>
                  </a:lnTo>
                  <a:lnTo>
                    <a:pt x="96" y="345"/>
                  </a:lnTo>
                  <a:lnTo>
                    <a:pt x="113" y="353"/>
                  </a:lnTo>
                  <a:lnTo>
                    <a:pt x="137" y="361"/>
                  </a:lnTo>
                  <a:lnTo>
                    <a:pt x="153" y="369"/>
                  </a:lnTo>
                  <a:lnTo>
                    <a:pt x="169" y="377"/>
                  </a:lnTo>
                  <a:lnTo>
                    <a:pt x="201" y="385"/>
                  </a:lnTo>
                  <a:lnTo>
                    <a:pt x="217" y="385"/>
                  </a:lnTo>
                  <a:lnTo>
                    <a:pt x="241" y="393"/>
                  </a:lnTo>
                  <a:lnTo>
                    <a:pt x="274" y="401"/>
                  </a:lnTo>
                  <a:lnTo>
                    <a:pt x="298" y="409"/>
                  </a:lnTo>
                  <a:lnTo>
                    <a:pt x="322" y="417"/>
                  </a:lnTo>
                  <a:lnTo>
                    <a:pt x="354" y="417"/>
                  </a:lnTo>
                  <a:lnTo>
                    <a:pt x="378" y="425"/>
                  </a:lnTo>
                  <a:lnTo>
                    <a:pt x="410" y="425"/>
                  </a:lnTo>
                  <a:lnTo>
                    <a:pt x="442" y="433"/>
                  </a:lnTo>
                  <a:lnTo>
                    <a:pt x="475" y="441"/>
                  </a:lnTo>
                  <a:lnTo>
                    <a:pt x="499" y="441"/>
                  </a:lnTo>
                  <a:lnTo>
                    <a:pt x="539" y="449"/>
                  </a:lnTo>
                  <a:lnTo>
                    <a:pt x="571" y="449"/>
                  </a:lnTo>
                  <a:lnTo>
                    <a:pt x="595" y="449"/>
                  </a:lnTo>
                  <a:lnTo>
                    <a:pt x="644" y="458"/>
                  </a:lnTo>
                  <a:lnTo>
                    <a:pt x="668" y="458"/>
                  </a:lnTo>
                  <a:lnTo>
                    <a:pt x="700" y="458"/>
                  </a:lnTo>
                  <a:lnTo>
                    <a:pt x="748" y="458"/>
                  </a:lnTo>
                  <a:lnTo>
                    <a:pt x="772" y="466"/>
                  </a:lnTo>
                  <a:lnTo>
                    <a:pt x="805" y="466"/>
                  </a:lnTo>
                  <a:lnTo>
                    <a:pt x="853" y="466"/>
                  </a:lnTo>
                  <a:lnTo>
                    <a:pt x="885" y="466"/>
                  </a:lnTo>
                  <a:lnTo>
                    <a:pt x="909" y="466"/>
                  </a:lnTo>
                  <a:lnTo>
                    <a:pt x="957" y="466"/>
                  </a:lnTo>
                  <a:lnTo>
                    <a:pt x="990" y="458"/>
                  </a:lnTo>
                  <a:lnTo>
                    <a:pt x="1022" y="458"/>
                  </a:lnTo>
                  <a:lnTo>
                    <a:pt x="1062" y="458"/>
                  </a:lnTo>
                  <a:lnTo>
                    <a:pt x="1094" y="458"/>
                  </a:lnTo>
                  <a:lnTo>
                    <a:pt x="1118" y="458"/>
                  </a:lnTo>
                  <a:lnTo>
                    <a:pt x="1167" y="449"/>
                  </a:lnTo>
                  <a:lnTo>
                    <a:pt x="1191" y="449"/>
                  </a:lnTo>
                  <a:lnTo>
                    <a:pt x="1223" y="441"/>
                  </a:lnTo>
                  <a:lnTo>
                    <a:pt x="1263" y="441"/>
                  </a:lnTo>
                  <a:lnTo>
                    <a:pt x="1287" y="433"/>
                  </a:lnTo>
                  <a:lnTo>
                    <a:pt x="1287" y="192"/>
                  </a:lnTo>
                  <a:close/>
                </a:path>
              </a:pathLst>
            </a:custGeom>
            <a:solidFill>
              <a:srgbClr val="8066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90520" y="2266920"/>
              <a:ext cx="2043000" cy="714240"/>
            </a:xfrm>
            <a:custGeom>
              <a:avLst/>
              <a:gdLst/>
              <a:ahLst/>
              <a:rect l="l" t="t" r="r" b="b"/>
              <a:pathLst>
                <a:path w="1287" h="450">
                  <a:moveTo>
                    <a:pt x="1287" y="417"/>
                  </a:moveTo>
                  <a:lnTo>
                    <a:pt x="1263" y="425"/>
                  </a:lnTo>
                  <a:lnTo>
                    <a:pt x="1223" y="425"/>
                  </a:lnTo>
                  <a:lnTo>
                    <a:pt x="1191" y="433"/>
                  </a:lnTo>
                  <a:lnTo>
                    <a:pt x="1167" y="433"/>
                  </a:lnTo>
                  <a:lnTo>
                    <a:pt x="1118" y="441"/>
                  </a:lnTo>
                  <a:lnTo>
                    <a:pt x="1094" y="441"/>
                  </a:lnTo>
                  <a:lnTo>
                    <a:pt x="1062" y="441"/>
                  </a:lnTo>
                  <a:lnTo>
                    <a:pt x="1022" y="441"/>
                  </a:lnTo>
                  <a:lnTo>
                    <a:pt x="990" y="441"/>
                  </a:lnTo>
                  <a:lnTo>
                    <a:pt x="957" y="450"/>
                  </a:lnTo>
                  <a:lnTo>
                    <a:pt x="909" y="450"/>
                  </a:lnTo>
                  <a:lnTo>
                    <a:pt x="885" y="450"/>
                  </a:lnTo>
                  <a:lnTo>
                    <a:pt x="853" y="450"/>
                  </a:lnTo>
                  <a:lnTo>
                    <a:pt x="805" y="450"/>
                  </a:lnTo>
                  <a:lnTo>
                    <a:pt x="772" y="450"/>
                  </a:lnTo>
                  <a:lnTo>
                    <a:pt x="748" y="441"/>
                  </a:lnTo>
                  <a:lnTo>
                    <a:pt x="716" y="441"/>
                  </a:lnTo>
                  <a:lnTo>
                    <a:pt x="668" y="441"/>
                  </a:lnTo>
                  <a:lnTo>
                    <a:pt x="644" y="441"/>
                  </a:lnTo>
                  <a:lnTo>
                    <a:pt x="611" y="441"/>
                  </a:lnTo>
                  <a:lnTo>
                    <a:pt x="571" y="433"/>
                  </a:lnTo>
                  <a:lnTo>
                    <a:pt x="539" y="433"/>
                  </a:lnTo>
                  <a:lnTo>
                    <a:pt x="515" y="425"/>
                  </a:lnTo>
                  <a:lnTo>
                    <a:pt x="475" y="425"/>
                  </a:lnTo>
                  <a:lnTo>
                    <a:pt x="442" y="417"/>
                  </a:lnTo>
                  <a:lnTo>
                    <a:pt x="418" y="417"/>
                  </a:lnTo>
                  <a:lnTo>
                    <a:pt x="378" y="409"/>
                  </a:lnTo>
                  <a:lnTo>
                    <a:pt x="354" y="401"/>
                  </a:lnTo>
                  <a:lnTo>
                    <a:pt x="330" y="401"/>
                  </a:lnTo>
                  <a:lnTo>
                    <a:pt x="298" y="393"/>
                  </a:lnTo>
                  <a:lnTo>
                    <a:pt x="274" y="385"/>
                  </a:lnTo>
                  <a:lnTo>
                    <a:pt x="249" y="385"/>
                  </a:lnTo>
                  <a:lnTo>
                    <a:pt x="217" y="369"/>
                  </a:lnTo>
                  <a:lnTo>
                    <a:pt x="201" y="369"/>
                  </a:lnTo>
                  <a:lnTo>
                    <a:pt x="185" y="361"/>
                  </a:lnTo>
                  <a:lnTo>
                    <a:pt x="153" y="353"/>
                  </a:lnTo>
                  <a:lnTo>
                    <a:pt x="137" y="345"/>
                  </a:lnTo>
                  <a:lnTo>
                    <a:pt x="121" y="337"/>
                  </a:lnTo>
                  <a:lnTo>
                    <a:pt x="96" y="329"/>
                  </a:lnTo>
                  <a:lnTo>
                    <a:pt x="88" y="321"/>
                  </a:lnTo>
                  <a:lnTo>
                    <a:pt x="72" y="313"/>
                  </a:lnTo>
                  <a:lnTo>
                    <a:pt x="56" y="305"/>
                  </a:lnTo>
                  <a:lnTo>
                    <a:pt x="48" y="297"/>
                  </a:lnTo>
                  <a:lnTo>
                    <a:pt x="32" y="289"/>
                  </a:lnTo>
                  <a:lnTo>
                    <a:pt x="24" y="281"/>
                  </a:lnTo>
                  <a:lnTo>
                    <a:pt x="16" y="273"/>
                  </a:lnTo>
                  <a:lnTo>
                    <a:pt x="8" y="265"/>
                  </a:lnTo>
                  <a:lnTo>
                    <a:pt x="8" y="257"/>
                  </a:lnTo>
                  <a:lnTo>
                    <a:pt x="0" y="241"/>
                  </a:lnTo>
                  <a:lnTo>
                    <a:pt x="0" y="233"/>
                  </a:lnTo>
                  <a:lnTo>
                    <a:pt x="0" y="225"/>
                  </a:lnTo>
                  <a:lnTo>
                    <a:pt x="0" y="217"/>
                  </a:lnTo>
                  <a:lnTo>
                    <a:pt x="0" y="209"/>
                  </a:lnTo>
                  <a:lnTo>
                    <a:pt x="0" y="200"/>
                  </a:lnTo>
                  <a:lnTo>
                    <a:pt x="8" y="184"/>
                  </a:lnTo>
                  <a:lnTo>
                    <a:pt x="16" y="176"/>
                  </a:lnTo>
                  <a:lnTo>
                    <a:pt x="24" y="168"/>
                  </a:lnTo>
                  <a:lnTo>
                    <a:pt x="32" y="160"/>
                  </a:lnTo>
                  <a:lnTo>
                    <a:pt x="40" y="152"/>
                  </a:lnTo>
                  <a:lnTo>
                    <a:pt x="48" y="144"/>
                  </a:lnTo>
                  <a:lnTo>
                    <a:pt x="64" y="136"/>
                  </a:lnTo>
                  <a:lnTo>
                    <a:pt x="80" y="128"/>
                  </a:lnTo>
                  <a:lnTo>
                    <a:pt x="96" y="120"/>
                  </a:lnTo>
                  <a:lnTo>
                    <a:pt x="113" y="112"/>
                  </a:lnTo>
                  <a:lnTo>
                    <a:pt x="129" y="104"/>
                  </a:lnTo>
                  <a:lnTo>
                    <a:pt x="145" y="96"/>
                  </a:lnTo>
                  <a:lnTo>
                    <a:pt x="169" y="88"/>
                  </a:lnTo>
                  <a:lnTo>
                    <a:pt x="193" y="80"/>
                  </a:lnTo>
                  <a:lnTo>
                    <a:pt x="209" y="72"/>
                  </a:lnTo>
                  <a:lnTo>
                    <a:pt x="241" y="64"/>
                  </a:lnTo>
                  <a:lnTo>
                    <a:pt x="265" y="64"/>
                  </a:lnTo>
                  <a:lnTo>
                    <a:pt x="282" y="56"/>
                  </a:lnTo>
                  <a:lnTo>
                    <a:pt x="322" y="48"/>
                  </a:lnTo>
                  <a:lnTo>
                    <a:pt x="346" y="40"/>
                  </a:lnTo>
                  <a:lnTo>
                    <a:pt x="370" y="40"/>
                  </a:lnTo>
                  <a:lnTo>
                    <a:pt x="394" y="32"/>
                  </a:lnTo>
                  <a:lnTo>
                    <a:pt x="434" y="32"/>
                  </a:lnTo>
                  <a:lnTo>
                    <a:pt x="459" y="24"/>
                  </a:lnTo>
                  <a:lnTo>
                    <a:pt x="483" y="24"/>
                  </a:lnTo>
                  <a:lnTo>
                    <a:pt x="531" y="16"/>
                  </a:lnTo>
                  <a:lnTo>
                    <a:pt x="555" y="16"/>
                  </a:lnTo>
                  <a:lnTo>
                    <a:pt x="587" y="8"/>
                  </a:lnTo>
                  <a:lnTo>
                    <a:pt x="628" y="8"/>
                  </a:lnTo>
                  <a:lnTo>
                    <a:pt x="660" y="8"/>
                  </a:lnTo>
                  <a:lnTo>
                    <a:pt x="684" y="0"/>
                  </a:lnTo>
                  <a:lnTo>
                    <a:pt x="732" y="0"/>
                  </a:lnTo>
                  <a:lnTo>
                    <a:pt x="764" y="0"/>
                  </a:lnTo>
                  <a:lnTo>
                    <a:pt x="788" y="0"/>
                  </a:lnTo>
                  <a:lnTo>
                    <a:pt x="837" y="0"/>
                  </a:lnTo>
                  <a:lnTo>
                    <a:pt x="869" y="0"/>
                  </a:lnTo>
                  <a:lnTo>
                    <a:pt x="869" y="225"/>
                  </a:lnTo>
                  <a:lnTo>
                    <a:pt x="1287" y="417"/>
                  </a:ln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676160" y="15019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198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585520" y="1863720"/>
              <a:ext cx="953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Manufacturas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908080" y="204156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31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042720" y="3376440"/>
              <a:ext cx="37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Otr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134160" y="355428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3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00400" y="1905120"/>
              <a:ext cx="67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Petrole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17480" y="208296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58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592080" y="3133800"/>
              <a:ext cx="96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Agropecuari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002480" y="331164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8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1792440" y="3902040"/>
            <a:ext cx="4509720" cy="2806200"/>
            <a:chOff x="1792440" y="3902040"/>
            <a:chExt cx="4509720" cy="2806200"/>
          </a:xfrm>
        </p:grpSpPr>
        <p:sp>
          <p:nvSpPr>
            <p:cNvPr id="367" name=""/>
            <p:cNvSpPr/>
            <p:nvPr/>
          </p:nvSpPr>
          <p:spPr>
            <a:xfrm>
              <a:off x="4394880" y="390204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00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779440" y="653256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89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792440" y="6477120"/>
              <a:ext cx="2437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900" spc="-1" strike="noStrike">
                  <a:solidFill>
                    <a:srgbClr val="ffffff"/>
                  </a:solidFill>
                  <a:latin typeface="Verdana"/>
                </a:rPr>
                <a:t>Fuente: Banco de Méx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715920" y="4975200"/>
              <a:ext cx="811080" cy="758880"/>
            </a:xfrm>
            <a:custGeom>
              <a:avLst/>
              <a:gdLst/>
              <a:ahLst/>
              <a:rect l="l" t="t" r="r" b="b"/>
              <a:pathLst>
                <a:path w="511" h="478">
                  <a:moveTo>
                    <a:pt x="511" y="211"/>
                  </a:moveTo>
                  <a:lnTo>
                    <a:pt x="0" y="0"/>
                  </a:lnTo>
                  <a:lnTo>
                    <a:pt x="0" y="268"/>
                  </a:lnTo>
                  <a:lnTo>
                    <a:pt x="511" y="478"/>
                  </a:lnTo>
                  <a:lnTo>
                    <a:pt x="511" y="211"/>
                  </a:lnTo>
                  <a:close/>
                </a:path>
              </a:pathLst>
            </a:custGeom>
            <a:solidFill>
              <a:srgbClr val="8066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715920" y="4911840"/>
              <a:ext cx="811080" cy="398520"/>
            </a:xfrm>
            <a:custGeom>
              <a:avLst/>
              <a:gdLst/>
              <a:ahLst/>
              <a:rect l="l" t="t" r="r" b="b"/>
              <a:pathLst>
                <a:path w="511" h="251">
                  <a:moveTo>
                    <a:pt x="0" y="32"/>
                  </a:moveTo>
                  <a:lnTo>
                    <a:pt x="24" y="32"/>
                  </a:lnTo>
                  <a:lnTo>
                    <a:pt x="57" y="24"/>
                  </a:lnTo>
                  <a:lnTo>
                    <a:pt x="73" y="24"/>
                  </a:lnTo>
                  <a:lnTo>
                    <a:pt x="97" y="24"/>
                  </a:lnTo>
                  <a:lnTo>
                    <a:pt x="130" y="16"/>
                  </a:lnTo>
                  <a:lnTo>
                    <a:pt x="162" y="16"/>
                  </a:lnTo>
                  <a:lnTo>
                    <a:pt x="179" y="16"/>
                  </a:lnTo>
                  <a:lnTo>
                    <a:pt x="211" y="8"/>
                  </a:lnTo>
                  <a:lnTo>
                    <a:pt x="244" y="8"/>
                  </a:lnTo>
                  <a:lnTo>
                    <a:pt x="276" y="8"/>
                  </a:lnTo>
                  <a:lnTo>
                    <a:pt x="309" y="0"/>
                  </a:lnTo>
                  <a:lnTo>
                    <a:pt x="325" y="0"/>
                  </a:lnTo>
                  <a:lnTo>
                    <a:pt x="357" y="0"/>
                  </a:lnTo>
                  <a:lnTo>
                    <a:pt x="390" y="0"/>
                  </a:lnTo>
                  <a:lnTo>
                    <a:pt x="422" y="0"/>
                  </a:lnTo>
                  <a:lnTo>
                    <a:pt x="438" y="0"/>
                  </a:lnTo>
                  <a:lnTo>
                    <a:pt x="479" y="0"/>
                  </a:lnTo>
                  <a:lnTo>
                    <a:pt x="511" y="0"/>
                  </a:lnTo>
                  <a:lnTo>
                    <a:pt x="511" y="251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612960" y="4987800"/>
              <a:ext cx="810720" cy="758880"/>
            </a:xfrm>
            <a:custGeom>
              <a:avLst/>
              <a:gdLst/>
              <a:ahLst/>
              <a:rect l="l" t="t" r="r" b="b"/>
              <a:pathLst>
                <a:path w="511" h="478">
                  <a:moveTo>
                    <a:pt x="511" y="211"/>
                  </a:moveTo>
                  <a:lnTo>
                    <a:pt x="0" y="0"/>
                  </a:lnTo>
                  <a:lnTo>
                    <a:pt x="0" y="268"/>
                  </a:lnTo>
                  <a:lnTo>
                    <a:pt x="511" y="478"/>
                  </a:lnTo>
                  <a:lnTo>
                    <a:pt x="511" y="211"/>
                  </a:lnTo>
                  <a:close/>
                </a:path>
              </a:pathLst>
            </a:custGeom>
            <a:solidFill>
              <a:srgbClr val="80806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419280" y="5040360"/>
              <a:ext cx="979200" cy="718920"/>
            </a:xfrm>
            <a:custGeom>
              <a:avLst/>
              <a:gdLst/>
              <a:ahLst/>
              <a:rect l="l" t="t" r="r" b="b"/>
              <a:pathLst>
                <a:path w="617" h="453">
                  <a:moveTo>
                    <a:pt x="617" y="186"/>
                  </a:moveTo>
                  <a:lnTo>
                    <a:pt x="0" y="0"/>
                  </a:lnTo>
                  <a:lnTo>
                    <a:pt x="0" y="267"/>
                  </a:lnTo>
                  <a:lnTo>
                    <a:pt x="617" y="453"/>
                  </a:lnTo>
                  <a:lnTo>
                    <a:pt x="617" y="186"/>
                  </a:lnTo>
                  <a:close/>
                </a:path>
              </a:pathLst>
            </a:custGeom>
            <a:solidFill>
              <a:srgbClr val="80404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406680" y="4987800"/>
              <a:ext cx="991800" cy="347760"/>
            </a:xfrm>
            <a:custGeom>
              <a:avLst/>
              <a:gdLst/>
              <a:ahLst/>
              <a:rect l="l" t="t" r="r" b="b"/>
              <a:pathLst>
                <a:path w="625" h="219">
                  <a:moveTo>
                    <a:pt x="0" y="24"/>
                  </a:moveTo>
                  <a:lnTo>
                    <a:pt x="17" y="24"/>
                  </a:lnTo>
                  <a:lnTo>
                    <a:pt x="41" y="16"/>
                  </a:lnTo>
                  <a:lnTo>
                    <a:pt x="57" y="16"/>
                  </a:lnTo>
                  <a:lnTo>
                    <a:pt x="65" y="8"/>
                  </a:lnTo>
                  <a:lnTo>
                    <a:pt x="98" y="8"/>
                  </a:lnTo>
                  <a:lnTo>
                    <a:pt x="114" y="0"/>
                  </a:lnTo>
                  <a:lnTo>
                    <a:pt x="625" y="219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808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227040" y="5514840"/>
              <a:ext cx="3065040" cy="824040"/>
            </a:xfrm>
            <a:custGeom>
              <a:avLst/>
              <a:gdLst/>
              <a:ahLst/>
              <a:rect l="l" t="t" r="r" b="b"/>
              <a:pathLst>
                <a:path w="1931" h="519">
                  <a:moveTo>
                    <a:pt x="1931" y="0"/>
                  </a:moveTo>
                  <a:lnTo>
                    <a:pt x="1931" y="9"/>
                  </a:lnTo>
                  <a:lnTo>
                    <a:pt x="1923" y="17"/>
                  </a:lnTo>
                  <a:lnTo>
                    <a:pt x="1923" y="25"/>
                  </a:lnTo>
                  <a:lnTo>
                    <a:pt x="1923" y="33"/>
                  </a:lnTo>
                  <a:lnTo>
                    <a:pt x="1915" y="41"/>
                  </a:lnTo>
                  <a:lnTo>
                    <a:pt x="1907" y="49"/>
                  </a:lnTo>
                  <a:lnTo>
                    <a:pt x="1899" y="57"/>
                  </a:lnTo>
                  <a:lnTo>
                    <a:pt x="1891" y="65"/>
                  </a:lnTo>
                  <a:lnTo>
                    <a:pt x="1883" y="73"/>
                  </a:lnTo>
                  <a:lnTo>
                    <a:pt x="1875" y="81"/>
                  </a:lnTo>
                  <a:lnTo>
                    <a:pt x="1858" y="90"/>
                  </a:lnTo>
                  <a:lnTo>
                    <a:pt x="1842" y="98"/>
                  </a:lnTo>
                  <a:lnTo>
                    <a:pt x="1834" y="106"/>
                  </a:lnTo>
                  <a:lnTo>
                    <a:pt x="1818" y="114"/>
                  </a:lnTo>
                  <a:lnTo>
                    <a:pt x="1802" y="122"/>
                  </a:lnTo>
                  <a:lnTo>
                    <a:pt x="1785" y="130"/>
                  </a:lnTo>
                  <a:lnTo>
                    <a:pt x="1761" y="138"/>
                  </a:lnTo>
                  <a:lnTo>
                    <a:pt x="1745" y="146"/>
                  </a:lnTo>
                  <a:lnTo>
                    <a:pt x="1728" y="154"/>
                  </a:lnTo>
                  <a:lnTo>
                    <a:pt x="1704" y="163"/>
                  </a:lnTo>
                  <a:lnTo>
                    <a:pt x="1680" y="163"/>
                  </a:lnTo>
                  <a:lnTo>
                    <a:pt x="1655" y="171"/>
                  </a:lnTo>
                  <a:lnTo>
                    <a:pt x="1631" y="179"/>
                  </a:lnTo>
                  <a:lnTo>
                    <a:pt x="1607" y="187"/>
                  </a:lnTo>
                  <a:lnTo>
                    <a:pt x="1582" y="187"/>
                  </a:lnTo>
                  <a:lnTo>
                    <a:pt x="1558" y="195"/>
                  </a:lnTo>
                  <a:lnTo>
                    <a:pt x="1534" y="203"/>
                  </a:lnTo>
                  <a:lnTo>
                    <a:pt x="1501" y="203"/>
                  </a:lnTo>
                  <a:lnTo>
                    <a:pt x="1477" y="211"/>
                  </a:lnTo>
                  <a:lnTo>
                    <a:pt x="1444" y="219"/>
                  </a:lnTo>
                  <a:lnTo>
                    <a:pt x="1420" y="219"/>
                  </a:lnTo>
                  <a:lnTo>
                    <a:pt x="1388" y="227"/>
                  </a:lnTo>
                  <a:lnTo>
                    <a:pt x="1355" y="227"/>
                  </a:lnTo>
                  <a:lnTo>
                    <a:pt x="1323" y="227"/>
                  </a:lnTo>
                  <a:lnTo>
                    <a:pt x="1290" y="235"/>
                  </a:lnTo>
                  <a:lnTo>
                    <a:pt x="1266" y="235"/>
                  </a:lnTo>
                  <a:lnTo>
                    <a:pt x="1233" y="244"/>
                  </a:lnTo>
                  <a:lnTo>
                    <a:pt x="1201" y="244"/>
                  </a:lnTo>
                  <a:lnTo>
                    <a:pt x="1160" y="244"/>
                  </a:lnTo>
                  <a:lnTo>
                    <a:pt x="1128" y="244"/>
                  </a:lnTo>
                  <a:lnTo>
                    <a:pt x="1095" y="244"/>
                  </a:lnTo>
                  <a:lnTo>
                    <a:pt x="1063" y="252"/>
                  </a:lnTo>
                  <a:lnTo>
                    <a:pt x="1030" y="252"/>
                  </a:lnTo>
                  <a:lnTo>
                    <a:pt x="998" y="252"/>
                  </a:lnTo>
                  <a:lnTo>
                    <a:pt x="966" y="252"/>
                  </a:lnTo>
                  <a:lnTo>
                    <a:pt x="933" y="252"/>
                  </a:lnTo>
                  <a:lnTo>
                    <a:pt x="892" y="252"/>
                  </a:lnTo>
                  <a:lnTo>
                    <a:pt x="860" y="252"/>
                  </a:lnTo>
                  <a:lnTo>
                    <a:pt x="828" y="244"/>
                  </a:lnTo>
                  <a:lnTo>
                    <a:pt x="795" y="244"/>
                  </a:lnTo>
                  <a:lnTo>
                    <a:pt x="763" y="244"/>
                  </a:lnTo>
                  <a:lnTo>
                    <a:pt x="730" y="244"/>
                  </a:lnTo>
                  <a:lnTo>
                    <a:pt x="698" y="244"/>
                  </a:lnTo>
                  <a:lnTo>
                    <a:pt x="665" y="235"/>
                  </a:lnTo>
                  <a:lnTo>
                    <a:pt x="633" y="235"/>
                  </a:lnTo>
                  <a:lnTo>
                    <a:pt x="600" y="227"/>
                  </a:lnTo>
                  <a:lnTo>
                    <a:pt x="568" y="227"/>
                  </a:lnTo>
                  <a:lnTo>
                    <a:pt x="543" y="227"/>
                  </a:lnTo>
                  <a:lnTo>
                    <a:pt x="511" y="219"/>
                  </a:lnTo>
                  <a:lnTo>
                    <a:pt x="479" y="219"/>
                  </a:lnTo>
                  <a:lnTo>
                    <a:pt x="454" y="211"/>
                  </a:lnTo>
                  <a:lnTo>
                    <a:pt x="422" y="203"/>
                  </a:lnTo>
                  <a:lnTo>
                    <a:pt x="397" y="203"/>
                  </a:lnTo>
                  <a:lnTo>
                    <a:pt x="365" y="195"/>
                  </a:lnTo>
                  <a:lnTo>
                    <a:pt x="341" y="187"/>
                  </a:lnTo>
                  <a:lnTo>
                    <a:pt x="316" y="187"/>
                  </a:lnTo>
                  <a:lnTo>
                    <a:pt x="292" y="179"/>
                  </a:lnTo>
                  <a:lnTo>
                    <a:pt x="268" y="171"/>
                  </a:lnTo>
                  <a:lnTo>
                    <a:pt x="243" y="163"/>
                  </a:lnTo>
                  <a:lnTo>
                    <a:pt x="227" y="163"/>
                  </a:lnTo>
                  <a:lnTo>
                    <a:pt x="203" y="154"/>
                  </a:lnTo>
                  <a:lnTo>
                    <a:pt x="178" y="146"/>
                  </a:lnTo>
                  <a:lnTo>
                    <a:pt x="162" y="138"/>
                  </a:lnTo>
                  <a:lnTo>
                    <a:pt x="146" y="130"/>
                  </a:lnTo>
                  <a:lnTo>
                    <a:pt x="130" y="122"/>
                  </a:lnTo>
                  <a:lnTo>
                    <a:pt x="113" y="114"/>
                  </a:lnTo>
                  <a:lnTo>
                    <a:pt x="97" y="106"/>
                  </a:lnTo>
                  <a:lnTo>
                    <a:pt x="81" y="98"/>
                  </a:lnTo>
                  <a:lnTo>
                    <a:pt x="65" y="90"/>
                  </a:lnTo>
                  <a:lnTo>
                    <a:pt x="56" y="81"/>
                  </a:lnTo>
                  <a:lnTo>
                    <a:pt x="48" y="73"/>
                  </a:lnTo>
                  <a:lnTo>
                    <a:pt x="32" y="65"/>
                  </a:lnTo>
                  <a:lnTo>
                    <a:pt x="24" y="57"/>
                  </a:lnTo>
                  <a:lnTo>
                    <a:pt x="16" y="49"/>
                  </a:lnTo>
                  <a:lnTo>
                    <a:pt x="16" y="41"/>
                  </a:lnTo>
                  <a:lnTo>
                    <a:pt x="8" y="33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268"/>
                  </a:lnTo>
                  <a:lnTo>
                    <a:pt x="0" y="276"/>
                  </a:lnTo>
                  <a:lnTo>
                    <a:pt x="0" y="284"/>
                  </a:lnTo>
                  <a:lnTo>
                    <a:pt x="0" y="292"/>
                  </a:lnTo>
                  <a:lnTo>
                    <a:pt x="8" y="300"/>
                  </a:lnTo>
                  <a:lnTo>
                    <a:pt x="16" y="308"/>
                  </a:lnTo>
                  <a:lnTo>
                    <a:pt x="16" y="317"/>
                  </a:lnTo>
                  <a:lnTo>
                    <a:pt x="24" y="325"/>
                  </a:lnTo>
                  <a:lnTo>
                    <a:pt x="32" y="333"/>
                  </a:lnTo>
                  <a:lnTo>
                    <a:pt x="48" y="341"/>
                  </a:lnTo>
                  <a:lnTo>
                    <a:pt x="56" y="349"/>
                  </a:lnTo>
                  <a:lnTo>
                    <a:pt x="65" y="357"/>
                  </a:lnTo>
                  <a:lnTo>
                    <a:pt x="81" y="365"/>
                  </a:lnTo>
                  <a:lnTo>
                    <a:pt x="97" y="373"/>
                  </a:lnTo>
                  <a:lnTo>
                    <a:pt x="113" y="381"/>
                  </a:lnTo>
                  <a:lnTo>
                    <a:pt x="130" y="389"/>
                  </a:lnTo>
                  <a:lnTo>
                    <a:pt x="146" y="398"/>
                  </a:lnTo>
                  <a:lnTo>
                    <a:pt x="162" y="406"/>
                  </a:lnTo>
                  <a:lnTo>
                    <a:pt x="178" y="414"/>
                  </a:lnTo>
                  <a:lnTo>
                    <a:pt x="203" y="422"/>
                  </a:lnTo>
                  <a:lnTo>
                    <a:pt x="227" y="430"/>
                  </a:lnTo>
                  <a:lnTo>
                    <a:pt x="243" y="430"/>
                  </a:lnTo>
                  <a:lnTo>
                    <a:pt x="268" y="438"/>
                  </a:lnTo>
                  <a:lnTo>
                    <a:pt x="292" y="446"/>
                  </a:lnTo>
                  <a:lnTo>
                    <a:pt x="316" y="454"/>
                  </a:lnTo>
                  <a:lnTo>
                    <a:pt x="341" y="454"/>
                  </a:lnTo>
                  <a:lnTo>
                    <a:pt x="365" y="462"/>
                  </a:lnTo>
                  <a:lnTo>
                    <a:pt x="397" y="471"/>
                  </a:lnTo>
                  <a:lnTo>
                    <a:pt x="422" y="471"/>
                  </a:lnTo>
                  <a:lnTo>
                    <a:pt x="454" y="479"/>
                  </a:lnTo>
                  <a:lnTo>
                    <a:pt x="479" y="487"/>
                  </a:lnTo>
                  <a:lnTo>
                    <a:pt x="511" y="487"/>
                  </a:lnTo>
                  <a:lnTo>
                    <a:pt x="543" y="495"/>
                  </a:lnTo>
                  <a:lnTo>
                    <a:pt x="568" y="495"/>
                  </a:lnTo>
                  <a:lnTo>
                    <a:pt x="600" y="495"/>
                  </a:lnTo>
                  <a:lnTo>
                    <a:pt x="633" y="503"/>
                  </a:lnTo>
                  <a:lnTo>
                    <a:pt x="665" y="503"/>
                  </a:lnTo>
                  <a:lnTo>
                    <a:pt x="698" y="511"/>
                  </a:lnTo>
                  <a:lnTo>
                    <a:pt x="730" y="511"/>
                  </a:lnTo>
                  <a:lnTo>
                    <a:pt x="763" y="511"/>
                  </a:lnTo>
                  <a:lnTo>
                    <a:pt x="795" y="511"/>
                  </a:lnTo>
                  <a:lnTo>
                    <a:pt x="828" y="511"/>
                  </a:lnTo>
                  <a:lnTo>
                    <a:pt x="860" y="519"/>
                  </a:lnTo>
                  <a:lnTo>
                    <a:pt x="892" y="519"/>
                  </a:lnTo>
                  <a:lnTo>
                    <a:pt x="933" y="519"/>
                  </a:lnTo>
                  <a:lnTo>
                    <a:pt x="966" y="519"/>
                  </a:lnTo>
                  <a:lnTo>
                    <a:pt x="998" y="519"/>
                  </a:lnTo>
                  <a:lnTo>
                    <a:pt x="1030" y="519"/>
                  </a:lnTo>
                  <a:lnTo>
                    <a:pt x="1063" y="519"/>
                  </a:lnTo>
                  <a:lnTo>
                    <a:pt x="1095" y="511"/>
                  </a:lnTo>
                  <a:lnTo>
                    <a:pt x="1128" y="511"/>
                  </a:lnTo>
                  <a:lnTo>
                    <a:pt x="1160" y="511"/>
                  </a:lnTo>
                  <a:lnTo>
                    <a:pt x="1201" y="511"/>
                  </a:lnTo>
                  <a:lnTo>
                    <a:pt x="1233" y="511"/>
                  </a:lnTo>
                  <a:lnTo>
                    <a:pt x="1266" y="503"/>
                  </a:lnTo>
                  <a:lnTo>
                    <a:pt x="1290" y="503"/>
                  </a:lnTo>
                  <a:lnTo>
                    <a:pt x="1323" y="495"/>
                  </a:lnTo>
                  <a:lnTo>
                    <a:pt x="1355" y="495"/>
                  </a:lnTo>
                  <a:lnTo>
                    <a:pt x="1388" y="495"/>
                  </a:lnTo>
                  <a:lnTo>
                    <a:pt x="1420" y="487"/>
                  </a:lnTo>
                  <a:lnTo>
                    <a:pt x="1444" y="487"/>
                  </a:lnTo>
                  <a:lnTo>
                    <a:pt x="1477" y="479"/>
                  </a:lnTo>
                  <a:lnTo>
                    <a:pt x="1501" y="471"/>
                  </a:lnTo>
                  <a:lnTo>
                    <a:pt x="1534" y="471"/>
                  </a:lnTo>
                  <a:lnTo>
                    <a:pt x="1558" y="462"/>
                  </a:lnTo>
                  <a:lnTo>
                    <a:pt x="1582" y="454"/>
                  </a:lnTo>
                  <a:lnTo>
                    <a:pt x="1607" y="454"/>
                  </a:lnTo>
                  <a:lnTo>
                    <a:pt x="1631" y="446"/>
                  </a:lnTo>
                  <a:lnTo>
                    <a:pt x="1655" y="438"/>
                  </a:lnTo>
                  <a:lnTo>
                    <a:pt x="1680" y="430"/>
                  </a:lnTo>
                  <a:lnTo>
                    <a:pt x="1704" y="430"/>
                  </a:lnTo>
                  <a:lnTo>
                    <a:pt x="1728" y="422"/>
                  </a:lnTo>
                  <a:lnTo>
                    <a:pt x="1745" y="414"/>
                  </a:lnTo>
                  <a:lnTo>
                    <a:pt x="1761" y="406"/>
                  </a:lnTo>
                  <a:lnTo>
                    <a:pt x="1785" y="398"/>
                  </a:lnTo>
                  <a:lnTo>
                    <a:pt x="1802" y="389"/>
                  </a:lnTo>
                  <a:lnTo>
                    <a:pt x="1818" y="381"/>
                  </a:lnTo>
                  <a:lnTo>
                    <a:pt x="1834" y="373"/>
                  </a:lnTo>
                  <a:lnTo>
                    <a:pt x="1842" y="365"/>
                  </a:lnTo>
                  <a:lnTo>
                    <a:pt x="1858" y="357"/>
                  </a:lnTo>
                  <a:lnTo>
                    <a:pt x="1875" y="349"/>
                  </a:lnTo>
                  <a:lnTo>
                    <a:pt x="1883" y="341"/>
                  </a:lnTo>
                  <a:lnTo>
                    <a:pt x="1891" y="333"/>
                  </a:lnTo>
                  <a:lnTo>
                    <a:pt x="1899" y="325"/>
                  </a:lnTo>
                  <a:lnTo>
                    <a:pt x="1907" y="317"/>
                  </a:lnTo>
                  <a:lnTo>
                    <a:pt x="1915" y="308"/>
                  </a:lnTo>
                  <a:lnTo>
                    <a:pt x="1923" y="300"/>
                  </a:lnTo>
                  <a:lnTo>
                    <a:pt x="1923" y="292"/>
                  </a:lnTo>
                  <a:lnTo>
                    <a:pt x="1923" y="284"/>
                  </a:lnTo>
                  <a:lnTo>
                    <a:pt x="1931" y="276"/>
                  </a:lnTo>
                  <a:lnTo>
                    <a:pt x="1931" y="268"/>
                  </a:lnTo>
                  <a:lnTo>
                    <a:pt x="1931" y="0"/>
                  </a:lnTo>
                  <a:close/>
                </a:path>
              </a:pathLst>
            </a:custGeom>
            <a:solidFill>
              <a:srgbClr val="60606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227040" y="5116680"/>
              <a:ext cx="3065040" cy="798480"/>
            </a:xfrm>
            <a:custGeom>
              <a:avLst/>
              <a:gdLst/>
              <a:ahLst/>
              <a:rect l="l" t="t" r="r" b="b"/>
              <a:pathLst>
                <a:path w="1931" h="503">
                  <a:moveTo>
                    <a:pt x="966" y="0"/>
                  </a:moveTo>
                  <a:lnTo>
                    <a:pt x="998" y="0"/>
                  </a:lnTo>
                  <a:lnTo>
                    <a:pt x="1030" y="0"/>
                  </a:lnTo>
                  <a:lnTo>
                    <a:pt x="1063" y="0"/>
                  </a:lnTo>
                  <a:lnTo>
                    <a:pt x="1095" y="0"/>
                  </a:lnTo>
                  <a:lnTo>
                    <a:pt x="1128" y="0"/>
                  </a:lnTo>
                  <a:lnTo>
                    <a:pt x="1160" y="0"/>
                  </a:lnTo>
                  <a:lnTo>
                    <a:pt x="1201" y="8"/>
                  </a:lnTo>
                  <a:lnTo>
                    <a:pt x="1233" y="8"/>
                  </a:lnTo>
                  <a:lnTo>
                    <a:pt x="1266" y="8"/>
                  </a:lnTo>
                  <a:lnTo>
                    <a:pt x="1290" y="16"/>
                  </a:lnTo>
                  <a:lnTo>
                    <a:pt x="1323" y="16"/>
                  </a:lnTo>
                  <a:lnTo>
                    <a:pt x="1355" y="16"/>
                  </a:lnTo>
                  <a:lnTo>
                    <a:pt x="1388" y="25"/>
                  </a:lnTo>
                  <a:lnTo>
                    <a:pt x="1420" y="25"/>
                  </a:lnTo>
                  <a:lnTo>
                    <a:pt x="1444" y="33"/>
                  </a:lnTo>
                  <a:lnTo>
                    <a:pt x="1477" y="33"/>
                  </a:lnTo>
                  <a:lnTo>
                    <a:pt x="1501" y="41"/>
                  </a:lnTo>
                  <a:lnTo>
                    <a:pt x="1534" y="49"/>
                  </a:lnTo>
                  <a:lnTo>
                    <a:pt x="1558" y="49"/>
                  </a:lnTo>
                  <a:lnTo>
                    <a:pt x="1582" y="57"/>
                  </a:lnTo>
                  <a:lnTo>
                    <a:pt x="1599" y="57"/>
                  </a:lnTo>
                  <a:lnTo>
                    <a:pt x="1623" y="65"/>
                  </a:lnTo>
                  <a:lnTo>
                    <a:pt x="1647" y="73"/>
                  </a:lnTo>
                  <a:lnTo>
                    <a:pt x="1672" y="81"/>
                  </a:lnTo>
                  <a:lnTo>
                    <a:pt x="1696" y="81"/>
                  </a:lnTo>
                  <a:lnTo>
                    <a:pt x="1712" y="89"/>
                  </a:lnTo>
                  <a:lnTo>
                    <a:pt x="1737" y="97"/>
                  </a:lnTo>
                  <a:lnTo>
                    <a:pt x="1753" y="106"/>
                  </a:lnTo>
                  <a:lnTo>
                    <a:pt x="1777" y="114"/>
                  </a:lnTo>
                  <a:lnTo>
                    <a:pt x="1793" y="122"/>
                  </a:lnTo>
                  <a:lnTo>
                    <a:pt x="1810" y="130"/>
                  </a:lnTo>
                  <a:lnTo>
                    <a:pt x="1826" y="138"/>
                  </a:lnTo>
                  <a:lnTo>
                    <a:pt x="1842" y="146"/>
                  </a:lnTo>
                  <a:lnTo>
                    <a:pt x="1850" y="154"/>
                  </a:lnTo>
                  <a:lnTo>
                    <a:pt x="1866" y="162"/>
                  </a:lnTo>
                  <a:lnTo>
                    <a:pt x="1875" y="170"/>
                  </a:lnTo>
                  <a:lnTo>
                    <a:pt x="1891" y="179"/>
                  </a:lnTo>
                  <a:lnTo>
                    <a:pt x="1899" y="187"/>
                  </a:lnTo>
                  <a:lnTo>
                    <a:pt x="1907" y="195"/>
                  </a:lnTo>
                  <a:lnTo>
                    <a:pt x="1915" y="203"/>
                  </a:lnTo>
                  <a:lnTo>
                    <a:pt x="1915" y="211"/>
                  </a:lnTo>
                  <a:lnTo>
                    <a:pt x="1923" y="219"/>
                  </a:lnTo>
                  <a:lnTo>
                    <a:pt x="1923" y="227"/>
                  </a:lnTo>
                  <a:lnTo>
                    <a:pt x="1931" y="235"/>
                  </a:lnTo>
                  <a:lnTo>
                    <a:pt x="1931" y="243"/>
                  </a:lnTo>
                  <a:lnTo>
                    <a:pt x="1931" y="251"/>
                  </a:lnTo>
                  <a:lnTo>
                    <a:pt x="1931" y="260"/>
                  </a:lnTo>
                  <a:lnTo>
                    <a:pt x="1923" y="268"/>
                  </a:lnTo>
                  <a:lnTo>
                    <a:pt x="1923" y="284"/>
                  </a:lnTo>
                  <a:lnTo>
                    <a:pt x="1915" y="292"/>
                  </a:lnTo>
                  <a:lnTo>
                    <a:pt x="1915" y="300"/>
                  </a:lnTo>
                  <a:lnTo>
                    <a:pt x="1907" y="308"/>
                  </a:lnTo>
                  <a:lnTo>
                    <a:pt x="1899" y="316"/>
                  </a:lnTo>
                  <a:lnTo>
                    <a:pt x="1891" y="324"/>
                  </a:lnTo>
                  <a:lnTo>
                    <a:pt x="1875" y="332"/>
                  </a:lnTo>
                  <a:lnTo>
                    <a:pt x="1866" y="341"/>
                  </a:lnTo>
                  <a:lnTo>
                    <a:pt x="1850" y="349"/>
                  </a:lnTo>
                  <a:lnTo>
                    <a:pt x="1842" y="357"/>
                  </a:lnTo>
                  <a:lnTo>
                    <a:pt x="1826" y="365"/>
                  </a:lnTo>
                  <a:lnTo>
                    <a:pt x="1810" y="373"/>
                  </a:lnTo>
                  <a:lnTo>
                    <a:pt x="1802" y="373"/>
                  </a:lnTo>
                  <a:lnTo>
                    <a:pt x="1785" y="381"/>
                  </a:lnTo>
                  <a:lnTo>
                    <a:pt x="1761" y="389"/>
                  </a:lnTo>
                  <a:lnTo>
                    <a:pt x="1745" y="397"/>
                  </a:lnTo>
                  <a:lnTo>
                    <a:pt x="1728" y="405"/>
                  </a:lnTo>
                  <a:lnTo>
                    <a:pt x="1704" y="414"/>
                  </a:lnTo>
                  <a:lnTo>
                    <a:pt x="1680" y="414"/>
                  </a:lnTo>
                  <a:lnTo>
                    <a:pt x="1655" y="422"/>
                  </a:lnTo>
                  <a:lnTo>
                    <a:pt x="1631" y="430"/>
                  </a:lnTo>
                  <a:lnTo>
                    <a:pt x="1607" y="438"/>
                  </a:lnTo>
                  <a:lnTo>
                    <a:pt x="1582" y="438"/>
                  </a:lnTo>
                  <a:lnTo>
                    <a:pt x="1558" y="446"/>
                  </a:lnTo>
                  <a:lnTo>
                    <a:pt x="1534" y="454"/>
                  </a:lnTo>
                  <a:lnTo>
                    <a:pt x="1501" y="454"/>
                  </a:lnTo>
                  <a:lnTo>
                    <a:pt x="1477" y="462"/>
                  </a:lnTo>
                  <a:lnTo>
                    <a:pt x="1444" y="470"/>
                  </a:lnTo>
                  <a:lnTo>
                    <a:pt x="1420" y="470"/>
                  </a:lnTo>
                  <a:lnTo>
                    <a:pt x="1388" y="478"/>
                  </a:lnTo>
                  <a:lnTo>
                    <a:pt x="1355" y="478"/>
                  </a:lnTo>
                  <a:lnTo>
                    <a:pt x="1323" y="478"/>
                  </a:lnTo>
                  <a:lnTo>
                    <a:pt x="1290" y="486"/>
                  </a:lnTo>
                  <a:lnTo>
                    <a:pt x="1266" y="486"/>
                  </a:lnTo>
                  <a:lnTo>
                    <a:pt x="1233" y="495"/>
                  </a:lnTo>
                  <a:lnTo>
                    <a:pt x="1201" y="495"/>
                  </a:lnTo>
                  <a:lnTo>
                    <a:pt x="1160" y="495"/>
                  </a:lnTo>
                  <a:lnTo>
                    <a:pt x="1128" y="495"/>
                  </a:lnTo>
                  <a:lnTo>
                    <a:pt x="1095" y="495"/>
                  </a:lnTo>
                  <a:lnTo>
                    <a:pt x="1063" y="503"/>
                  </a:lnTo>
                  <a:lnTo>
                    <a:pt x="1030" y="503"/>
                  </a:lnTo>
                  <a:lnTo>
                    <a:pt x="998" y="503"/>
                  </a:lnTo>
                  <a:lnTo>
                    <a:pt x="966" y="503"/>
                  </a:lnTo>
                  <a:lnTo>
                    <a:pt x="933" y="503"/>
                  </a:lnTo>
                  <a:lnTo>
                    <a:pt x="892" y="503"/>
                  </a:lnTo>
                  <a:lnTo>
                    <a:pt x="860" y="503"/>
                  </a:lnTo>
                  <a:lnTo>
                    <a:pt x="828" y="495"/>
                  </a:lnTo>
                  <a:lnTo>
                    <a:pt x="795" y="495"/>
                  </a:lnTo>
                  <a:lnTo>
                    <a:pt x="763" y="495"/>
                  </a:lnTo>
                  <a:lnTo>
                    <a:pt x="730" y="495"/>
                  </a:lnTo>
                  <a:lnTo>
                    <a:pt x="698" y="495"/>
                  </a:lnTo>
                  <a:lnTo>
                    <a:pt x="665" y="486"/>
                  </a:lnTo>
                  <a:lnTo>
                    <a:pt x="633" y="486"/>
                  </a:lnTo>
                  <a:lnTo>
                    <a:pt x="617" y="486"/>
                  </a:lnTo>
                  <a:lnTo>
                    <a:pt x="584" y="478"/>
                  </a:lnTo>
                  <a:lnTo>
                    <a:pt x="552" y="478"/>
                  </a:lnTo>
                  <a:lnTo>
                    <a:pt x="527" y="470"/>
                  </a:lnTo>
                  <a:lnTo>
                    <a:pt x="495" y="470"/>
                  </a:lnTo>
                  <a:lnTo>
                    <a:pt x="462" y="462"/>
                  </a:lnTo>
                  <a:lnTo>
                    <a:pt x="438" y="462"/>
                  </a:lnTo>
                  <a:lnTo>
                    <a:pt x="405" y="454"/>
                  </a:lnTo>
                  <a:lnTo>
                    <a:pt x="381" y="454"/>
                  </a:lnTo>
                  <a:lnTo>
                    <a:pt x="357" y="446"/>
                  </a:lnTo>
                  <a:lnTo>
                    <a:pt x="332" y="438"/>
                  </a:lnTo>
                  <a:lnTo>
                    <a:pt x="308" y="430"/>
                  </a:lnTo>
                  <a:lnTo>
                    <a:pt x="284" y="430"/>
                  </a:lnTo>
                  <a:lnTo>
                    <a:pt x="259" y="422"/>
                  </a:lnTo>
                  <a:lnTo>
                    <a:pt x="235" y="414"/>
                  </a:lnTo>
                  <a:lnTo>
                    <a:pt x="211" y="405"/>
                  </a:lnTo>
                  <a:lnTo>
                    <a:pt x="194" y="397"/>
                  </a:lnTo>
                  <a:lnTo>
                    <a:pt x="170" y="397"/>
                  </a:lnTo>
                  <a:lnTo>
                    <a:pt x="154" y="389"/>
                  </a:lnTo>
                  <a:lnTo>
                    <a:pt x="138" y="381"/>
                  </a:lnTo>
                  <a:lnTo>
                    <a:pt x="121" y="373"/>
                  </a:lnTo>
                  <a:lnTo>
                    <a:pt x="105" y="365"/>
                  </a:lnTo>
                  <a:lnTo>
                    <a:pt x="89" y="357"/>
                  </a:lnTo>
                  <a:lnTo>
                    <a:pt x="73" y="349"/>
                  </a:lnTo>
                  <a:lnTo>
                    <a:pt x="65" y="341"/>
                  </a:lnTo>
                  <a:lnTo>
                    <a:pt x="48" y="332"/>
                  </a:lnTo>
                  <a:lnTo>
                    <a:pt x="40" y="324"/>
                  </a:lnTo>
                  <a:lnTo>
                    <a:pt x="32" y="316"/>
                  </a:lnTo>
                  <a:lnTo>
                    <a:pt x="24" y="308"/>
                  </a:lnTo>
                  <a:lnTo>
                    <a:pt x="16" y="300"/>
                  </a:lnTo>
                  <a:lnTo>
                    <a:pt x="8" y="292"/>
                  </a:lnTo>
                  <a:lnTo>
                    <a:pt x="8" y="284"/>
                  </a:lnTo>
                  <a:lnTo>
                    <a:pt x="0" y="268"/>
                  </a:lnTo>
                  <a:lnTo>
                    <a:pt x="0" y="260"/>
                  </a:lnTo>
                  <a:lnTo>
                    <a:pt x="0" y="251"/>
                  </a:lnTo>
                  <a:lnTo>
                    <a:pt x="0" y="243"/>
                  </a:lnTo>
                  <a:lnTo>
                    <a:pt x="0" y="235"/>
                  </a:lnTo>
                  <a:lnTo>
                    <a:pt x="0" y="227"/>
                  </a:lnTo>
                  <a:lnTo>
                    <a:pt x="8" y="219"/>
                  </a:lnTo>
                  <a:lnTo>
                    <a:pt x="8" y="211"/>
                  </a:lnTo>
                  <a:lnTo>
                    <a:pt x="16" y="203"/>
                  </a:lnTo>
                  <a:lnTo>
                    <a:pt x="16" y="195"/>
                  </a:lnTo>
                  <a:lnTo>
                    <a:pt x="24" y="187"/>
                  </a:lnTo>
                  <a:lnTo>
                    <a:pt x="32" y="179"/>
                  </a:lnTo>
                  <a:lnTo>
                    <a:pt x="48" y="170"/>
                  </a:lnTo>
                  <a:lnTo>
                    <a:pt x="56" y="162"/>
                  </a:lnTo>
                  <a:lnTo>
                    <a:pt x="65" y="154"/>
                  </a:lnTo>
                  <a:lnTo>
                    <a:pt x="81" y="146"/>
                  </a:lnTo>
                  <a:lnTo>
                    <a:pt x="97" y="138"/>
                  </a:lnTo>
                  <a:lnTo>
                    <a:pt x="113" y="130"/>
                  </a:lnTo>
                  <a:lnTo>
                    <a:pt x="130" y="122"/>
                  </a:lnTo>
                  <a:lnTo>
                    <a:pt x="146" y="114"/>
                  </a:lnTo>
                  <a:lnTo>
                    <a:pt x="162" y="106"/>
                  </a:lnTo>
                  <a:lnTo>
                    <a:pt x="178" y="106"/>
                  </a:lnTo>
                  <a:lnTo>
                    <a:pt x="203" y="97"/>
                  </a:lnTo>
                  <a:lnTo>
                    <a:pt x="227" y="89"/>
                  </a:lnTo>
                  <a:lnTo>
                    <a:pt x="243" y="81"/>
                  </a:lnTo>
                  <a:lnTo>
                    <a:pt x="268" y="73"/>
                  </a:lnTo>
                  <a:lnTo>
                    <a:pt x="292" y="65"/>
                  </a:lnTo>
                  <a:lnTo>
                    <a:pt x="316" y="65"/>
                  </a:lnTo>
                  <a:lnTo>
                    <a:pt x="341" y="57"/>
                  </a:lnTo>
                  <a:lnTo>
                    <a:pt x="966" y="251"/>
                  </a:lnTo>
                  <a:lnTo>
                    <a:pt x="966" y="0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348880" y="6351480"/>
              <a:ext cx="953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Manufacturas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180240" y="4602240"/>
              <a:ext cx="37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Otr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273480" y="478152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0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918440" y="5040360"/>
              <a:ext cx="96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Agropecuari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332080" y="521964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2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089240" y="4435560"/>
              <a:ext cx="67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Petrole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356000" y="461484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9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28600" y="3505320"/>
            <a:ext cx="2133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Banco de Méx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5270400" y="1523880"/>
            <a:ext cx="3678120" cy="2679120"/>
            <a:chOff x="5270400" y="1523880"/>
            <a:chExt cx="3678120" cy="2679120"/>
          </a:xfrm>
        </p:grpSpPr>
        <p:sp>
          <p:nvSpPr>
            <p:cNvPr id="386" name=""/>
            <p:cNvSpPr/>
            <p:nvPr/>
          </p:nvSpPr>
          <p:spPr>
            <a:xfrm>
              <a:off x="7242120" y="2425320"/>
              <a:ext cx="1440" cy="797040"/>
            </a:xfrm>
            <a:custGeom>
              <a:avLst/>
              <a:gdLst/>
              <a:ahLst/>
              <a:rect l="l" t="t" r="r" b="b"/>
              <a:pathLst>
                <a:path w="0" h="502">
                  <a:moveTo>
                    <a:pt x="0" y="246"/>
                  </a:moveTo>
                  <a:lnTo>
                    <a:pt x="0" y="0"/>
                  </a:lnTo>
                  <a:lnTo>
                    <a:pt x="0" y="256"/>
                  </a:lnTo>
                  <a:lnTo>
                    <a:pt x="0" y="502"/>
                  </a:lnTo>
                  <a:lnTo>
                    <a:pt x="0" y="246"/>
                  </a:lnTo>
                  <a:close/>
                </a:path>
              </a:pathLst>
            </a:custGeom>
            <a:solidFill>
              <a:srgbClr val="33334d"/>
            </a:solidFill>
            <a:ln w="0">
              <a:solidFill>
                <a:srgbClr val="6666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835680" y="2442960"/>
              <a:ext cx="357120" cy="779400"/>
            </a:xfrm>
            <a:custGeom>
              <a:avLst/>
              <a:gdLst/>
              <a:ahLst/>
              <a:rect l="l" t="t" r="r" b="b"/>
              <a:pathLst>
                <a:path w="225" h="491">
                  <a:moveTo>
                    <a:pt x="225" y="235"/>
                  </a:moveTo>
                  <a:lnTo>
                    <a:pt x="0" y="0"/>
                  </a:lnTo>
                  <a:lnTo>
                    <a:pt x="0" y="256"/>
                  </a:lnTo>
                  <a:lnTo>
                    <a:pt x="225" y="491"/>
                  </a:lnTo>
                  <a:lnTo>
                    <a:pt x="225" y="235"/>
                  </a:lnTo>
                  <a:close/>
                </a:path>
              </a:pathLst>
            </a:custGeom>
            <a:solidFill>
              <a:srgbClr val="804040"/>
            </a:solidFill>
            <a:ln w="0">
              <a:solidFill>
                <a:srgbClr val="ff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18040" y="2425320"/>
              <a:ext cx="374760" cy="390600"/>
            </a:xfrm>
            <a:custGeom>
              <a:avLst/>
              <a:gdLst/>
              <a:ahLst/>
              <a:rect l="l" t="t" r="r" b="b"/>
              <a:pathLst>
                <a:path w="236" h="246">
                  <a:moveTo>
                    <a:pt x="0" y="0"/>
                  </a:moveTo>
                  <a:lnTo>
                    <a:pt x="41" y="0"/>
                  </a:lnTo>
                  <a:lnTo>
                    <a:pt x="82" y="0"/>
                  </a:lnTo>
                  <a:lnTo>
                    <a:pt x="123" y="0"/>
                  </a:lnTo>
                  <a:lnTo>
                    <a:pt x="154" y="0"/>
                  </a:lnTo>
                  <a:lnTo>
                    <a:pt x="205" y="0"/>
                  </a:lnTo>
                  <a:lnTo>
                    <a:pt x="236" y="0"/>
                  </a:lnTo>
                  <a:lnTo>
                    <a:pt x="236" y="2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8080"/>
            </a:solidFill>
            <a:ln w="0">
              <a:solidFill>
                <a:srgbClr val="ff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632200" y="2669760"/>
              <a:ext cx="1365480" cy="568440"/>
            </a:xfrm>
            <a:custGeom>
              <a:avLst/>
              <a:gdLst/>
              <a:ahLst/>
              <a:rect l="l" t="t" r="r" b="b"/>
              <a:pathLst>
                <a:path w="860" h="358">
                  <a:moveTo>
                    <a:pt x="860" y="102"/>
                  </a:moveTo>
                  <a:lnTo>
                    <a:pt x="0" y="0"/>
                  </a:lnTo>
                  <a:lnTo>
                    <a:pt x="0" y="256"/>
                  </a:lnTo>
                  <a:lnTo>
                    <a:pt x="860" y="358"/>
                  </a:lnTo>
                  <a:lnTo>
                    <a:pt x="860" y="102"/>
                  </a:lnTo>
                  <a:close/>
                </a:path>
              </a:pathLst>
            </a:custGeom>
            <a:solidFill>
              <a:srgbClr val="806600"/>
            </a:solidFill>
            <a:ln w="0">
              <a:solidFill>
                <a:srgbClr val="ffc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632200" y="2442960"/>
              <a:ext cx="1365480" cy="388800"/>
            </a:xfrm>
            <a:custGeom>
              <a:avLst/>
              <a:gdLst/>
              <a:ahLst/>
              <a:rect l="l" t="t" r="r" b="b"/>
              <a:pathLst>
                <a:path w="860" h="245">
                  <a:moveTo>
                    <a:pt x="0" y="143"/>
                  </a:moveTo>
                  <a:lnTo>
                    <a:pt x="10" y="133"/>
                  </a:lnTo>
                  <a:lnTo>
                    <a:pt x="30" y="122"/>
                  </a:lnTo>
                  <a:lnTo>
                    <a:pt x="51" y="112"/>
                  </a:lnTo>
                  <a:lnTo>
                    <a:pt x="71" y="102"/>
                  </a:lnTo>
                  <a:lnTo>
                    <a:pt x="92" y="102"/>
                  </a:lnTo>
                  <a:lnTo>
                    <a:pt x="123" y="92"/>
                  </a:lnTo>
                  <a:lnTo>
                    <a:pt x="143" y="81"/>
                  </a:lnTo>
                  <a:lnTo>
                    <a:pt x="184" y="71"/>
                  </a:lnTo>
                  <a:lnTo>
                    <a:pt x="205" y="61"/>
                  </a:lnTo>
                  <a:lnTo>
                    <a:pt x="235" y="61"/>
                  </a:lnTo>
                  <a:lnTo>
                    <a:pt x="266" y="51"/>
                  </a:lnTo>
                  <a:lnTo>
                    <a:pt x="307" y="41"/>
                  </a:lnTo>
                  <a:lnTo>
                    <a:pt x="328" y="41"/>
                  </a:lnTo>
                  <a:lnTo>
                    <a:pt x="368" y="30"/>
                  </a:lnTo>
                  <a:lnTo>
                    <a:pt x="399" y="30"/>
                  </a:lnTo>
                  <a:lnTo>
                    <a:pt x="440" y="20"/>
                  </a:lnTo>
                  <a:lnTo>
                    <a:pt x="471" y="20"/>
                  </a:lnTo>
                  <a:lnTo>
                    <a:pt x="522" y="10"/>
                  </a:lnTo>
                  <a:lnTo>
                    <a:pt x="553" y="10"/>
                  </a:lnTo>
                  <a:lnTo>
                    <a:pt x="594" y="10"/>
                  </a:lnTo>
                  <a:lnTo>
                    <a:pt x="625" y="0"/>
                  </a:lnTo>
                  <a:lnTo>
                    <a:pt x="860" y="245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ffc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957640" y="2995200"/>
              <a:ext cx="2990880" cy="797040"/>
            </a:xfrm>
            <a:custGeom>
              <a:avLst/>
              <a:gdLst/>
              <a:ahLst/>
              <a:rect l="l" t="t" r="r" b="b"/>
              <a:pathLst>
                <a:path w="1884" h="502">
                  <a:moveTo>
                    <a:pt x="1884" y="0"/>
                  </a:moveTo>
                  <a:lnTo>
                    <a:pt x="1884" y="10"/>
                  </a:lnTo>
                  <a:lnTo>
                    <a:pt x="1874" y="20"/>
                  </a:lnTo>
                  <a:lnTo>
                    <a:pt x="1874" y="30"/>
                  </a:lnTo>
                  <a:lnTo>
                    <a:pt x="1864" y="41"/>
                  </a:lnTo>
                  <a:lnTo>
                    <a:pt x="1854" y="51"/>
                  </a:lnTo>
                  <a:lnTo>
                    <a:pt x="1843" y="61"/>
                  </a:lnTo>
                  <a:lnTo>
                    <a:pt x="1833" y="71"/>
                  </a:lnTo>
                  <a:lnTo>
                    <a:pt x="1823" y="82"/>
                  </a:lnTo>
                  <a:lnTo>
                    <a:pt x="1802" y="92"/>
                  </a:lnTo>
                  <a:lnTo>
                    <a:pt x="1782" y="102"/>
                  </a:lnTo>
                  <a:lnTo>
                    <a:pt x="1761" y="112"/>
                  </a:lnTo>
                  <a:lnTo>
                    <a:pt x="1751" y="123"/>
                  </a:lnTo>
                  <a:lnTo>
                    <a:pt x="1720" y="133"/>
                  </a:lnTo>
                  <a:lnTo>
                    <a:pt x="1690" y="143"/>
                  </a:lnTo>
                  <a:lnTo>
                    <a:pt x="1669" y="153"/>
                  </a:lnTo>
                  <a:lnTo>
                    <a:pt x="1638" y="164"/>
                  </a:lnTo>
                  <a:lnTo>
                    <a:pt x="1618" y="164"/>
                  </a:lnTo>
                  <a:lnTo>
                    <a:pt x="1577" y="174"/>
                  </a:lnTo>
                  <a:lnTo>
                    <a:pt x="1546" y="184"/>
                  </a:lnTo>
                  <a:lnTo>
                    <a:pt x="1516" y="194"/>
                  </a:lnTo>
                  <a:lnTo>
                    <a:pt x="1485" y="194"/>
                  </a:lnTo>
                  <a:lnTo>
                    <a:pt x="1454" y="205"/>
                  </a:lnTo>
                  <a:lnTo>
                    <a:pt x="1413" y="215"/>
                  </a:lnTo>
                  <a:lnTo>
                    <a:pt x="1372" y="215"/>
                  </a:lnTo>
                  <a:lnTo>
                    <a:pt x="1341" y="225"/>
                  </a:lnTo>
                  <a:lnTo>
                    <a:pt x="1290" y="225"/>
                  </a:lnTo>
                  <a:lnTo>
                    <a:pt x="1259" y="225"/>
                  </a:lnTo>
                  <a:lnTo>
                    <a:pt x="1219" y="235"/>
                  </a:lnTo>
                  <a:lnTo>
                    <a:pt x="1167" y="235"/>
                  </a:lnTo>
                  <a:lnTo>
                    <a:pt x="1137" y="235"/>
                  </a:lnTo>
                  <a:lnTo>
                    <a:pt x="1085" y="235"/>
                  </a:lnTo>
                  <a:lnTo>
                    <a:pt x="1055" y="246"/>
                  </a:lnTo>
                  <a:lnTo>
                    <a:pt x="1003" y="246"/>
                  </a:lnTo>
                  <a:lnTo>
                    <a:pt x="952" y="246"/>
                  </a:lnTo>
                  <a:lnTo>
                    <a:pt x="921" y="246"/>
                  </a:lnTo>
                  <a:lnTo>
                    <a:pt x="870" y="246"/>
                  </a:lnTo>
                  <a:lnTo>
                    <a:pt x="829" y="246"/>
                  </a:lnTo>
                  <a:lnTo>
                    <a:pt x="788" y="235"/>
                  </a:lnTo>
                  <a:lnTo>
                    <a:pt x="747" y="235"/>
                  </a:lnTo>
                  <a:lnTo>
                    <a:pt x="706" y="235"/>
                  </a:lnTo>
                  <a:lnTo>
                    <a:pt x="665" y="235"/>
                  </a:lnTo>
                  <a:lnTo>
                    <a:pt x="614" y="225"/>
                  </a:lnTo>
                  <a:lnTo>
                    <a:pt x="583" y="225"/>
                  </a:lnTo>
                  <a:lnTo>
                    <a:pt x="542" y="225"/>
                  </a:lnTo>
                  <a:lnTo>
                    <a:pt x="512" y="215"/>
                  </a:lnTo>
                  <a:lnTo>
                    <a:pt x="471" y="215"/>
                  </a:lnTo>
                  <a:lnTo>
                    <a:pt x="430" y="205"/>
                  </a:lnTo>
                  <a:lnTo>
                    <a:pt x="399" y="194"/>
                  </a:lnTo>
                  <a:lnTo>
                    <a:pt x="358" y="194"/>
                  </a:lnTo>
                  <a:lnTo>
                    <a:pt x="338" y="184"/>
                  </a:lnTo>
                  <a:lnTo>
                    <a:pt x="297" y="174"/>
                  </a:lnTo>
                  <a:lnTo>
                    <a:pt x="266" y="164"/>
                  </a:lnTo>
                  <a:lnTo>
                    <a:pt x="235" y="164"/>
                  </a:lnTo>
                  <a:lnTo>
                    <a:pt x="204" y="153"/>
                  </a:lnTo>
                  <a:lnTo>
                    <a:pt x="184" y="143"/>
                  </a:lnTo>
                  <a:lnTo>
                    <a:pt x="153" y="133"/>
                  </a:lnTo>
                  <a:lnTo>
                    <a:pt x="133" y="123"/>
                  </a:lnTo>
                  <a:lnTo>
                    <a:pt x="112" y="112"/>
                  </a:lnTo>
                  <a:lnTo>
                    <a:pt x="92" y="102"/>
                  </a:lnTo>
                  <a:lnTo>
                    <a:pt x="71" y="92"/>
                  </a:lnTo>
                  <a:lnTo>
                    <a:pt x="61" y="82"/>
                  </a:lnTo>
                  <a:lnTo>
                    <a:pt x="41" y="71"/>
                  </a:lnTo>
                  <a:lnTo>
                    <a:pt x="30" y="61"/>
                  </a:lnTo>
                  <a:lnTo>
                    <a:pt x="20" y="51"/>
                  </a:lnTo>
                  <a:lnTo>
                    <a:pt x="10" y="41"/>
                  </a:lnTo>
                  <a:lnTo>
                    <a:pt x="10" y="30"/>
                  </a:lnTo>
                  <a:lnTo>
                    <a:pt x="0" y="2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256"/>
                  </a:lnTo>
                  <a:lnTo>
                    <a:pt x="0" y="266"/>
                  </a:lnTo>
                  <a:lnTo>
                    <a:pt x="0" y="276"/>
                  </a:lnTo>
                  <a:lnTo>
                    <a:pt x="10" y="287"/>
                  </a:lnTo>
                  <a:lnTo>
                    <a:pt x="10" y="297"/>
                  </a:lnTo>
                  <a:lnTo>
                    <a:pt x="20" y="307"/>
                  </a:lnTo>
                  <a:lnTo>
                    <a:pt x="30" y="317"/>
                  </a:lnTo>
                  <a:lnTo>
                    <a:pt x="41" y="328"/>
                  </a:lnTo>
                  <a:lnTo>
                    <a:pt x="61" y="338"/>
                  </a:lnTo>
                  <a:lnTo>
                    <a:pt x="71" y="348"/>
                  </a:lnTo>
                  <a:lnTo>
                    <a:pt x="92" y="358"/>
                  </a:lnTo>
                  <a:lnTo>
                    <a:pt x="112" y="368"/>
                  </a:lnTo>
                  <a:lnTo>
                    <a:pt x="133" y="379"/>
                  </a:lnTo>
                  <a:lnTo>
                    <a:pt x="153" y="389"/>
                  </a:lnTo>
                  <a:lnTo>
                    <a:pt x="184" y="399"/>
                  </a:lnTo>
                  <a:lnTo>
                    <a:pt x="204" y="409"/>
                  </a:lnTo>
                  <a:lnTo>
                    <a:pt x="235" y="420"/>
                  </a:lnTo>
                  <a:lnTo>
                    <a:pt x="266" y="420"/>
                  </a:lnTo>
                  <a:lnTo>
                    <a:pt x="297" y="430"/>
                  </a:lnTo>
                  <a:lnTo>
                    <a:pt x="338" y="440"/>
                  </a:lnTo>
                  <a:lnTo>
                    <a:pt x="358" y="450"/>
                  </a:lnTo>
                  <a:lnTo>
                    <a:pt x="399" y="450"/>
                  </a:lnTo>
                  <a:lnTo>
                    <a:pt x="430" y="461"/>
                  </a:lnTo>
                  <a:lnTo>
                    <a:pt x="471" y="471"/>
                  </a:lnTo>
                  <a:lnTo>
                    <a:pt x="512" y="471"/>
                  </a:lnTo>
                  <a:lnTo>
                    <a:pt x="542" y="481"/>
                  </a:lnTo>
                  <a:lnTo>
                    <a:pt x="583" y="481"/>
                  </a:lnTo>
                  <a:lnTo>
                    <a:pt x="614" y="481"/>
                  </a:lnTo>
                  <a:lnTo>
                    <a:pt x="665" y="491"/>
                  </a:lnTo>
                  <a:lnTo>
                    <a:pt x="706" y="491"/>
                  </a:lnTo>
                  <a:lnTo>
                    <a:pt x="747" y="491"/>
                  </a:lnTo>
                  <a:lnTo>
                    <a:pt x="788" y="491"/>
                  </a:lnTo>
                  <a:lnTo>
                    <a:pt x="829" y="502"/>
                  </a:lnTo>
                  <a:lnTo>
                    <a:pt x="870" y="502"/>
                  </a:lnTo>
                  <a:lnTo>
                    <a:pt x="921" y="502"/>
                  </a:lnTo>
                  <a:lnTo>
                    <a:pt x="952" y="502"/>
                  </a:lnTo>
                  <a:lnTo>
                    <a:pt x="1003" y="502"/>
                  </a:lnTo>
                  <a:lnTo>
                    <a:pt x="1055" y="502"/>
                  </a:lnTo>
                  <a:lnTo>
                    <a:pt x="1085" y="491"/>
                  </a:lnTo>
                  <a:lnTo>
                    <a:pt x="1137" y="491"/>
                  </a:lnTo>
                  <a:lnTo>
                    <a:pt x="1167" y="491"/>
                  </a:lnTo>
                  <a:lnTo>
                    <a:pt x="1219" y="491"/>
                  </a:lnTo>
                  <a:lnTo>
                    <a:pt x="1259" y="481"/>
                  </a:lnTo>
                  <a:lnTo>
                    <a:pt x="1290" y="481"/>
                  </a:lnTo>
                  <a:lnTo>
                    <a:pt x="1341" y="481"/>
                  </a:lnTo>
                  <a:lnTo>
                    <a:pt x="1372" y="471"/>
                  </a:lnTo>
                  <a:lnTo>
                    <a:pt x="1413" y="471"/>
                  </a:lnTo>
                  <a:lnTo>
                    <a:pt x="1454" y="461"/>
                  </a:lnTo>
                  <a:lnTo>
                    <a:pt x="1485" y="450"/>
                  </a:lnTo>
                  <a:lnTo>
                    <a:pt x="1516" y="450"/>
                  </a:lnTo>
                  <a:lnTo>
                    <a:pt x="1546" y="440"/>
                  </a:lnTo>
                  <a:lnTo>
                    <a:pt x="1577" y="430"/>
                  </a:lnTo>
                  <a:lnTo>
                    <a:pt x="1618" y="420"/>
                  </a:lnTo>
                  <a:lnTo>
                    <a:pt x="1638" y="420"/>
                  </a:lnTo>
                  <a:lnTo>
                    <a:pt x="1669" y="409"/>
                  </a:lnTo>
                  <a:lnTo>
                    <a:pt x="1690" y="399"/>
                  </a:lnTo>
                  <a:lnTo>
                    <a:pt x="1720" y="389"/>
                  </a:lnTo>
                  <a:lnTo>
                    <a:pt x="1751" y="379"/>
                  </a:lnTo>
                  <a:lnTo>
                    <a:pt x="1761" y="368"/>
                  </a:lnTo>
                  <a:lnTo>
                    <a:pt x="1782" y="358"/>
                  </a:lnTo>
                  <a:lnTo>
                    <a:pt x="1802" y="348"/>
                  </a:lnTo>
                  <a:lnTo>
                    <a:pt x="1823" y="338"/>
                  </a:lnTo>
                  <a:lnTo>
                    <a:pt x="1833" y="328"/>
                  </a:lnTo>
                  <a:lnTo>
                    <a:pt x="1843" y="317"/>
                  </a:lnTo>
                  <a:lnTo>
                    <a:pt x="1854" y="307"/>
                  </a:lnTo>
                  <a:lnTo>
                    <a:pt x="1864" y="297"/>
                  </a:lnTo>
                  <a:lnTo>
                    <a:pt x="1874" y="287"/>
                  </a:lnTo>
                  <a:lnTo>
                    <a:pt x="1874" y="276"/>
                  </a:lnTo>
                  <a:lnTo>
                    <a:pt x="1884" y="266"/>
                  </a:lnTo>
                  <a:lnTo>
                    <a:pt x="1884" y="256"/>
                  </a:lnTo>
                  <a:lnTo>
                    <a:pt x="1884" y="0"/>
                  </a:lnTo>
                  <a:close/>
                </a:path>
              </a:pathLst>
            </a:custGeom>
            <a:solidFill>
              <a:srgbClr val="60606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57640" y="2604960"/>
              <a:ext cx="2990880" cy="780840"/>
            </a:xfrm>
            <a:custGeom>
              <a:avLst/>
              <a:gdLst/>
              <a:ahLst/>
              <a:rect l="l" t="t" r="r" b="b"/>
              <a:pathLst>
                <a:path w="1884" h="492">
                  <a:moveTo>
                    <a:pt x="942" y="0"/>
                  </a:moveTo>
                  <a:lnTo>
                    <a:pt x="993" y="0"/>
                  </a:lnTo>
                  <a:lnTo>
                    <a:pt x="1024" y="0"/>
                  </a:lnTo>
                  <a:lnTo>
                    <a:pt x="1075" y="0"/>
                  </a:lnTo>
                  <a:lnTo>
                    <a:pt x="1116" y="0"/>
                  </a:lnTo>
                  <a:lnTo>
                    <a:pt x="1147" y="0"/>
                  </a:lnTo>
                  <a:lnTo>
                    <a:pt x="1198" y="10"/>
                  </a:lnTo>
                  <a:lnTo>
                    <a:pt x="1249" y="10"/>
                  </a:lnTo>
                  <a:lnTo>
                    <a:pt x="1280" y="10"/>
                  </a:lnTo>
                  <a:lnTo>
                    <a:pt x="1321" y="20"/>
                  </a:lnTo>
                  <a:lnTo>
                    <a:pt x="1352" y="20"/>
                  </a:lnTo>
                  <a:lnTo>
                    <a:pt x="1393" y="31"/>
                  </a:lnTo>
                  <a:lnTo>
                    <a:pt x="1444" y="31"/>
                  </a:lnTo>
                  <a:lnTo>
                    <a:pt x="1464" y="41"/>
                  </a:lnTo>
                  <a:lnTo>
                    <a:pt x="1505" y="51"/>
                  </a:lnTo>
                  <a:lnTo>
                    <a:pt x="1546" y="51"/>
                  </a:lnTo>
                  <a:lnTo>
                    <a:pt x="1567" y="61"/>
                  </a:lnTo>
                  <a:lnTo>
                    <a:pt x="1608" y="72"/>
                  </a:lnTo>
                  <a:lnTo>
                    <a:pt x="1638" y="82"/>
                  </a:lnTo>
                  <a:lnTo>
                    <a:pt x="1659" y="82"/>
                  </a:lnTo>
                  <a:lnTo>
                    <a:pt x="1690" y="92"/>
                  </a:lnTo>
                  <a:lnTo>
                    <a:pt x="1720" y="102"/>
                  </a:lnTo>
                  <a:lnTo>
                    <a:pt x="1741" y="113"/>
                  </a:lnTo>
                  <a:lnTo>
                    <a:pt x="1761" y="123"/>
                  </a:lnTo>
                  <a:lnTo>
                    <a:pt x="1782" y="133"/>
                  </a:lnTo>
                  <a:lnTo>
                    <a:pt x="1802" y="143"/>
                  </a:lnTo>
                  <a:lnTo>
                    <a:pt x="1823" y="154"/>
                  </a:lnTo>
                  <a:lnTo>
                    <a:pt x="1833" y="164"/>
                  </a:lnTo>
                  <a:lnTo>
                    <a:pt x="1843" y="174"/>
                  </a:lnTo>
                  <a:lnTo>
                    <a:pt x="1854" y="184"/>
                  </a:lnTo>
                  <a:lnTo>
                    <a:pt x="1864" y="195"/>
                  </a:lnTo>
                  <a:lnTo>
                    <a:pt x="1874" y="205"/>
                  </a:lnTo>
                  <a:lnTo>
                    <a:pt x="1874" y="225"/>
                  </a:lnTo>
                  <a:lnTo>
                    <a:pt x="1884" y="225"/>
                  </a:lnTo>
                  <a:lnTo>
                    <a:pt x="1884" y="246"/>
                  </a:lnTo>
                  <a:lnTo>
                    <a:pt x="1884" y="256"/>
                  </a:lnTo>
                  <a:lnTo>
                    <a:pt x="1874" y="266"/>
                  </a:lnTo>
                  <a:lnTo>
                    <a:pt x="1874" y="276"/>
                  </a:lnTo>
                  <a:lnTo>
                    <a:pt x="1864" y="287"/>
                  </a:lnTo>
                  <a:lnTo>
                    <a:pt x="1854" y="297"/>
                  </a:lnTo>
                  <a:lnTo>
                    <a:pt x="1843" y="307"/>
                  </a:lnTo>
                  <a:lnTo>
                    <a:pt x="1833" y="328"/>
                  </a:lnTo>
                  <a:lnTo>
                    <a:pt x="1823" y="328"/>
                  </a:lnTo>
                  <a:lnTo>
                    <a:pt x="1802" y="348"/>
                  </a:lnTo>
                  <a:lnTo>
                    <a:pt x="1782" y="358"/>
                  </a:lnTo>
                  <a:lnTo>
                    <a:pt x="1761" y="358"/>
                  </a:lnTo>
                  <a:lnTo>
                    <a:pt x="1741" y="369"/>
                  </a:lnTo>
                  <a:lnTo>
                    <a:pt x="1720" y="379"/>
                  </a:lnTo>
                  <a:lnTo>
                    <a:pt x="1690" y="389"/>
                  </a:lnTo>
                  <a:lnTo>
                    <a:pt x="1659" y="399"/>
                  </a:lnTo>
                  <a:lnTo>
                    <a:pt x="1638" y="410"/>
                  </a:lnTo>
                  <a:lnTo>
                    <a:pt x="1608" y="420"/>
                  </a:lnTo>
                  <a:lnTo>
                    <a:pt x="1567" y="430"/>
                  </a:lnTo>
                  <a:lnTo>
                    <a:pt x="1546" y="430"/>
                  </a:lnTo>
                  <a:lnTo>
                    <a:pt x="1505" y="440"/>
                  </a:lnTo>
                  <a:lnTo>
                    <a:pt x="1464" y="451"/>
                  </a:lnTo>
                  <a:lnTo>
                    <a:pt x="1444" y="451"/>
                  </a:lnTo>
                  <a:lnTo>
                    <a:pt x="1393" y="461"/>
                  </a:lnTo>
                  <a:lnTo>
                    <a:pt x="1352" y="461"/>
                  </a:lnTo>
                  <a:lnTo>
                    <a:pt x="1321" y="471"/>
                  </a:lnTo>
                  <a:lnTo>
                    <a:pt x="1280" y="471"/>
                  </a:lnTo>
                  <a:lnTo>
                    <a:pt x="1229" y="481"/>
                  </a:lnTo>
                  <a:lnTo>
                    <a:pt x="1198" y="481"/>
                  </a:lnTo>
                  <a:lnTo>
                    <a:pt x="1147" y="481"/>
                  </a:lnTo>
                  <a:lnTo>
                    <a:pt x="1106" y="481"/>
                  </a:lnTo>
                  <a:lnTo>
                    <a:pt x="1075" y="492"/>
                  </a:lnTo>
                  <a:lnTo>
                    <a:pt x="1024" y="492"/>
                  </a:lnTo>
                  <a:lnTo>
                    <a:pt x="993" y="492"/>
                  </a:lnTo>
                  <a:lnTo>
                    <a:pt x="942" y="492"/>
                  </a:lnTo>
                  <a:lnTo>
                    <a:pt x="891" y="492"/>
                  </a:lnTo>
                  <a:lnTo>
                    <a:pt x="860" y="492"/>
                  </a:lnTo>
                  <a:lnTo>
                    <a:pt x="809" y="492"/>
                  </a:lnTo>
                  <a:lnTo>
                    <a:pt x="758" y="481"/>
                  </a:lnTo>
                  <a:lnTo>
                    <a:pt x="727" y="481"/>
                  </a:lnTo>
                  <a:lnTo>
                    <a:pt x="676" y="481"/>
                  </a:lnTo>
                  <a:lnTo>
                    <a:pt x="635" y="471"/>
                  </a:lnTo>
                  <a:lnTo>
                    <a:pt x="604" y="471"/>
                  </a:lnTo>
                  <a:lnTo>
                    <a:pt x="553" y="471"/>
                  </a:lnTo>
                  <a:lnTo>
                    <a:pt x="512" y="461"/>
                  </a:lnTo>
                  <a:lnTo>
                    <a:pt x="481" y="461"/>
                  </a:lnTo>
                  <a:lnTo>
                    <a:pt x="440" y="451"/>
                  </a:lnTo>
                  <a:lnTo>
                    <a:pt x="399" y="440"/>
                  </a:lnTo>
                  <a:lnTo>
                    <a:pt x="368" y="440"/>
                  </a:lnTo>
                  <a:lnTo>
                    <a:pt x="338" y="430"/>
                  </a:lnTo>
                  <a:lnTo>
                    <a:pt x="307" y="430"/>
                  </a:lnTo>
                  <a:lnTo>
                    <a:pt x="276" y="420"/>
                  </a:lnTo>
                  <a:lnTo>
                    <a:pt x="235" y="410"/>
                  </a:lnTo>
                  <a:lnTo>
                    <a:pt x="215" y="399"/>
                  </a:lnTo>
                  <a:lnTo>
                    <a:pt x="184" y="389"/>
                  </a:lnTo>
                  <a:lnTo>
                    <a:pt x="153" y="379"/>
                  </a:lnTo>
                  <a:lnTo>
                    <a:pt x="143" y="369"/>
                  </a:lnTo>
                  <a:lnTo>
                    <a:pt x="112" y="358"/>
                  </a:lnTo>
                  <a:lnTo>
                    <a:pt x="92" y="348"/>
                  </a:lnTo>
                  <a:lnTo>
                    <a:pt x="82" y="348"/>
                  </a:lnTo>
                  <a:lnTo>
                    <a:pt x="61" y="328"/>
                  </a:lnTo>
                  <a:lnTo>
                    <a:pt x="41" y="317"/>
                  </a:lnTo>
                  <a:lnTo>
                    <a:pt x="30" y="307"/>
                  </a:lnTo>
                  <a:lnTo>
                    <a:pt x="20" y="297"/>
                  </a:lnTo>
                  <a:lnTo>
                    <a:pt x="10" y="287"/>
                  </a:lnTo>
                  <a:lnTo>
                    <a:pt x="10" y="276"/>
                  </a:lnTo>
                  <a:lnTo>
                    <a:pt x="0" y="266"/>
                  </a:lnTo>
                  <a:lnTo>
                    <a:pt x="0" y="256"/>
                  </a:lnTo>
                  <a:lnTo>
                    <a:pt x="0" y="246"/>
                  </a:lnTo>
                  <a:lnTo>
                    <a:pt x="0" y="225"/>
                  </a:lnTo>
                  <a:lnTo>
                    <a:pt x="0" y="225"/>
                  </a:lnTo>
                  <a:lnTo>
                    <a:pt x="10" y="205"/>
                  </a:lnTo>
                  <a:lnTo>
                    <a:pt x="10" y="195"/>
                  </a:lnTo>
                  <a:lnTo>
                    <a:pt x="20" y="184"/>
                  </a:lnTo>
                  <a:lnTo>
                    <a:pt x="30" y="174"/>
                  </a:lnTo>
                  <a:lnTo>
                    <a:pt x="51" y="164"/>
                  </a:lnTo>
                  <a:lnTo>
                    <a:pt x="61" y="154"/>
                  </a:lnTo>
                  <a:lnTo>
                    <a:pt x="82" y="143"/>
                  </a:lnTo>
                  <a:lnTo>
                    <a:pt x="942" y="246"/>
                  </a:lnTo>
                  <a:lnTo>
                    <a:pt x="942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811560" y="152388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199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158960" y="3839760"/>
              <a:ext cx="916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Manufactu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509960" y="403524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82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296840" y="1938240"/>
              <a:ext cx="37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Otr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409160" y="213336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0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187680" y="1938240"/>
              <a:ext cx="96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Agropecuari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596280" y="213336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4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270400" y="2198520"/>
              <a:ext cx="67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Petrole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511600" y="239364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14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6019920" y="4343400"/>
            <a:ext cx="213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Banco de Méx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04" name=""/>
          <p:cNvSpPr/>
          <p:nvPr/>
        </p:nvSpPr>
        <p:spPr>
          <a:xfrm>
            <a:off x="1619280" y="6093000"/>
            <a:ext cx="6381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Fuente: Secretaría de Economía de México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1547640" y="1989000"/>
            <a:ext cx="6550200" cy="3978360"/>
            <a:chOff x="1547640" y="1989000"/>
            <a:chExt cx="6550200" cy="3978360"/>
          </a:xfrm>
        </p:grpSpPr>
        <p:pic>
          <p:nvPicPr>
            <p:cNvPr id="406" name="" descr=""/>
            <p:cNvPicPr/>
            <p:nvPr/>
          </p:nvPicPr>
          <p:blipFill>
            <a:blip r:embed="rId1"/>
            <a:stretch/>
          </p:blipFill>
          <p:spPr>
            <a:xfrm>
              <a:off x="1547640" y="1989000"/>
              <a:ext cx="6550200" cy="397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5525280" y="2811600"/>
              <a:ext cx="137016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Verdana"/>
                </a:rPr>
                <a:t>Crisis del </a:t>
              </a:r>
              <a:r>
                <a:rPr b="1" lang="es-MX" sz="1300" spc="-1" strike="noStrike">
                  <a:solidFill>
                    <a:srgbClr val="ffffff"/>
                  </a:solidFill>
                  <a:latin typeface="Verdana"/>
                </a:rPr>
                <a:t>Tequila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La brecha de desarrollo entre México y EE.UU. se ha reducid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Es decir, desde 1994 sus niveles de PBI per cápita se están acercando cada vez más (convergencia del PBI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No obstante, la Crisis del Tequila (1995) hizo que la brecha se incrementara significativamente, pero temporalment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920" y="4292640"/>
            <a:ext cx="777240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5000" spc="-1" strike="noStrike">
                <a:solidFill>
                  <a:srgbClr val="ffffff"/>
                </a:solidFill>
                <a:latin typeface="Tahoma"/>
              </a:rPr>
              <a:t>Efectos de la integración comercial en una economía en desarrollo</a:t>
            </a:r>
            <a:endParaRPr b="1" lang="en-US" sz="50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"/>
          <p:cNvGrpSpPr/>
          <p:nvPr/>
        </p:nvGrpSpPr>
        <p:grpSpPr>
          <a:xfrm>
            <a:off x="1141920" y="1752480"/>
            <a:ext cx="7323840" cy="4809240"/>
            <a:chOff x="1141920" y="1752480"/>
            <a:chExt cx="7323840" cy="4809240"/>
          </a:xfrm>
        </p:grpSpPr>
        <p:sp>
          <p:nvSpPr>
            <p:cNvPr id="411" name=""/>
            <p:cNvSpPr/>
            <p:nvPr/>
          </p:nvSpPr>
          <p:spPr>
            <a:xfrm>
              <a:off x="1509840" y="4028040"/>
              <a:ext cx="365760" cy="11170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180240" y="3158640"/>
              <a:ext cx="366840" cy="19864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849920" y="3308400"/>
              <a:ext cx="366840" cy="183672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22840" y="3824640"/>
              <a:ext cx="376560" cy="13204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875960" y="2728800"/>
              <a:ext cx="366840" cy="2416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547440" y="2342160"/>
              <a:ext cx="365400" cy="28029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217120" y="2653920"/>
              <a:ext cx="376200" cy="2491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899400" y="2954880"/>
              <a:ext cx="366480" cy="2189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485720" y="1846800"/>
              <a:ext cx="1080" cy="3298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401120" y="514512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401120" y="4596480"/>
              <a:ext cx="5364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401120" y="404928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401120" y="3502440"/>
              <a:ext cx="536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401120" y="294444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401120" y="239544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401120" y="1846800"/>
              <a:ext cx="5364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455120" y="5145120"/>
              <a:ext cx="66945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145512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229680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3126240" y="5144760"/>
              <a:ext cx="28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396648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479772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563796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646740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7318440" y="5144760"/>
              <a:ext cx="28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814968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149680" y="1846800"/>
              <a:ext cx="1080" cy="3298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094240" y="514512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094240" y="47800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094240" y="44146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094240" y="40492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094240" y="3684240"/>
              <a:ext cx="98280" cy="2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094240" y="3308400"/>
              <a:ext cx="98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094240" y="294444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094240" y="2588400"/>
              <a:ext cx="98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094240" y="221364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094240" y="1846800"/>
              <a:ext cx="9828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875960" y="2031840"/>
              <a:ext cx="5854320" cy="2705040"/>
            </a:xfrm>
            <a:custGeom>
              <a:avLst/>
              <a:gdLst/>
              <a:ahLst/>
              <a:rect l="l" t="t" r="r" b="b"/>
              <a:pathLst>
                <a:path w="543" h="252">
                  <a:moveTo>
                    <a:pt x="0" y="0"/>
                  </a:moveTo>
                  <a:lnTo>
                    <a:pt x="77" y="237"/>
                  </a:lnTo>
                  <a:lnTo>
                    <a:pt x="155" y="252"/>
                  </a:lnTo>
                  <a:lnTo>
                    <a:pt x="232" y="205"/>
                  </a:lnTo>
                  <a:lnTo>
                    <a:pt x="310" y="197"/>
                  </a:lnTo>
                  <a:lnTo>
                    <a:pt x="387" y="149"/>
                  </a:lnTo>
                  <a:lnTo>
                    <a:pt x="466" y="86"/>
                  </a:lnTo>
                  <a:lnTo>
                    <a:pt x="543" y="32"/>
                  </a:lnTo>
                </a:path>
              </a:pathLst>
            </a:custGeom>
            <a:noFill/>
            <a:ln w="381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811520" y="1966320"/>
              <a:ext cx="128880" cy="1281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7"/>
                  </a:lnTo>
                  <a:lnTo>
                    <a:pt x="37" y="73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640960" y="4512600"/>
              <a:ext cx="130320" cy="126720"/>
            </a:xfrm>
            <a:custGeom>
              <a:avLst/>
              <a:gdLst/>
              <a:ahLst/>
              <a:rect l="l" t="t" r="r" b="b"/>
              <a:pathLst>
                <a:path w="73" h="72">
                  <a:moveTo>
                    <a:pt x="36" y="0"/>
                  </a:moveTo>
                  <a:lnTo>
                    <a:pt x="73" y="36"/>
                  </a:lnTo>
                  <a:lnTo>
                    <a:pt x="36" y="72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481200" y="4673160"/>
              <a:ext cx="128880" cy="12960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6"/>
                  </a:lnTo>
                  <a:lnTo>
                    <a:pt x="37" y="73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312440" y="4167000"/>
              <a:ext cx="128880" cy="1299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7"/>
                  </a:lnTo>
                  <a:lnTo>
                    <a:pt x="37" y="73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152680" y="4082760"/>
              <a:ext cx="130320" cy="12852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6" y="0"/>
                  </a:moveTo>
                  <a:lnTo>
                    <a:pt x="73" y="36"/>
                  </a:lnTo>
                  <a:lnTo>
                    <a:pt x="36" y="73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983560" y="3566520"/>
              <a:ext cx="129240" cy="1281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6" y="0"/>
                  </a:moveTo>
                  <a:lnTo>
                    <a:pt x="73" y="37"/>
                  </a:lnTo>
                  <a:lnTo>
                    <a:pt x="36" y="73"/>
                  </a:lnTo>
                  <a:lnTo>
                    <a:pt x="0" y="37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834600" y="2890800"/>
              <a:ext cx="118440" cy="12672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37" y="0"/>
                  </a:moveTo>
                  <a:lnTo>
                    <a:pt x="67" y="36"/>
                  </a:lnTo>
                  <a:lnTo>
                    <a:pt x="37" y="72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664400" y="2311560"/>
              <a:ext cx="119520" cy="12672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37" y="0"/>
                  </a:moveTo>
                  <a:lnTo>
                    <a:pt x="67" y="36"/>
                  </a:lnTo>
                  <a:lnTo>
                    <a:pt x="37" y="72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237680" y="5047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141920" y="4500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141920" y="395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141920" y="34059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141920" y="2846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141920" y="22978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14192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rot="16200000">
              <a:off x="16686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rot="16200000">
              <a:off x="249804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rot="16200000">
              <a:off x="335232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183560" y="53100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7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rot="16200000">
              <a:off x="50220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8500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9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 rot="16200000">
              <a:off x="66906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rot="16200000">
              <a:off x="752472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0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267040" y="50475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267040" y="467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267040" y="43077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267040" y="395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267040" y="35773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267040" y="3213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267040" y="2846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267040" y="24829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267040" y="21157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26704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997360" y="5929200"/>
              <a:ext cx="366840" cy="10692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387600" y="5865120"/>
              <a:ext cx="3181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sa de pobreza - Línea 1 - SEDESO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997360" y="6166440"/>
              <a:ext cx="366840" cy="117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391920" y="6102360"/>
              <a:ext cx="2158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sa de pobreza - CEP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997360" y="6444720"/>
              <a:ext cx="354960" cy="25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126240" y="6401880"/>
              <a:ext cx="96840" cy="9612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30" y="0"/>
                  </a:moveTo>
                  <a:lnTo>
                    <a:pt x="54" y="25"/>
                  </a:lnTo>
                  <a:lnTo>
                    <a:pt x="30" y="55"/>
                  </a:lnTo>
                  <a:lnTo>
                    <a:pt x="0" y="25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384360" y="6348240"/>
              <a:ext cx="3364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alarios reales en dólares (eje derecho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133720" y="1460520"/>
            <a:ext cx="5181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Tasa de pobreza y salarios reales en México 1994 - 2001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en porcentajes y dólar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327320" y="623880"/>
            <a:ext cx="6970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eriencia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2" name=""/>
          <p:cNvSpPr/>
          <p:nvPr/>
        </p:nvSpPr>
        <p:spPr>
          <a:xfrm>
            <a:off x="7808040" y="366408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1127160" y="2281320"/>
            <a:ext cx="7189560" cy="3667680"/>
            <a:chOff x="1127160" y="2281320"/>
            <a:chExt cx="7189560" cy="3667680"/>
          </a:xfrm>
        </p:grpSpPr>
        <p:sp>
          <p:nvSpPr>
            <p:cNvPr id="494" name=""/>
            <p:cNvSpPr/>
            <p:nvPr/>
          </p:nvSpPr>
          <p:spPr>
            <a:xfrm>
              <a:off x="1761480" y="2837520"/>
              <a:ext cx="1800" cy="1989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699920" y="4826520"/>
              <a:ext cx="1216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699920" y="454860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699920" y="4249800"/>
              <a:ext cx="1216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99920" y="397188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699920" y="369360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699920" y="3415320"/>
              <a:ext cx="1216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699920" y="311580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699920" y="283752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761480" y="4826520"/>
              <a:ext cx="64558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1761480" y="4762440"/>
              <a:ext cx="180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flipV="1">
              <a:off x="256896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337608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418140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4988520" y="4762440"/>
              <a:ext cx="180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>
              <a:off x="579600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6603120" y="4762440"/>
              <a:ext cx="180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741060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flipV="1">
              <a:off x="821772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165040" y="3073680"/>
              <a:ext cx="5648400" cy="1132920"/>
            </a:xfrm>
            <a:custGeom>
              <a:avLst/>
              <a:gdLst/>
              <a:ahLst/>
              <a:rect l="l" t="t" r="r" b="b"/>
              <a:pathLst>
                <a:path w="280" h="53">
                  <a:moveTo>
                    <a:pt x="0" y="0"/>
                  </a:moveTo>
                  <a:lnTo>
                    <a:pt x="40" y="9"/>
                  </a:lnTo>
                  <a:lnTo>
                    <a:pt x="80" y="33"/>
                  </a:lnTo>
                  <a:lnTo>
                    <a:pt x="120" y="39"/>
                  </a:lnTo>
                  <a:lnTo>
                    <a:pt x="160" y="49"/>
                  </a:lnTo>
                  <a:lnTo>
                    <a:pt x="200" y="53"/>
                  </a:lnTo>
                  <a:lnTo>
                    <a:pt x="240" y="50"/>
                  </a:lnTo>
                  <a:lnTo>
                    <a:pt x="280" y="46"/>
                  </a:lnTo>
                </a:path>
              </a:pathLst>
            </a:custGeom>
            <a:noFill/>
            <a:ln w="381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103480" y="3008520"/>
              <a:ext cx="12132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910960" y="3201120"/>
              <a:ext cx="12132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718080" y="3713400"/>
              <a:ext cx="121320" cy="12924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525200" y="3843000"/>
              <a:ext cx="12132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332680" y="4057560"/>
              <a:ext cx="121320" cy="127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139800" y="4142880"/>
              <a:ext cx="119520" cy="127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945120" y="4077000"/>
              <a:ext cx="121320" cy="12924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752240" y="3991680"/>
              <a:ext cx="12168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801240" y="2281320"/>
              <a:ext cx="219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Verdana"/>
                </a:rPr>
                <a:t>Tasa de Desemple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958800" y="356472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.4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273000" y="365004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.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466240" y="362808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.5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759920" y="341532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3.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952440" y="333000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3.7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177280" y="260280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6.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227040" y="294444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5.5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246680" y="467748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0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246680" y="439920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246680" y="409896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246680" y="382104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3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246680" y="354276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4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246680" y="326448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5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246680" y="296640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6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246680" y="268812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7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90800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71548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6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52116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7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32792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8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13504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9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94252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74964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00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55712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00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127160" y="5548320"/>
              <a:ext cx="71895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Fuente: Instituto Nacional de Estadística, Geografía e Informática de México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Elaboración: COMEXPERU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353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Agricultura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Tanto en México como en EE.UU. la demanda por productos agrícolas creció entre 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1995</a:t>
            </a: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 y 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20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Se incrementó la productividad, sobre todo en la agricultura con sistemas de irriga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cc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"/>
          <p:cNvSpPr/>
          <p:nvPr/>
        </p:nvSpPr>
        <p:spPr>
          <a:xfrm>
            <a:off x="4495680" y="5334120"/>
            <a:ext cx="4419720" cy="7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* Incluye productos agrícolas y silvícolas, y los de ganadería, apicultura, caza y pesca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Instituto Nacional de Estadística, Geografía e Informática de Méxic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4600800" y="2081160"/>
            <a:ext cx="4278240" cy="3052440"/>
            <a:chOff x="4600800" y="2081160"/>
            <a:chExt cx="4278240" cy="3052440"/>
          </a:xfrm>
        </p:grpSpPr>
        <p:sp>
          <p:nvSpPr>
            <p:cNvPr id="551" name=""/>
            <p:cNvSpPr/>
            <p:nvPr/>
          </p:nvSpPr>
          <p:spPr>
            <a:xfrm>
              <a:off x="5081760" y="2631960"/>
              <a:ext cx="1440" cy="2021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032440" y="4653000"/>
              <a:ext cx="49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32440" y="4318200"/>
              <a:ext cx="49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032440" y="397980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032440" y="364320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032440" y="330516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032440" y="2970360"/>
              <a:ext cx="49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032440" y="263196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81760" y="4653000"/>
              <a:ext cx="37954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508176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52387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53974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 flipV="1">
              <a:off x="55548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 flipV="1">
              <a:off x="57150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58723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flipV="1">
              <a:off x="602928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618948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63468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flipV="1">
              <a:off x="65041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66628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682164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69804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 flipV="1">
              <a:off x="713736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flipV="1">
              <a:off x="72946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74548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76122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776916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79297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808668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824544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840276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85615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87202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887724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160960" y="4138560"/>
              <a:ext cx="157320" cy="158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318280" y="4154400"/>
              <a:ext cx="156960" cy="842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475240" y="4238640"/>
              <a:ext cx="160560" cy="144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5635800" y="4162320"/>
              <a:ext cx="156960" cy="907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792760" y="4162320"/>
              <a:ext cx="158760" cy="176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flipV="1">
              <a:off x="5951520" y="3946680"/>
              <a:ext cx="157320" cy="2332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108840" y="3946680"/>
              <a:ext cx="158760" cy="1872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6267600" y="4090680"/>
              <a:ext cx="158760" cy="428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 flipV="1">
              <a:off x="6426360" y="4062240"/>
              <a:ext cx="156960" cy="284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6583320" y="3925800"/>
              <a:ext cx="157320" cy="1368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6740640" y="3854520"/>
              <a:ext cx="160200" cy="712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900840" y="3854520"/>
              <a:ext cx="157320" cy="871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 flipV="1">
              <a:off x="7058160" y="3809880"/>
              <a:ext cx="158760" cy="13176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7216920" y="3750840"/>
              <a:ext cx="158760" cy="586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7375680" y="3300480"/>
              <a:ext cx="156960" cy="4507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532640" y="3300480"/>
              <a:ext cx="158760" cy="1411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7691400" y="3365280"/>
              <a:ext cx="157320" cy="7596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848720" y="3365640"/>
              <a:ext cx="158760" cy="936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8007480" y="3330360"/>
              <a:ext cx="158760" cy="442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8166240" y="3232080"/>
              <a:ext cx="156960" cy="986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8323200" y="3232080"/>
              <a:ext cx="160560" cy="1080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483760" y="3340080"/>
              <a:ext cx="156960" cy="97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8640720" y="3036600"/>
              <a:ext cx="157320" cy="3128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964400" y="2081160"/>
              <a:ext cx="377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Exportaciones agropecuarias* México 1980 - 2003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001560" y="2276640"/>
              <a:ext cx="1585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(millones de dólares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868640" y="455760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600800" y="422136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600800" y="388296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2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600800" y="354816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3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600800" y="32101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4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600800" y="28735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5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600800" y="25351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6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 rot="16200000">
              <a:off x="498132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 rot="16200000">
              <a:off x="529560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 rot="16200000">
              <a:off x="561312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rot="16200000">
              <a:off x="593064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rot="16200000">
              <a:off x="624672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rot="16200000">
              <a:off x="656244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rot="16200000">
              <a:off x="687852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rot="16200000">
              <a:off x="719604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rot="16200000">
              <a:off x="751176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rot="16200000">
              <a:off x="7827840" y="48664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rot="16200000">
              <a:off x="814356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2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rot="16200000">
              <a:off x="846108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200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7431120" y="2627280"/>
              <a:ext cx="1440" cy="2175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>
              <a:off x="6149880" y="2627280"/>
              <a:ext cx="1800" cy="2175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27480" y="3328920"/>
              <a:ext cx="8985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302800" y="3346560"/>
              <a:ext cx="618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Economía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344920" y="3513240"/>
              <a:ext cx="476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Cerrad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342120" y="3328920"/>
              <a:ext cx="8985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640200" y="3346560"/>
              <a:ext cx="313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GAT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734240" y="2897280"/>
              <a:ext cx="90000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995240" y="2913120"/>
              <a:ext cx="393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NAFT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6553080" cy="434808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1569960" y="6490800"/>
            <a:ext cx="6888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Fuente</a:t>
            </a:r>
            <a:r>
              <a:rPr b="1" lang="es-MX" sz="800" spc="-1" strike="noStrike">
                <a:solidFill>
                  <a:srgbClr val="ffffff"/>
                </a:solidFill>
                <a:latin typeface="Verdana"/>
              </a:rPr>
              <a:t>: NAFTA, Secretaría de Agricultura, Ganadería, Desarrollo Rural, Pesca y Alimentación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En cuanto a las regiones de México, a partir de 1994 el PBI per cápita de estados como el D.F., Nuevo León, Chihuahua y Sonora se incrementó considerablem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Pero el de estados como Guerrero, Chiapas y Oaxaca se mantuvo prácticamente consta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egún el BM, los siguientes factores explican las diferencias entre estados en los 90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Educación inicial (analfabetismo y años de educación de la población adult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Infraestructura (acceso a telecomunicacione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Posible inestabilidad po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l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í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tica 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y deficientes institu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i los estados pobres hubiesen estado parejos en educación, instituciones e infraestructura con los estados ricos; hubieran crecido más que estos últim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La brecha institucional impide la reducción de la brecha de desarrollo entre México y EE.UU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7" name="" descr=""/>
          <p:cNvPicPr/>
          <p:nvPr/>
        </p:nvPicPr>
        <p:blipFill>
          <a:blip r:embed="rId1"/>
          <a:stretch/>
        </p:blipFill>
        <p:spPr>
          <a:xfrm>
            <a:off x="380880" y="2879640"/>
            <a:ext cx="8763120" cy="3368880"/>
          </a:xfrm>
          <a:prstGeom prst="rect">
            <a:avLst/>
          </a:prstGeom>
          <a:ln w="0">
            <a:noFill/>
          </a:ln>
        </p:spPr>
      </p:pic>
      <p:sp>
        <p:nvSpPr>
          <p:cNvPr id="648" name=""/>
          <p:cNvSpPr/>
          <p:nvPr/>
        </p:nvSpPr>
        <p:spPr>
          <a:xfrm>
            <a:off x="914400" y="6248520"/>
            <a:ext cx="4537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Fuente: Banco Mundia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" descr="cancun200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3124080"/>
            <a:ext cx="2971800" cy="2160720"/>
          </a:xfrm>
          <a:prstGeom prst="rect">
            <a:avLst/>
          </a:prstGeom>
          <a:ln w="0">
            <a:noFill/>
          </a:ln>
        </p:spPr>
      </p:pic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421840" cy="78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Los otros obstáculo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3"/>
          <a:stretch/>
        </p:blipFill>
        <p:spPr>
          <a:xfrm>
            <a:off x="6172200" y="2666880"/>
            <a:ext cx="2666880" cy="1774800"/>
          </a:xfrm>
          <a:prstGeom prst="rect">
            <a:avLst/>
          </a:prstGeom>
          <a:ln w="0">
            <a:noFill/>
          </a:ln>
        </p:spPr>
      </p:pic>
      <p:pic>
        <p:nvPicPr>
          <p:cNvPr id="652" name="" descr="Monterrey"/>
          <p:cNvPicPr/>
          <p:nvPr/>
        </p:nvPicPr>
        <p:blipFill>
          <a:blip r:embed="rId4"/>
          <a:stretch/>
        </p:blipFill>
        <p:spPr>
          <a:xfrm>
            <a:off x="3352680" y="3809880"/>
            <a:ext cx="3143520" cy="2318040"/>
          </a:xfrm>
          <a:prstGeom prst="rect">
            <a:avLst/>
          </a:prstGeom>
          <a:ln w="0">
            <a:noFill/>
          </a:ln>
        </p:spPr>
      </p:pic>
      <p:pic>
        <p:nvPicPr>
          <p:cNvPr id="653" name="" descr=""/>
          <p:cNvPicPr/>
          <p:nvPr/>
        </p:nvPicPr>
        <p:blipFill>
          <a:blip r:embed="rId5"/>
          <a:stretch/>
        </p:blipFill>
        <p:spPr>
          <a:xfrm>
            <a:off x="990720" y="1866960"/>
            <a:ext cx="5181480" cy="1104840"/>
          </a:xfrm>
          <a:prstGeom prst="rect">
            <a:avLst/>
          </a:prstGeom>
          <a:ln w="0">
            <a:noFill/>
          </a:ln>
        </p:spPr>
      </p:pic>
      <p:grpSp>
        <p:nvGrpSpPr>
          <p:cNvPr id="654" name=""/>
          <p:cNvGrpSpPr/>
          <p:nvPr/>
        </p:nvGrpSpPr>
        <p:grpSpPr>
          <a:xfrm>
            <a:off x="4299120" y="3078000"/>
            <a:ext cx="1379520" cy="595440"/>
            <a:chOff x="4299120" y="3078000"/>
            <a:chExt cx="1379520" cy="595440"/>
          </a:xfrm>
        </p:grpSpPr>
        <p:sp>
          <p:nvSpPr>
            <p:cNvPr id="655" name=""/>
            <p:cNvSpPr/>
            <p:nvPr/>
          </p:nvSpPr>
          <p:spPr>
            <a:xfrm>
              <a:off x="4299120" y="3078000"/>
              <a:ext cx="1379520" cy="5954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299120" y="3078000"/>
              <a:ext cx="1379520" cy="5954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33333"/>
                  </a:solidFill>
                  <a:latin typeface="Arial"/>
                  <a:ea typeface="Arial"/>
                </a:rPr>
                <a:t>  </a:t>
              </a:r>
              <a:r>
                <a:rPr b="0" lang="en-US" sz="3300" spc="-1" strike="noStrike">
                  <a:solidFill>
                    <a:srgbClr val="333333"/>
                  </a:solidFill>
                  <a:latin typeface="Arial"/>
                  <a:ea typeface="Arial"/>
                </a:rPr>
                <a:t> </a:t>
              </a:r>
              <a:r>
                <a:rPr b="0" lang="en-US" sz="800" spc="-1" strike="noStrike">
                  <a:solidFill>
                    <a:srgbClr val="333333"/>
                  </a:solidFill>
                  <a:latin typeface="Arial"/>
                  <a:ea typeface="Arial"/>
                </a:rPr>
                <a:t>                                      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57" name="" descr="Oxfam logo"/>
          <p:cNvPicPr/>
          <p:nvPr/>
        </p:nvPicPr>
        <p:blipFill>
          <a:blip r:embed="rId6"/>
          <a:stretch/>
        </p:blipFill>
        <p:spPr>
          <a:xfrm>
            <a:off x="4419720" y="3124080"/>
            <a:ext cx="1131840" cy="53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" descr="Next Page"/>
          <p:cNvPicPr/>
          <p:nvPr/>
        </p:nvPicPr>
        <p:blipFill>
          <a:blip r:embed="rId1"/>
          <a:stretch/>
        </p:blipFill>
        <p:spPr>
          <a:xfrm>
            <a:off x="-108000" y="-27000"/>
            <a:ext cx="9468000" cy="703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842184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Pero los acuerdos comerciales </a:t>
            </a:r>
            <a:br>
              <a:rPr sz="3800"/>
            </a:b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no son suficientes...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¿Por qué comerciar?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828440"/>
            <a:ext cx="7543800" cy="43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entajas comparativas y especializ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cceso a mercados más amplios: fundamental para economías pequeñas 1, 2,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cceso a productos de mayor calidad y menores preci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tacto con avances tecnológicos y científic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ejores sueldos y calidad de emple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798480" y="511200"/>
            <a:ext cx="8421840" cy="124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genda de comercio exterior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050480" y="1993680"/>
            <a:ext cx="809316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Verdana"/>
              </a:rPr>
              <a:t>Eficiencia Públ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Plan para reducir el Gasto Público: Reducir el tamaño del Estado privatizando empresas estatale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Reforma tributaria orientada a eliminar impuestos antitécnicos: (ITF, IES) y ampliar base tributari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Verdana"/>
              </a:rPr>
              <a:t>Facilitación de Comerc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Promover las concesiones de infraestructura: Puertos, aeropuertos y carretera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Criterio recaudador vs. facilitador de SUNAT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"/>
          <p:cNvSpPr/>
          <p:nvPr/>
        </p:nvSpPr>
        <p:spPr>
          <a:xfrm>
            <a:off x="5867280" y="502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genda de comercio exterior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Verdana"/>
              </a:rPr>
              <a:t>Política arancelar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ffffff"/>
                </a:solidFill>
                <a:latin typeface="Verdana"/>
              </a:rPr>
              <a:t>Eliminar cambios arancelarios a pedido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ffffff"/>
                </a:solidFill>
                <a:latin typeface="Verdana"/>
              </a:rPr>
              <a:t>Arancel bajo y plano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Verdana"/>
              </a:rPr>
              <a:t>Reform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700" spc="-1" strike="noStrike">
                <a:solidFill>
                  <a:srgbClr val="ffffff"/>
                </a:solidFill>
                <a:latin typeface="Verdana"/>
              </a:rPr>
              <a:t>Educación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700" spc="-1" strike="noStrike">
                <a:solidFill>
                  <a:srgbClr val="ffffff"/>
                </a:solidFill>
                <a:latin typeface="Verdana"/>
              </a:rPr>
              <a:t>Productividad en el Agro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genda de comercio exterior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Acceso Mercados: TLC con EE.UU., UE y APE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Formar una base institucional sólida que permita la unificación de esfuerzos: Congreso – Ejecutivo – Sector Priv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  <p:sp>
        <p:nvSpPr>
          <p:cNvPr id="668" name=""/>
          <p:cNvSpPr/>
          <p:nvPr/>
        </p:nvSpPr>
        <p:spPr>
          <a:xfrm>
            <a:off x="2529360" y="5210280"/>
            <a:ext cx="42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Verdana"/>
              </a:rPr>
              <a:t>WWW.COMEXPERU.ORG.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ATPDE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1987920" y="2060640"/>
            <a:ext cx="4703040" cy="4361040"/>
            <a:chOff x="1987920" y="2060640"/>
            <a:chExt cx="4703040" cy="4361040"/>
          </a:xfrm>
        </p:grpSpPr>
        <p:sp>
          <p:nvSpPr>
            <p:cNvPr id="671" name=""/>
            <p:cNvSpPr/>
            <p:nvPr/>
          </p:nvSpPr>
          <p:spPr>
            <a:xfrm>
              <a:off x="2394360" y="2060640"/>
              <a:ext cx="40536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Exportaciones </a:t>
              </a: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n</a:t>
              </a: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o </a:t>
              </a: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t</a:t>
              </a: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radicional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(millones de US$, promedio móvil últimos 12 meses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124080" y="3346560"/>
              <a:ext cx="194544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440" indent="-14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Periodo de incertidumbre previa a extensión del ATPDE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178160" y="4422600"/>
              <a:ext cx="1053360" cy="53352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 flipV="1">
              <a:off x="5150880" y="2530080"/>
              <a:ext cx="0" cy="335268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150880" y="4879800"/>
              <a:ext cx="154008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440" indent="-14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ATPDEA incluye confecciones y otros product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096800" y="4041720"/>
              <a:ext cx="24300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150880" y="5489640"/>
              <a:ext cx="1216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8" name=""/>
            <p:cNvGrpSpPr/>
            <p:nvPr/>
          </p:nvGrpSpPr>
          <p:grpSpPr>
            <a:xfrm>
              <a:off x="1987920" y="2554200"/>
              <a:ext cx="4566240" cy="3867480"/>
              <a:chOff x="1987920" y="2554200"/>
              <a:chExt cx="4566240" cy="3867480"/>
            </a:xfrm>
          </p:grpSpPr>
          <p:sp>
            <p:nvSpPr>
              <p:cNvPr id="679" name=""/>
              <p:cNvSpPr/>
              <p:nvPr/>
            </p:nvSpPr>
            <p:spPr>
              <a:xfrm>
                <a:off x="2469960" y="2641680"/>
                <a:ext cx="1800" cy="322092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2424600" y="5862600"/>
                <a:ext cx="45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2424600" y="550692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2424600" y="515124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2424600" y="478620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2424600" y="443052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2424600" y="4075200"/>
                <a:ext cx="45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2424600" y="371772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424600" y="335268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2424600" y="299700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2424600" y="2641680"/>
                <a:ext cx="45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469960" y="5862600"/>
                <a:ext cx="408240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flipV="1">
                <a:off x="246996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V="1">
                <a:off x="25498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flipV="1">
                <a:off x="26305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V="1">
                <a:off x="2710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V="1">
                <a:off x="27910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flipV="1">
                <a:off x="28706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V="1">
                <a:off x="29516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V="1">
                <a:off x="30308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V="1">
                <a:off x="31122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flipV="1">
                <a:off x="31932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V="1">
                <a:off x="32724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flipV="1">
                <a:off x="33537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V="1">
                <a:off x="34329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V="1">
                <a:off x="35143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V="1">
                <a:off x="35935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V="1">
                <a:off x="36745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V="1">
                <a:off x="3754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flipV="1">
                <a:off x="38347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flipV="1">
                <a:off x="39142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V="1">
                <a:off x="39952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V="1">
                <a:off x="40748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V="1">
                <a:off x="41558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flipV="1">
                <a:off x="42354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flipV="1">
                <a:off x="43164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V="1">
                <a:off x="43959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flipV="1">
                <a:off x="44766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V="1">
                <a:off x="4546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flipV="1">
                <a:off x="46252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flipV="1">
                <a:off x="47066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V="1">
                <a:off x="47858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flipV="1">
                <a:off x="48668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flipV="1">
                <a:off x="49464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V="1">
                <a:off x="50274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flipV="1">
                <a:off x="51066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V="1">
                <a:off x="51879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V="1">
                <a:off x="52671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flipV="1">
                <a:off x="53485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V="1">
                <a:off x="5429160" y="5862240"/>
                <a:ext cx="1800" cy="4428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V="1">
                <a:off x="5509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V="1">
                <a:off x="55897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V="1">
                <a:off x="56689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V="1">
                <a:off x="57502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V="1">
                <a:off x="58294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V="1">
                <a:off x="59108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flipV="1">
                <a:off x="59900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flipV="1">
                <a:off x="60710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flipV="1">
                <a:off x="61506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V="1">
                <a:off x="62316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flipV="1">
                <a:off x="631116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flipV="1">
                <a:off x="63921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V="1">
                <a:off x="64713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flipV="1">
                <a:off x="65527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469960" y="5529240"/>
                <a:ext cx="6768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2549880" y="5443560"/>
                <a:ext cx="6876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2630520" y="541008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2710080" y="535608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2791080" y="5346720"/>
                <a:ext cx="691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870640" y="5292720"/>
                <a:ext cx="6876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2951640" y="5216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3030840" y="51512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3112200" y="5238720"/>
                <a:ext cx="691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3193200" y="513072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3272400" y="50972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353760" y="510840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3432960" y="5054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3514320" y="502272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3593520" y="496872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3674520" y="4937040"/>
                <a:ext cx="673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754080" y="486072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3834720" y="4903560"/>
                <a:ext cx="6768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914280" y="475308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995280" y="4721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4074840" y="4624200"/>
                <a:ext cx="6876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4155840" y="470988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4235400" y="470988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4316400" y="468792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4395960" y="472104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4476600" y="47419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4557960" y="476388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4637160" y="47419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4718520" y="4775040"/>
                <a:ext cx="673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4797720" y="4624200"/>
                <a:ext cx="691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878720" y="4753080"/>
                <a:ext cx="673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4958280" y="47419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5039280" y="470988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5118480" y="4635360"/>
                <a:ext cx="691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5199840" y="459108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5279040" y="446256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60040" y="4397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5439600" y="4343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5520600" y="4235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5600160" y="418140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5680800" y="4118040"/>
                <a:ext cx="691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5760720" y="409572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5841360" y="4010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5922720" y="390204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6001920" y="3794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6082920" y="369720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6162480" y="35352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6243480" y="3460680"/>
                <a:ext cx="673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6322680" y="32767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6404040" y="3093840"/>
                <a:ext cx="673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6483240" y="2921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flipV="1">
                <a:off x="2504160" y="5497560"/>
                <a:ext cx="57240" cy="93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2561760" y="5464080"/>
                <a:ext cx="102960" cy="334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4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flipV="1">
                <a:off x="2664720" y="5443200"/>
                <a:ext cx="4536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2710080" y="5389560"/>
                <a:ext cx="102960" cy="5400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5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flipV="1">
                <a:off x="2813400" y="5367240"/>
                <a:ext cx="4680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860560" y="5313240"/>
                <a:ext cx="102960" cy="5400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5"/>
                    </a:moveTo>
                    <a:lnTo>
                      <a:pt x="5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2963520" y="5248080"/>
                <a:ext cx="102960" cy="651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6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flipV="1">
                <a:off x="3066480" y="5227200"/>
                <a:ext cx="5724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3123720" y="5162400"/>
                <a:ext cx="91080" cy="6516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flipV="1">
                <a:off x="3215160" y="5141520"/>
                <a:ext cx="5724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3272400" y="5076720"/>
                <a:ext cx="102960" cy="651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6"/>
                    </a:moveTo>
                    <a:lnTo>
                      <a:pt x="4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375720" y="5033880"/>
                <a:ext cx="91080" cy="4284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flipV="1">
                <a:off x="3466800" y="5000040"/>
                <a:ext cx="57240" cy="3348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3524040" y="4957560"/>
                <a:ext cx="104760" cy="4284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4"/>
                    </a:moveTo>
                    <a:lnTo>
                      <a:pt x="4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flipV="1">
                <a:off x="3629160" y="4936680"/>
                <a:ext cx="4536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3674520" y="4903560"/>
                <a:ext cx="102960" cy="334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5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777840" y="4871880"/>
                <a:ext cx="102960" cy="316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4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flipV="1">
                <a:off x="3880800" y="4860360"/>
                <a:ext cx="4536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3926160" y="4829040"/>
                <a:ext cx="102960" cy="316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flipV="1">
                <a:off x="4029480" y="4817520"/>
                <a:ext cx="4536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4074840" y="4806720"/>
                <a:ext cx="102960" cy="11160"/>
              </a:xfrm>
              <a:custGeom>
                <a:avLst/>
                <a:gdLst/>
                <a:ahLst/>
                <a:rect l="l" t="t" r="r" b="b"/>
                <a:pathLst>
                  <a:path w="9" h="1">
                    <a:moveTo>
                      <a:pt x="0" y="1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177800" y="4786200"/>
                <a:ext cx="104400" cy="2052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2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4282560" y="4786200"/>
                <a:ext cx="57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4339800" y="4775040"/>
                <a:ext cx="91080" cy="1116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0" y="1"/>
                    </a:moveTo>
                    <a:lnTo>
                      <a:pt x="4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flipV="1">
                <a:off x="4431240" y="4763520"/>
                <a:ext cx="5724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4488480" y="4753080"/>
                <a:ext cx="102960" cy="10800"/>
              </a:xfrm>
              <a:custGeom>
                <a:avLst/>
                <a:gdLst/>
                <a:ahLst/>
                <a:rect l="l" t="t" r="r" b="b"/>
                <a:pathLst>
                  <a:path w="9" h="1">
                    <a:moveTo>
                      <a:pt x="0" y="1"/>
                    </a:moveTo>
                    <a:lnTo>
                      <a:pt x="4" y="0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4591440" y="4741920"/>
                <a:ext cx="91080" cy="1116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0" y="1"/>
                    </a:moveTo>
                    <a:lnTo>
                      <a:pt x="4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V="1">
                <a:off x="4682880" y="4731840"/>
                <a:ext cx="57240" cy="97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4740120" y="4709880"/>
                <a:ext cx="102960" cy="2232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2"/>
                    </a:moveTo>
                    <a:lnTo>
                      <a:pt x="4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flipV="1">
                <a:off x="4843440" y="4699080"/>
                <a:ext cx="453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4888800" y="4678200"/>
                <a:ext cx="104760" cy="2088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2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4993920" y="4635360"/>
                <a:ext cx="102960" cy="4284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4"/>
                    </a:moveTo>
                    <a:lnTo>
                      <a:pt x="4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flipV="1">
                <a:off x="5096880" y="4623840"/>
                <a:ext cx="4536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5142240" y="4570200"/>
                <a:ext cx="102960" cy="5400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5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flipV="1">
                <a:off x="5245560" y="4547880"/>
                <a:ext cx="45360" cy="219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5290920" y="4483080"/>
                <a:ext cx="102960" cy="651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6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5393880" y="4408560"/>
                <a:ext cx="102960" cy="7452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0" y="7"/>
                    </a:moveTo>
                    <a:lnTo>
                      <a:pt x="5" y="4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flipV="1">
                <a:off x="5497200" y="4365360"/>
                <a:ext cx="57240" cy="42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5554440" y="4278240"/>
                <a:ext cx="92520" cy="874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flipV="1">
                <a:off x="5647320" y="4225680"/>
                <a:ext cx="57240" cy="522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5704560" y="4106880"/>
                <a:ext cx="102960" cy="11916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0" y="11"/>
                    </a:moveTo>
                    <a:lnTo>
                      <a:pt x="4" y="6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5807520" y="3987720"/>
                <a:ext cx="91080" cy="11916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0" y="11"/>
                    </a:moveTo>
                    <a:lnTo>
                      <a:pt x="4" y="6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V="1">
                <a:off x="5898960" y="3912840"/>
                <a:ext cx="57240" cy="74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956200" y="3771720"/>
                <a:ext cx="102960" cy="14148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0" y="13"/>
                    </a:moveTo>
                    <a:lnTo>
                      <a:pt x="4" y="7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flipV="1">
                <a:off x="6059160" y="3696840"/>
                <a:ext cx="45360" cy="74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6104880" y="3535200"/>
                <a:ext cx="102960" cy="16200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0" y="15"/>
                    </a:moveTo>
                    <a:lnTo>
                      <a:pt x="5" y="7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6207840" y="3362400"/>
                <a:ext cx="102960" cy="17280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0" y="16"/>
                    </a:moveTo>
                    <a:lnTo>
                      <a:pt x="4" y="8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flipV="1">
                <a:off x="6311160" y="3265200"/>
                <a:ext cx="47160" cy="96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6358320" y="3093840"/>
                <a:ext cx="102960" cy="17172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0" y="16"/>
                    </a:moveTo>
                    <a:lnTo>
                      <a:pt x="5" y="8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flipV="1">
                <a:off x="6461640" y="2996640"/>
                <a:ext cx="57240" cy="96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987920" y="577692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5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1987920" y="542124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6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1987920" y="506556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7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1987920" y="469908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8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1987920" y="434340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9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987920" y="398772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0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1987920" y="363204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1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1987920" y="326556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2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1987920" y="290988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3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1987920" y="255420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4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6200000">
                <a:off x="2265480" y="610812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6200000">
                <a:off x="2679120" y="60303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6200000">
                <a:off x="3008520" y="60278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6200000">
                <a:off x="3228120" y="610812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1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6200000">
                <a:off x="3641760" y="60303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200000">
                <a:off x="3974400" y="60278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200000">
                <a:off x="4195800" y="610812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2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200000">
                <a:off x="4609440" y="60303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6200000">
                <a:off x="4938840" y="60278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200000">
                <a:off x="5157000" y="610596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3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00000">
                <a:off x="5570640" y="60271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200000">
                <a:off x="5901840" y="60242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200000">
                <a:off x="6121080" y="610596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4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67" name=""/>
          <p:cNvSpPr/>
          <p:nvPr/>
        </p:nvSpPr>
        <p:spPr>
          <a:xfrm>
            <a:off x="1828800" y="6477120"/>
            <a:ext cx="7238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Verdana"/>
              </a:rPr>
              <a:t>Fuente: IP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869" name="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391520" cy="4452840"/>
          </a:xfrm>
          <a:prstGeom prst="rect">
            <a:avLst/>
          </a:prstGeom>
          <a:ln w="0">
            <a:noFill/>
          </a:ln>
        </p:spPr>
      </p:pic>
      <p:sp>
        <p:nvSpPr>
          <p:cNvPr id="870" name=""/>
          <p:cNvSpPr/>
          <p:nvPr/>
        </p:nvSpPr>
        <p:spPr>
          <a:xfrm>
            <a:off x="1905120" y="6400800"/>
            <a:ext cx="723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Fuente: U.S. Census Bureau, Foreign Trade Division; Statistics Canada; </a:t>
            </a: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Secretaría de Economía de Méxic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872" name=""/>
          <p:cNvGrpSpPr/>
          <p:nvPr/>
        </p:nvGrpSpPr>
        <p:grpSpPr>
          <a:xfrm>
            <a:off x="963360" y="4062240"/>
            <a:ext cx="2372040" cy="2168640"/>
            <a:chOff x="963360" y="4062240"/>
            <a:chExt cx="2372040" cy="2168640"/>
          </a:xfrm>
        </p:grpSpPr>
        <p:sp>
          <p:nvSpPr>
            <p:cNvPr id="873" name=""/>
            <p:cNvSpPr/>
            <p:nvPr/>
          </p:nvSpPr>
          <p:spPr>
            <a:xfrm>
              <a:off x="1002960" y="5864400"/>
              <a:ext cx="2135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* Proyecciones MMM</a:t>
              </a:r>
              <a:r>
                <a:rPr b="1" lang="es-MX" sz="800" spc="-1" strike="noStrike">
                  <a:solidFill>
                    <a:srgbClr val="ffffff"/>
                  </a:solidFill>
                  <a:latin typeface="Verdana"/>
                </a:rPr>
                <a:t> 2005 – 2007 Revisado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963360" y="6108840"/>
              <a:ext cx="2097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Fuente: SUNAT. Elaboración: COMEXPERU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995480" y="4062240"/>
              <a:ext cx="3240" cy="2098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998720" y="4062240"/>
              <a:ext cx="3240" cy="2098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001960" y="4062240"/>
              <a:ext cx="4680" cy="2098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006640" y="4062240"/>
              <a:ext cx="3240" cy="2098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009880" y="4062240"/>
              <a:ext cx="1440" cy="2098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011320" y="4062240"/>
              <a:ext cx="3240" cy="2098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014560" y="4062240"/>
              <a:ext cx="3240" cy="2098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017800" y="4062240"/>
              <a:ext cx="1440" cy="2098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019240" y="4062240"/>
              <a:ext cx="3240" cy="2098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2022480" y="4062240"/>
              <a:ext cx="3240" cy="2098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025720" y="4062240"/>
              <a:ext cx="3240" cy="209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028960" y="4062240"/>
              <a:ext cx="1440" cy="2098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030400" y="4062240"/>
              <a:ext cx="3240" cy="2098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033640" y="4062240"/>
              <a:ext cx="3240" cy="2098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036880" y="4062240"/>
              <a:ext cx="1440" cy="2098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038320" y="4062240"/>
              <a:ext cx="3240" cy="2098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041560" y="4062240"/>
              <a:ext cx="3240" cy="2098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044800" y="4062240"/>
              <a:ext cx="1440" cy="2098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046240" y="4062240"/>
              <a:ext cx="3240" cy="2098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2049480" y="4062240"/>
              <a:ext cx="3240" cy="2098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052720" y="4062240"/>
              <a:ext cx="1440" cy="2098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054160" y="4062240"/>
              <a:ext cx="3240" cy="2098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057400" y="4062240"/>
              <a:ext cx="3240" cy="2098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060640" y="4062240"/>
              <a:ext cx="3240" cy="2098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063880" y="4062240"/>
              <a:ext cx="1440" cy="2098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065320" y="4062240"/>
              <a:ext cx="3240" cy="2098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068560" y="4062240"/>
              <a:ext cx="4680" cy="2098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073240" y="4062240"/>
              <a:ext cx="6480" cy="2098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079720" y="4062240"/>
              <a:ext cx="1440" cy="2098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081160" y="4062240"/>
              <a:ext cx="6480" cy="2098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087640" y="4062240"/>
              <a:ext cx="4680" cy="2098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092320" y="4062240"/>
              <a:ext cx="3240" cy="2098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095560" y="4062240"/>
              <a:ext cx="3240" cy="2098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098800" y="4062240"/>
              <a:ext cx="1440" cy="2098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100240" y="4062240"/>
              <a:ext cx="3240" cy="2098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103480" y="4062240"/>
              <a:ext cx="3240" cy="2098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106720" y="4062240"/>
              <a:ext cx="1440" cy="2098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108160" y="4062240"/>
              <a:ext cx="3240" cy="2098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111400" y="4062240"/>
              <a:ext cx="3240" cy="2098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114640" y="4062240"/>
              <a:ext cx="1440" cy="2098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116080" y="4062240"/>
              <a:ext cx="3240" cy="2098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119320" y="4062240"/>
              <a:ext cx="3240" cy="2098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2122560" y="4062240"/>
              <a:ext cx="3240" cy="2098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125800" y="4062240"/>
              <a:ext cx="1440" cy="2098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127240" y="4062240"/>
              <a:ext cx="3240" cy="2098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130480" y="4062240"/>
              <a:ext cx="3240" cy="2098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133720" y="4062240"/>
              <a:ext cx="1440" cy="209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135160" y="4062240"/>
              <a:ext cx="3240" cy="2098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138400" y="4062240"/>
              <a:ext cx="3240" cy="2098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141640" y="4062240"/>
              <a:ext cx="1440" cy="2098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143080" y="4062240"/>
              <a:ext cx="3240" cy="2098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146320" y="4062240"/>
              <a:ext cx="3240" cy="2098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149560" y="4062240"/>
              <a:ext cx="1440" cy="2098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151000" y="4062240"/>
              <a:ext cx="3240" cy="2098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154240" y="4062240"/>
              <a:ext cx="6480" cy="2098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998720" y="4064040"/>
              <a:ext cx="16668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416320" y="4129200"/>
              <a:ext cx="1440" cy="14292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417760" y="4129200"/>
              <a:ext cx="3240" cy="14292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421000" y="4129200"/>
              <a:ext cx="468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425680" y="4129200"/>
              <a:ext cx="324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428920" y="4129200"/>
              <a:ext cx="324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432160" y="4129200"/>
              <a:ext cx="144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433600" y="4129200"/>
              <a:ext cx="3240" cy="14292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436840" y="4129200"/>
              <a:ext cx="3240" cy="14292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440080" y="4129200"/>
              <a:ext cx="14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441520" y="4129200"/>
              <a:ext cx="3240" cy="14292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444760" y="4129200"/>
              <a:ext cx="324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448000" y="4129200"/>
              <a:ext cx="324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451240" y="4129200"/>
              <a:ext cx="1440" cy="14292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452680" y="4129200"/>
              <a:ext cx="3240" cy="14292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455920" y="4129200"/>
              <a:ext cx="3240" cy="14292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459160" y="4129200"/>
              <a:ext cx="144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460600" y="4129200"/>
              <a:ext cx="3240" cy="14292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463840" y="4129200"/>
              <a:ext cx="3240" cy="14292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467080" y="4129200"/>
              <a:ext cx="1440" cy="14292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468520" y="4129200"/>
              <a:ext cx="324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471760" y="4129200"/>
              <a:ext cx="3240" cy="14292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475000" y="4129200"/>
              <a:ext cx="1440" cy="14292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476440" y="4129200"/>
              <a:ext cx="3240" cy="14292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479680" y="4129200"/>
              <a:ext cx="324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482920" y="4129200"/>
              <a:ext cx="324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486160" y="4129200"/>
              <a:ext cx="1440" cy="14292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487600" y="4129200"/>
              <a:ext cx="324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490840" y="4129200"/>
              <a:ext cx="324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494080" y="4129200"/>
              <a:ext cx="468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498760" y="4129200"/>
              <a:ext cx="4680" cy="1429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503440" y="4129200"/>
              <a:ext cx="648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509920" y="4129200"/>
              <a:ext cx="324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513160" y="4129200"/>
              <a:ext cx="144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514600" y="4129200"/>
              <a:ext cx="3240" cy="14292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517840" y="4129200"/>
              <a:ext cx="324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521080" y="4129200"/>
              <a:ext cx="144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522520" y="4129200"/>
              <a:ext cx="3240" cy="14292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525760" y="4129200"/>
              <a:ext cx="3240" cy="14292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529000" y="4129200"/>
              <a:ext cx="1440" cy="14292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530440" y="4129200"/>
              <a:ext cx="324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533680" y="4129200"/>
              <a:ext cx="3240" cy="14292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536920" y="4129200"/>
              <a:ext cx="1440" cy="14292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538360" y="4129200"/>
              <a:ext cx="3240" cy="1429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541600" y="4129200"/>
              <a:ext cx="324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544840" y="4129200"/>
              <a:ext cx="3240" cy="14292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48080" y="4129200"/>
              <a:ext cx="1440" cy="14292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549520" y="4129200"/>
              <a:ext cx="3240" cy="14292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552760" y="4129200"/>
              <a:ext cx="324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556000" y="4129200"/>
              <a:ext cx="144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557440" y="4129200"/>
              <a:ext cx="3240" cy="14292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560680" y="4129200"/>
              <a:ext cx="32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563920" y="4129200"/>
              <a:ext cx="1440" cy="14292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565360" y="4129200"/>
              <a:ext cx="3240" cy="14292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568600" y="4129200"/>
              <a:ext cx="324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571840" y="4129200"/>
              <a:ext cx="144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573280" y="4129200"/>
              <a:ext cx="324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576520" y="4129200"/>
              <a:ext cx="648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417760" y="4132440"/>
              <a:ext cx="169920" cy="1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838600" y="4175280"/>
              <a:ext cx="1440" cy="9684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840040" y="4175280"/>
              <a:ext cx="3240" cy="9684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843280" y="4175280"/>
              <a:ext cx="4680" cy="9684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847960" y="4175280"/>
              <a:ext cx="3240" cy="9684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851200" y="4175280"/>
              <a:ext cx="3240" cy="9684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854440" y="4175280"/>
              <a:ext cx="1440" cy="9684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855880" y="4175280"/>
              <a:ext cx="3240" cy="9684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859120" y="4175280"/>
              <a:ext cx="3240" cy="9684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862360" y="4175280"/>
              <a:ext cx="1440" cy="9684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863800" y="4175280"/>
              <a:ext cx="3240" cy="9684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867040" y="4175280"/>
              <a:ext cx="3240" cy="96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870280" y="4175280"/>
              <a:ext cx="3240" cy="9684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873520" y="4175280"/>
              <a:ext cx="1440" cy="9684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874960" y="4175280"/>
              <a:ext cx="3240" cy="9684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878200" y="4175280"/>
              <a:ext cx="3240" cy="9684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881440" y="4175280"/>
              <a:ext cx="1440" cy="9684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882880" y="4175280"/>
              <a:ext cx="3240" cy="9684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886120" y="4175280"/>
              <a:ext cx="3240" cy="9684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889360" y="4175280"/>
              <a:ext cx="1440" cy="9684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890800" y="4175280"/>
              <a:ext cx="3240" cy="968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894040" y="4175280"/>
              <a:ext cx="3240" cy="9684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897280" y="4175280"/>
              <a:ext cx="3240" cy="9684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900520" y="4175280"/>
              <a:ext cx="1440" cy="9684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901960" y="4175280"/>
              <a:ext cx="3240" cy="9684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905200" y="4175280"/>
              <a:ext cx="3240" cy="9684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908440" y="4175280"/>
              <a:ext cx="1440" cy="9684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909880" y="4175280"/>
              <a:ext cx="6480" cy="9684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916360" y="4175280"/>
              <a:ext cx="4680" cy="968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921040" y="4175280"/>
              <a:ext cx="3240" cy="968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924280" y="4175280"/>
              <a:ext cx="4680" cy="968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928960" y="4175280"/>
              <a:ext cx="6480" cy="9684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935440" y="4175280"/>
              <a:ext cx="1440" cy="9684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936880" y="4175280"/>
              <a:ext cx="3240" cy="9684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940120" y="4175280"/>
              <a:ext cx="3240" cy="9684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943360" y="4175280"/>
              <a:ext cx="1440" cy="9684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944800" y="4175280"/>
              <a:ext cx="3240" cy="9684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948040" y="4175280"/>
              <a:ext cx="3240" cy="9684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951280" y="4175280"/>
              <a:ext cx="1440" cy="968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952720" y="4175280"/>
              <a:ext cx="3240" cy="9684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955960" y="4175280"/>
              <a:ext cx="3240" cy="9684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959200" y="4175280"/>
              <a:ext cx="1440" cy="9684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960640" y="4175280"/>
              <a:ext cx="3240" cy="9684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963880" y="4175280"/>
              <a:ext cx="3240" cy="9684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967120" y="4175280"/>
              <a:ext cx="3240" cy="9684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70360" y="4175280"/>
              <a:ext cx="1440" cy="9684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971800" y="4175280"/>
              <a:ext cx="3240" cy="9684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975040" y="4175280"/>
              <a:ext cx="3240" cy="96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978280" y="4175280"/>
              <a:ext cx="1440" cy="9684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979720" y="4175280"/>
              <a:ext cx="3240" cy="9684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982960" y="4175280"/>
              <a:ext cx="3240" cy="9684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986200" y="4175280"/>
              <a:ext cx="1440" cy="9684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987640" y="4175280"/>
              <a:ext cx="3240" cy="9684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990880" y="4175280"/>
              <a:ext cx="3240" cy="9684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994120" y="4175280"/>
              <a:ext cx="3240" cy="9684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997360" y="4175280"/>
              <a:ext cx="4680" cy="9684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840040" y="4178160"/>
              <a:ext cx="16668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3257640" y="4232160"/>
              <a:ext cx="3240" cy="3996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3260880" y="4232160"/>
              <a:ext cx="1440" cy="3996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3262320" y="4232160"/>
              <a:ext cx="648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3268800" y="4232160"/>
              <a:ext cx="144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3270240" y="4232160"/>
              <a:ext cx="324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3273480" y="4232160"/>
              <a:ext cx="324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3276720" y="4232160"/>
              <a:ext cx="1440" cy="3996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3278160" y="4232160"/>
              <a:ext cx="3240" cy="3996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3281400" y="4232160"/>
              <a:ext cx="324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3284640" y="4232160"/>
              <a:ext cx="3240" cy="3996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287880" y="4232160"/>
              <a:ext cx="144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289320" y="4232160"/>
              <a:ext cx="324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3292560" y="4232160"/>
              <a:ext cx="3240" cy="3996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295800" y="4232160"/>
              <a:ext cx="1440" cy="3996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297240" y="4232160"/>
              <a:ext cx="3240" cy="3996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3300480" y="4232160"/>
              <a:ext cx="324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3303720" y="4232160"/>
              <a:ext cx="1440" cy="3996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305160" y="4232160"/>
              <a:ext cx="3240" cy="3996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3308400" y="4232160"/>
              <a:ext cx="3240" cy="399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3311640" y="4232160"/>
              <a:ext cx="144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3313080" y="4232160"/>
              <a:ext cx="3240" cy="3996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3316320" y="4232160"/>
              <a:ext cx="3240" cy="3996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319560" y="4232160"/>
              <a:ext cx="3240" cy="3996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322800" y="4232160"/>
              <a:ext cx="144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3324240" y="4232160"/>
              <a:ext cx="324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3327480" y="4232160"/>
              <a:ext cx="3240" cy="3996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3330720" y="4232160"/>
              <a:ext cx="144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332160" y="4232160"/>
              <a:ext cx="32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3" name=""/>
          <p:cNvGrpSpPr/>
          <p:nvPr/>
        </p:nvGrpSpPr>
        <p:grpSpPr>
          <a:xfrm>
            <a:off x="3260880" y="4232160"/>
            <a:ext cx="1430280" cy="182520"/>
            <a:chOff x="3260880" y="4232160"/>
            <a:chExt cx="1430280" cy="182520"/>
          </a:xfrm>
        </p:grpSpPr>
        <p:sp>
          <p:nvSpPr>
            <p:cNvPr id="1074" name=""/>
            <p:cNvSpPr/>
            <p:nvPr/>
          </p:nvSpPr>
          <p:spPr>
            <a:xfrm>
              <a:off x="3335400" y="4232160"/>
              <a:ext cx="468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3340080" y="4232160"/>
              <a:ext cx="6480" cy="399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346560" y="4232160"/>
              <a:ext cx="468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351240" y="4232160"/>
              <a:ext cx="32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354480" y="4232160"/>
              <a:ext cx="324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3357720" y="4232160"/>
              <a:ext cx="1440" cy="3996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359160" y="4232160"/>
              <a:ext cx="324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362400" y="4232160"/>
              <a:ext cx="324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365640" y="4232160"/>
              <a:ext cx="1440" cy="3996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367080" y="4232160"/>
              <a:ext cx="3240" cy="3996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370320" y="4232160"/>
              <a:ext cx="3240" cy="3996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373560" y="4232160"/>
              <a:ext cx="144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375000" y="4232160"/>
              <a:ext cx="3240" cy="399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378240" y="4232160"/>
              <a:ext cx="3240" cy="3996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381480" y="4232160"/>
              <a:ext cx="3240" cy="3996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384720" y="4232160"/>
              <a:ext cx="144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386160" y="4232160"/>
              <a:ext cx="3240" cy="3996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3389400" y="4232160"/>
              <a:ext cx="3240" cy="3996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3392640" y="4232160"/>
              <a:ext cx="1440" cy="3996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3394080" y="4232160"/>
              <a:ext cx="324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397320" y="4232160"/>
              <a:ext cx="324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3400560" y="4232160"/>
              <a:ext cx="1440" cy="3996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402000" y="4232160"/>
              <a:ext cx="324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405240" y="4232160"/>
              <a:ext cx="3240" cy="3996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408480" y="4232160"/>
              <a:ext cx="1440" cy="3996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3409920" y="4232160"/>
              <a:ext cx="324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3413160" y="4232160"/>
              <a:ext cx="324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3416400" y="4232160"/>
              <a:ext cx="324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3419640" y="4232160"/>
              <a:ext cx="468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3260880" y="4233960"/>
              <a:ext cx="168120" cy="4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3679920" y="4272120"/>
              <a:ext cx="3240" cy="4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3683160" y="4272120"/>
              <a:ext cx="1440" cy="4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3684600" y="4272120"/>
              <a:ext cx="6480" cy="4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3691080" y="4272120"/>
              <a:ext cx="1440" cy="4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3692520" y="4272120"/>
              <a:ext cx="3240" cy="4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695760" y="4272120"/>
              <a:ext cx="3240" cy="4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3699000" y="4272120"/>
              <a:ext cx="1440" cy="4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700440" y="4272120"/>
              <a:ext cx="3240" cy="4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3703680" y="4272120"/>
              <a:ext cx="3240" cy="4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706920" y="4272120"/>
              <a:ext cx="3240" cy="4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710160" y="4272120"/>
              <a:ext cx="1440" cy="4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711600" y="4272120"/>
              <a:ext cx="3240" cy="4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714840" y="4272120"/>
              <a:ext cx="3240" cy="4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3718080" y="4272120"/>
              <a:ext cx="1440" cy="4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719520" y="4272120"/>
              <a:ext cx="3240" cy="4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722760" y="4272120"/>
              <a:ext cx="3240" cy="4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726000" y="4272120"/>
              <a:ext cx="1440" cy="4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3727440" y="4272120"/>
              <a:ext cx="3240" cy="4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730680" y="4272120"/>
              <a:ext cx="3240" cy="4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3733920" y="4272120"/>
              <a:ext cx="1440" cy="4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735360" y="4272120"/>
              <a:ext cx="3240" cy="4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3738600" y="4272120"/>
              <a:ext cx="3240" cy="4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741840" y="4272120"/>
              <a:ext cx="3240" cy="4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3745080" y="4272120"/>
              <a:ext cx="1440" cy="4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746520" y="4272120"/>
              <a:ext cx="3240" cy="4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3749760" y="4272120"/>
              <a:ext cx="3240" cy="4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3753000" y="4272120"/>
              <a:ext cx="4680" cy="4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757680" y="4272120"/>
              <a:ext cx="4680" cy="4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3762360" y="4272120"/>
              <a:ext cx="3240" cy="4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765600" y="4272120"/>
              <a:ext cx="6480" cy="4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772080" y="4272120"/>
              <a:ext cx="4680" cy="4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776760" y="4272120"/>
              <a:ext cx="3240" cy="4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780000" y="4272120"/>
              <a:ext cx="1440" cy="4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3781440" y="4272120"/>
              <a:ext cx="3240" cy="4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3784680" y="4272120"/>
              <a:ext cx="3240" cy="4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787920" y="4272120"/>
              <a:ext cx="1440" cy="4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3789360" y="4272120"/>
              <a:ext cx="3240" cy="4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3792600" y="4272120"/>
              <a:ext cx="3240" cy="4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795840" y="4272120"/>
              <a:ext cx="1440" cy="4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3797280" y="4272120"/>
              <a:ext cx="3240" cy="4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3800520" y="4272120"/>
              <a:ext cx="3240" cy="4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3803760" y="4272120"/>
              <a:ext cx="3240" cy="4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3807000" y="4272120"/>
              <a:ext cx="1440" cy="4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808440" y="4272120"/>
              <a:ext cx="3240" cy="4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811680" y="4272120"/>
              <a:ext cx="3240" cy="4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3814920" y="4272120"/>
              <a:ext cx="1440" cy="4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816360" y="4272120"/>
              <a:ext cx="3240" cy="4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3819600" y="4272120"/>
              <a:ext cx="3240" cy="4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3822840" y="4272120"/>
              <a:ext cx="1440" cy="4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3824280" y="4272120"/>
              <a:ext cx="3240" cy="4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827520" y="4272120"/>
              <a:ext cx="3240" cy="4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830760" y="4272120"/>
              <a:ext cx="1440" cy="4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832200" y="4272120"/>
              <a:ext cx="3240" cy="4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3835440" y="4272120"/>
              <a:ext cx="3240" cy="4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3838680" y="4272120"/>
              <a:ext cx="4680" cy="4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683160" y="4275000"/>
              <a:ext cx="166680" cy="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4098960" y="4272120"/>
              <a:ext cx="3240" cy="139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102200" y="4272120"/>
              <a:ext cx="3240" cy="139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4105440" y="4272120"/>
              <a:ext cx="4680" cy="139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4110120" y="4272120"/>
              <a:ext cx="3240" cy="139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4113360" y="4272120"/>
              <a:ext cx="1440" cy="139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4114800" y="4272120"/>
              <a:ext cx="3240" cy="139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4118040" y="4272120"/>
              <a:ext cx="3240" cy="139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121280" y="4272120"/>
              <a:ext cx="1440" cy="139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4122720" y="4272120"/>
              <a:ext cx="3240" cy="139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125960" y="4272120"/>
              <a:ext cx="3240" cy="139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129200" y="4272120"/>
              <a:ext cx="3240" cy="139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4132440" y="4272120"/>
              <a:ext cx="1440" cy="139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133880" y="4272120"/>
              <a:ext cx="3240" cy="139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4137120" y="4272120"/>
              <a:ext cx="3240" cy="139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140360" y="4272120"/>
              <a:ext cx="1440" cy="139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4141800" y="4272120"/>
              <a:ext cx="3240" cy="139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4145040" y="4272120"/>
              <a:ext cx="3240" cy="139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148280" y="4272120"/>
              <a:ext cx="1440" cy="139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149720" y="4272120"/>
              <a:ext cx="3240" cy="139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4152960" y="4272120"/>
              <a:ext cx="3240" cy="139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4156200" y="4272120"/>
              <a:ext cx="2880" cy="139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4159080" y="4272120"/>
              <a:ext cx="1800" cy="139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160880" y="4272120"/>
              <a:ext cx="3240" cy="139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164120" y="4272120"/>
              <a:ext cx="3240" cy="139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167360" y="4272120"/>
              <a:ext cx="1440" cy="139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168800" y="4272120"/>
              <a:ext cx="3240" cy="139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172040" y="4272120"/>
              <a:ext cx="4680" cy="139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176720" y="4272120"/>
              <a:ext cx="6480" cy="139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183200" y="4272120"/>
              <a:ext cx="1440" cy="139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184640" y="4272120"/>
              <a:ext cx="6480" cy="139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191120" y="4272120"/>
              <a:ext cx="4680" cy="139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195800" y="4272120"/>
              <a:ext cx="3240" cy="139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199040" y="4272120"/>
              <a:ext cx="3240" cy="139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202280" y="4272120"/>
              <a:ext cx="1440" cy="139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203720" y="4272120"/>
              <a:ext cx="3240" cy="139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206960" y="4272120"/>
              <a:ext cx="3240" cy="139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210200" y="4272120"/>
              <a:ext cx="1440" cy="139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211640" y="4272120"/>
              <a:ext cx="3240" cy="139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4214880" y="4272120"/>
              <a:ext cx="3240" cy="139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218120" y="4272120"/>
              <a:ext cx="1440" cy="139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219560" y="4272120"/>
              <a:ext cx="3240" cy="139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222800" y="4272120"/>
              <a:ext cx="3240" cy="139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226040" y="4272120"/>
              <a:ext cx="3240" cy="139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229280" y="4272120"/>
              <a:ext cx="1440" cy="139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230720" y="4272120"/>
              <a:ext cx="3240" cy="139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233960" y="4272120"/>
              <a:ext cx="3240" cy="139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237200" y="4272120"/>
              <a:ext cx="1440" cy="139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238640" y="4272120"/>
              <a:ext cx="3240" cy="139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241880" y="4272120"/>
              <a:ext cx="3240" cy="139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245120" y="4272120"/>
              <a:ext cx="1440" cy="139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4246560" y="4272120"/>
              <a:ext cx="3240" cy="139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249800" y="4272120"/>
              <a:ext cx="3240" cy="139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253040" y="4272120"/>
              <a:ext cx="2880" cy="139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255920" y="4272120"/>
              <a:ext cx="1800" cy="139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257720" y="4272120"/>
              <a:ext cx="6480" cy="139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102200" y="4275000"/>
              <a:ext cx="1666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519440" y="4272120"/>
              <a:ext cx="1800" cy="112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4521240" y="4272120"/>
              <a:ext cx="3240" cy="112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4524480" y="4272120"/>
              <a:ext cx="4680" cy="112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529160" y="4272120"/>
              <a:ext cx="3240" cy="112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4532400" y="4272120"/>
              <a:ext cx="3240" cy="112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4535640" y="4272120"/>
              <a:ext cx="1440" cy="112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4537080" y="4272120"/>
              <a:ext cx="3240" cy="112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4540320" y="4272120"/>
              <a:ext cx="3240" cy="112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4543560" y="4272120"/>
              <a:ext cx="2880" cy="112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546440" y="4272120"/>
              <a:ext cx="1800" cy="112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548240" y="4272120"/>
              <a:ext cx="3240" cy="112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4551480" y="4272120"/>
              <a:ext cx="2880" cy="112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4554360" y="4272120"/>
              <a:ext cx="1800" cy="112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4556160" y="4272120"/>
              <a:ext cx="3240" cy="112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559400" y="4272120"/>
              <a:ext cx="3240" cy="112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562640" y="4272120"/>
              <a:ext cx="1440" cy="112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564080" y="4272120"/>
              <a:ext cx="3240" cy="1126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4567320" y="4272120"/>
              <a:ext cx="3240" cy="112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4570560" y="4272120"/>
              <a:ext cx="1440" cy="112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4572000" y="4272120"/>
              <a:ext cx="3240" cy="112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4575240" y="4272120"/>
              <a:ext cx="3240" cy="112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578480" y="4272120"/>
              <a:ext cx="2880" cy="112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4581360" y="4272120"/>
              <a:ext cx="1800" cy="112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583160" y="4272120"/>
              <a:ext cx="3240" cy="112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4586400" y="4272120"/>
              <a:ext cx="3240" cy="112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4589640" y="4272120"/>
              <a:ext cx="1440" cy="112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4591080" y="4272120"/>
              <a:ext cx="3240" cy="112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594320" y="4272120"/>
              <a:ext cx="3240" cy="112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597560" y="4272120"/>
              <a:ext cx="4680" cy="112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602240" y="4272120"/>
              <a:ext cx="4680" cy="112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606920" y="4272120"/>
              <a:ext cx="6480" cy="112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613400" y="4272120"/>
              <a:ext cx="2880" cy="112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616280" y="4272120"/>
              <a:ext cx="1800" cy="112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4618080" y="4272120"/>
              <a:ext cx="3240" cy="112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4621320" y="4272120"/>
              <a:ext cx="3240" cy="112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4624560" y="4272120"/>
              <a:ext cx="1440" cy="112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4626000" y="4272120"/>
              <a:ext cx="3240" cy="112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4629240" y="4272120"/>
              <a:ext cx="3240" cy="112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4632480" y="4272120"/>
              <a:ext cx="1440" cy="112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4633920" y="4272120"/>
              <a:ext cx="3240" cy="112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4637160" y="4272120"/>
              <a:ext cx="3240" cy="112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640400" y="4272120"/>
              <a:ext cx="2880" cy="112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4643280" y="4272120"/>
              <a:ext cx="1800" cy="112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4645080" y="4272120"/>
              <a:ext cx="3240" cy="112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648320" y="4272120"/>
              <a:ext cx="2880" cy="112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651200" y="4272120"/>
              <a:ext cx="1800" cy="112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4653000" y="4272120"/>
              <a:ext cx="3240" cy="112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4656240" y="4272120"/>
              <a:ext cx="3240" cy="112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4659480" y="4272120"/>
              <a:ext cx="1440" cy="112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4660920" y="4272120"/>
              <a:ext cx="3240" cy="112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664160" y="4272120"/>
              <a:ext cx="3240" cy="112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4667400" y="4272120"/>
              <a:ext cx="1440" cy="112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4668840" y="4272120"/>
              <a:ext cx="3240" cy="112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672080" y="4272120"/>
              <a:ext cx="3240" cy="112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4675320" y="4272120"/>
              <a:ext cx="2880" cy="112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4678200" y="4272120"/>
              <a:ext cx="1800" cy="112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4680000" y="4272120"/>
              <a:ext cx="6480" cy="112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4521240" y="4275000"/>
              <a:ext cx="169920" cy="1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74" name=""/>
          <p:cNvGrpSpPr/>
          <p:nvPr/>
        </p:nvGrpSpPr>
        <p:grpSpPr>
          <a:xfrm>
            <a:off x="4941720" y="4218120"/>
            <a:ext cx="1352880" cy="223560"/>
            <a:chOff x="4941720" y="4218120"/>
            <a:chExt cx="1352880" cy="223560"/>
          </a:xfrm>
        </p:grpSpPr>
        <p:sp>
          <p:nvSpPr>
            <p:cNvPr id="1275" name=""/>
            <p:cNvSpPr/>
            <p:nvPr/>
          </p:nvSpPr>
          <p:spPr>
            <a:xfrm>
              <a:off x="4941720" y="4272120"/>
              <a:ext cx="1800" cy="7272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943520" y="4272120"/>
              <a:ext cx="3240" cy="7272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946760" y="4272120"/>
              <a:ext cx="4680" cy="727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951440" y="4272120"/>
              <a:ext cx="3240" cy="727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4954680" y="4272120"/>
              <a:ext cx="3240" cy="727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4957920" y="4272120"/>
              <a:ext cx="1440" cy="727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4959360" y="4272120"/>
              <a:ext cx="3240" cy="727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4962600" y="4272120"/>
              <a:ext cx="3240" cy="727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4965840" y="4272120"/>
              <a:ext cx="2880" cy="727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4968720" y="4272120"/>
              <a:ext cx="1800" cy="727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4970520" y="4272120"/>
              <a:ext cx="3240" cy="727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4973760" y="4272120"/>
              <a:ext cx="2880" cy="727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4976640" y="4272120"/>
              <a:ext cx="1800" cy="727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978440" y="4272120"/>
              <a:ext cx="3240" cy="727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981680" y="4272120"/>
              <a:ext cx="3240" cy="727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4984920" y="4272120"/>
              <a:ext cx="1440" cy="727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4986360" y="4272120"/>
              <a:ext cx="3240" cy="727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4989600" y="4272120"/>
              <a:ext cx="3240" cy="727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992840" y="4272120"/>
              <a:ext cx="1440" cy="727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4994280" y="4272120"/>
              <a:ext cx="3240" cy="727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4997520" y="4272120"/>
              <a:ext cx="3240" cy="727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5000760" y="4272120"/>
              <a:ext cx="2880" cy="727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5003640" y="4272120"/>
              <a:ext cx="1800" cy="727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5005440" y="4272120"/>
              <a:ext cx="3240" cy="727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5008680" y="4272120"/>
              <a:ext cx="2880" cy="727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5011560" y="4272120"/>
              <a:ext cx="1800" cy="727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5013360" y="4272120"/>
              <a:ext cx="6480" cy="727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5019840" y="4272120"/>
              <a:ext cx="4680" cy="727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5024520" y="4272120"/>
              <a:ext cx="3240" cy="727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5027760" y="4272120"/>
              <a:ext cx="4680" cy="727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5032440" y="4272120"/>
              <a:ext cx="6120" cy="727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038560" y="4272120"/>
              <a:ext cx="1800" cy="727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040360" y="4272120"/>
              <a:ext cx="3240" cy="727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043600" y="4272120"/>
              <a:ext cx="3240" cy="727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046840" y="4272120"/>
              <a:ext cx="1440" cy="727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5048280" y="4272120"/>
              <a:ext cx="3240" cy="727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5051520" y="4272120"/>
              <a:ext cx="3240" cy="727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054760" y="4272120"/>
              <a:ext cx="1440" cy="727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056200" y="4272120"/>
              <a:ext cx="3240" cy="727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5059440" y="4272120"/>
              <a:ext cx="3240" cy="727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5062680" y="4272120"/>
              <a:ext cx="2880" cy="727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065560" y="4272120"/>
              <a:ext cx="1800" cy="727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067360" y="4272120"/>
              <a:ext cx="3240" cy="727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5070600" y="4272120"/>
              <a:ext cx="2880" cy="727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5073480" y="4272120"/>
              <a:ext cx="1800" cy="727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5075280" y="4272120"/>
              <a:ext cx="3240" cy="727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5078520" y="4272120"/>
              <a:ext cx="3240" cy="727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5081760" y="4272120"/>
              <a:ext cx="1440" cy="727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5083200" y="4272120"/>
              <a:ext cx="3240" cy="727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5086440" y="4272120"/>
              <a:ext cx="3240" cy="727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5089680" y="4272120"/>
              <a:ext cx="1440" cy="727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5091120" y="4272120"/>
              <a:ext cx="3240" cy="727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5094360" y="4272120"/>
              <a:ext cx="3240" cy="727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5097600" y="4272120"/>
              <a:ext cx="2880" cy="727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5100480" y="4272120"/>
              <a:ext cx="5040" cy="727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4943520" y="4275000"/>
              <a:ext cx="16668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5361120" y="4272120"/>
              <a:ext cx="2880" cy="166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5364000" y="4272120"/>
              <a:ext cx="1800" cy="166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5365800" y="4272120"/>
              <a:ext cx="6480" cy="166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5372280" y="4272120"/>
              <a:ext cx="1440" cy="166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5373720" y="4272120"/>
              <a:ext cx="3240" cy="166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5376960" y="4272120"/>
              <a:ext cx="3240" cy="166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5380200" y="4272120"/>
              <a:ext cx="1440" cy="166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5381640" y="4272120"/>
              <a:ext cx="3240" cy="166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5384880" y="4272120"/>
              <a:ext cx="3240" cy="166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5388120" y="4272120"/>
              <a:ext cx="2880" cy="166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5391000" y="4272120"/>
              <a:ext cx="1800" cy="166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5392800" y="4272120"/>
              <a:ext cx="3240" cy="166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5396040" y="4272120"/>
              <a:ext cx="2880" cy="166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5398920" y="4272120"/>
              <a:ext cx="1800" cy="166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5400720" y="4272120"/>
              <a:ext cx="3240" cy="166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5403960" y="4272120"/>
              <a:ext cx="3240" cy="166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5407200" y="4272120"/>
              <a:ext cx="1440" cy="1666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5408640" y="4272120"/>
              <a:ext cx="3240" cy="166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5411880" y="4272120"/>
              <a:ext cx="3240" cy="166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5415120" y="4272120"/>
              <a:ext cx="2880" cy="166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5418000" y="4272120"/>
              <a:ext cx="1800" cy="166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5419800" y="4272120"/>
              <a:ext cx="3240" cy="166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5423040" y="4272120"/>
              <a:ext cx="2880" cy="166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5425920" y="4272120"/>
              <a:ext cx="1800" cy="166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5427720" y="4272120"/>
              <a:ext cx="3240" cy="166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5430960" y="4272120"/>
              <a:ext cx="2880" cy="166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5433840" y="4272120"/>
              <a:ext cx="1800" cy="166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5435640" y="4272120"/>
              <a:ext cx="3240" cy="166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5438880" y="4272120"/>
              <a:ext cx="4680" cy="166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5443560" y="4272120"/>
              <a:ext cx="6480" cy="166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5450040" y="4272120"/>
              <a:ext cx="4680" cy="166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5454720" y="4272120"/>
              <a:ext cx="3240" cy="166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5457960" y="4272120"/>
              <a:ext cx="2880" cy="166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5460840" y="4272120"/>
              <a:ext cx="1800" cy="166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5462640" y="4272120"/>
              <a:ext cx="3240" cy="166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5465880" y="4272120"/>
              <a:ext cx="2880" cy="166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5468760" y="4272120"/>
              <a:ext cx="1800" cy="166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5470560" y="4272120"/>
              <a:ext cx="3240" cy="166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5473800" y="4272120"/>
              <a:ext cx="3240" cy="166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5477040" y="4272120"/>
              <a:ext cx="1440" cy="166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5478480" y="4272120"/>
              <a:ext cx="3240" cy="166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5481720" y="4272120"/>
              <a:ext cx="3240" cy="166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5484960" y="4272120"/>
              <a:ext cx="2880" cy="166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487840" y="4272120"/>
              <a:ext cx="1800" cy="166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5489640" y="4272120"/>
              <a:ext cx="3240" cy="166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5492880" y="4272120"/>
              <a:ext cx="2880" cy="166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5495760" y="4272120"/>
              <a:ext cx="1800" cy="166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5497560" y="4272120"/>
              <a:ext cx="3240" cy="166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5500800" y="4272120"/>
              <a:ext cx="3240" cy="166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5504040" y="4272120"/>
              <a:ext cx="1440" cy="166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5505480" y="4272120"/>
              <a:ext cx="3240" cy="166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5508720" y="4272120"/>
              <a:ext cx="3240" cy="166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5511960" y="4272120"/>
              <a:ext cx="2880" cy="166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5514840" y="4272120"/>
              <a:ext cx="1800" cy="166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5516640" y="4272120"/>
              <a:ext cx="3240" cy="166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5519880" y="4272120"/>
              <a:ext cx="2880" cy="166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5522760" y="4272120"/>
              <a:ext cx="5040" cy="166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364000" y="4275000"/>
              <a:ext cx="16848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5783400" y="4232160"/>
              <a:ext cx="2880" cy="3996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5786280" y="4232160"/>
              <a:ext cx="1800" cy="3996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5788080" y="4232160"/>
              <a:ext cx="612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794200" y="4232160"/>
              <a:ext cx="180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796000" y="4232160"/>
              <a:ext cx="324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799240" y="4232160"/>
              <a:ext cx="324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802480" y="4232160"/>
              <a:ext cx="2880" cy="3996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5805360" y="4232160"/>
              <a:ext cx="1800" cy="3996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5807160" y="4232160"/>
              <a:ext cx="324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5810400" y="4232160"/>
              <a:ext cx="2880" cy="3996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5813280" y="4232160"/>
              <a:ext cx="180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5815080" y="4232160"/>
              <a:ext cx="324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5818320" y="4232160"/>
              <a:ext cx="2880" cy="3996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5821200" y="4232160"/>
              <a:ext cx="1800" cy="3996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5823000" y="4232160"/>
              <a:ext cx="3240" cy="3996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5826240" y="4232160"/>
              <a:ext cx="324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5829480" y="4232160"/>
              <a:ext cx="1440" cy="3996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830920" y="4232160"/>
              <a:ext cx="3240" cy="3996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5834160" y="4232160"/>
              <a:ext cx="3240" cy="3996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5837400" y="4232160"/>
              <a:ext cx="288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5840280" y="4232160"/>
              <a:ext cx="1800" cy="3996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5842080" y="4232160"/>
              <a:ext cx="3240" cy="3996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5845320" y="4232160"/>
              <a:ext cx="288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5848200" y="4232160"/>
              <a:ext cx="1800" cy="3996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850000" y="4232160"/>
              <a:ext cx="324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5853240" y="4232160"/>
              <a:ext cx="288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5856120" y="4232160"/>
              <a:ext cx="50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5861160" y="4232160"/>
              <a:ext cx="468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5865840" y="4232160"/>
              <a:ext cx="3240" cy="399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5869080" y="4232160"/>
              <a:ext cx="612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5875200" y="4232160"/>
              <a:ext cx="50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5880240" y="4232160"/>
              <a:ext cx="288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5883120" y="4232160"/>
              <a:ext cx="180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5884920" y="4232160"/>
              <a:ext cx="3240" cy="3996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5888160" y="4232160"/>
              <a:ext cx="288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5891040" y="4232160"/>
              <a:ext cx="1800" cy="3996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5892840" y="4232160"/>
              <a:ext cx="3240" cy="3996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5896080" y="4232160"/>
              <a:ext cx="324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899320" y="4232160"/>
              <a:ext cx="2880" cy="3996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5902200" y="4232160"/>
              <a:ext cx="1800" cy="3996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5904000" y="4232160"/>
              <a:ext cx="3240" cy="3996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5907240" y="4232160"/>
              <a:ext cx="288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5910120" y="4232160"/>
              <a:ext cx="1800" cy="3996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5911920" y="4232160"/>
              <a:ext cx="3240" cy="3996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5915160" y="4232160"/>
              <a:ext cx="2880" cy="3996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5918040" y="4232160"/>
              <a:ext cx="180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5919840" y="4232160"/>
              <a:ext cx="324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5923080" y="4232160"/>
              <a:ext cx="2880" cy="3996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5925960" y="4232160"/>
              <a:ext cx="180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5927760" y="4232160"/>
              <a:ext cx="3240" cy="3996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5931000" y="4232160"/>
              <a:ext cx="3240" cy="3996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934240" y="4232160"/>
              <a:ext cx="288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937120" y="4232160"/>
              <a:ext cx="180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5938920" y="4232160"/>
              <a:ext cx="324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942160" y="4232160"/>
              <a:ext cx="468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5786280" y="4233960"/>
              <a:ext cx="166680" cy="4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6202440" y="4218120"/>
              <a:ext cx="3240" cy="5400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6205680" y="4218120"/>
              <a:ext cx="2880" cy="5400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6208560" y="4218120"/>
              <a:ext cx="5040" cy="5400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6213600" y="4218120"/>
              <a:ext cx="2880" cy="5400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6216480" y="4218120"/>
              <a:ext cx="1800" cy="5400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6218280" y="4218120"/>
              <a:ext cx="3240" cy="5400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6221520" y="4218120"/>
              <a:ext cx="3240" cy="5400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6224760" y="4218120"/>
              <a:ext cx="2880" cy="5400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6227640" y="4218120"/>
              <a:ext cx="1800" cy="5400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6229440" y="4218120"/>
              <a:ext cx="3240" cy="5400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6232680" y="4218120"/>
              <a:ext cx="2880" cy="54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6235560" y="4218120"/>
              <a:ext cx="1800" cy="5400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6237360" y="4218120"/>
              <a:ext cx="3240" cy="5400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6240600" y="4218120"/>
              <a:ext cx="2880" cy="5400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6243480" y="4218120"/>
              <a:ext cx="1800" cy="5400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6245280" y="4218120"/>
              <a:ext cx="3240" cy="5400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6248520" y="4218120"/>
              <a:ext cx="2880" cy="5400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6251400" y="4218120"/>
              <a:ext cx="1800" cy="5400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6253200" y="4218120"/>
              <a:ext cx="3240" cy="5400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6256440" y="4218120"/>
              <a:ext cx="3240" cy="540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6259680" y="4218120"/>
              <a:ext cx="2880" cy="5400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6262560" y="4218120"/>
              <a:ext cx="1800" cy="5400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6264360" y="4218120"/>
              <a:ext cx="3240" cy="5400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6267600" y="4218120"/>
              <a:ext cx="2880" cy="5400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6270480" y="4218120"/>
              <a:ext cx="1800" cy="5400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6272280" y="4218120"/>
              <a:ext cx="3240" cy="5400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6275520" y="4218120"/>
              <a:ext cx="4680" cy="5400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6280200" y="4218120"/>
              <a:ext cx="6480" cy="5400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6286680" y="4218120"/>
              <a:ext cx="2880" cy="5400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6289560" y="4218120"/>
              <a:ext cx="5040" cy="5400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75" name=""/>
          <p:cNvGrpSpPr/>
          <p:nvPr/>
        </p:nvGrpSpPr>
        <p:grpSpPr>
          <a:xfrm>
            <a:off x="6205680" y="3895560"/>
            <a:ext cx="1685880" cy="379440"/>
            <a:chOff x="6205680" y="3895560"/>
            <a:chExt cx="1685880" cy="379440"/>
          </a:xfrm>
        </p:grpSpPr>
        <p:sp>
          <p:nvSpPr>
            <p:cNvPr id="1476" name=""/>
            <p:cNvSpPr/>
            <p:nvPr/>
          </p:nvSpPr>
          <p:spPr>
            <a:xfrm>
              <a:off x="6294600" y="4218120"/>
              <a:ext cx="4680" cy="5400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6299280" y="4218120"/>
              <a:ext cx="3240" cy="5400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6302520" y="4218120"/>
              <a:ext cx="2880" cy="5400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305400" y="4218120"/>
              <a:ext cx="1800" cy="5400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6307200" y="4218120"/>
              <a:ext cx="3240" cy="5400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6310440" y="4218120"/>
              <a:ext cx="2880" cy="5400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6313320" y="4218120"/>
              <a:ext cx="1800" cy="5400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6315120" y="4218120"/>
              <a:ext cx="3240" cy="540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6318360" y="4218120"/>
              <a:ext cx="3240" cy="5400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6321600" y="4218120"/>
              <a:ext cx="2880" cy="5400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6324480" y="4218120"/>
              <a:ext cx="1800" cy="5400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6326280" y="4218120"/>
              <a:ext cx="3240" cy="5400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6329520" y="4218120"/>
              <a:ext cx="2880" cy="5400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6332400" y="4218120"/>
              <a:ext cx="1800" cy="5400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6334200" y="4218120"/>
              <a:ext cx="3240" cy="5400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6337440" y="4218120"/>
              <a:ext cx="2880" cy="5400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6340320" y="4218120"/>
              <a:ext cx="1800" cy="54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6342120" y="4218120"/>
              <a:ext cx="3240" cy="5400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6345360" y="4218120"/>
              <a:ext cx="2880" cy="5400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6348240" y="4218120"/>
              <a:ext cx="1800" cy="5400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6350040" y="4218120"/>
              <a:ext cx="3240" cy="5400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6353280" y="4218120"/>
              <a:ext cx="3240" cy="5400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6356520" y="4218120"/>
              <a:ext cx="2880" cy="5400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6359400" y="4218120"/>
              <a:ext cx="1800" cy="5400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6361200" y="4218120"/>
              <a:ext cx="6120" cy="5400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6205680" y="4221000"/>
              <a:ext cx="166680" cy="5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6622920" y="4199040"/>
              <a:ext cx="1800" cy="730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6624720" y="4199040"/>
              <a:ext cx="3240" cy="730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6627960" y="4199040"/>
              <a:ext cx="4680" cy="730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6632640" y="4199040"/>
              <a:ext cx="3240" cy="730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6635880" y="4199040"/>
              <a:ext cx="2880" cy="730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6638760" y="4199040"/>
              <a:ext cx="1800" cy="730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6640560" y="4199040"/>
              <a:ext cx="3240" cy="730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6643800" y="4199040"/>
              <a:ext cx="3240" cy="730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6647040" y="4199040"/>
              <a:ext cx="2880" cy="730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6649920" y="4199040"/>
              <a:ext cx="1800" cy="730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6651720" y="4199040"/>
              <a:ext cx="3240" cy="73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6654960" y="4199040"/>
              <a:ext cx="2880" cy="730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6657840" y="4199040"/>
              <a:ext cx="1800" cy="730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6659640" y="4199040"/>
              <a:ext cx="3240" cy="730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6662880" y="4199040"/>
              <a:ext cx="2880" cy="730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6665760" y="4199040"/>
              <a:ext cx="1800" cy="730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6667560" y="4199040"/>
              <a:ext cx="3240" cy="730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6670800" y="4199040"/>
              <a:ext cx="2880" cy="730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6673680" y="4199040"/>
              <a:ext cx="3240" cy="73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6676920" y="4199040"/>
              <a:ext cx="1800" cy="730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6678720" y="4199040"/>
              <a:ext cx="3240" cy="730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6681960" y="4199040"/>
              <a:ext cx="2880" cy="730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6684840" y="4199040"/>
              <a:ext cx="1800" cy="730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6686640" y="4199040"/>
              <a:ext cx="3240" cy="730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6689880" y="4199040"/>
              <a:ext cx="2880" cy="730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6692760" y="4199040"/>
              <a:ext cx="1800" cy="730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6694560" y="4199040"/>
              <a:ext cx="3240" cy="730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6697800" y="4199040"/>
              <a:ext cx="2880" cy="730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6700680" y="4199040"/>
              <a:ext cx="5040" cy="730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6705720" y="4199040"/>
              <a:ext cx="6120" cy="730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6711840" y="4199040"/>
              <a:ext cx="5040" cy="730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6716880" y="4199040"/>
              <a:ext cx="2880" cy="730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6719760" y="4199040"/>
              <a:ext cx="1800" cy="730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6721560" y="4199040"/>
              <a:ext cx="3240" cy="730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6724800" y="4199040"/>
              <a:ext cx="2880" cy="730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6727680" y="4199040"/>
              <a:ext cx="1800" cy="730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6729480" y="4199040"/>
              <a:ext cx="3240" cy="730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6732720" y="4199040"/>
              <a:ext cx="2880" cy="730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6735600" y="4199040"/>
              <a:ext cx="1800" cy="730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6737400" y="4199040"/>
              <a:ext cx="3240" cy="730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6740640" y="4199040"/>
              <a:ext cx="3240" cy="73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6743880" y="4199040"/>
              <a:ext cx="2880" cy="730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6746760" y="4199040"/>
              <a:ext cx="1800" cy="730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6748560" y="4199040"/>
              <a:ext cx="3240" cy="730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6751800" y="4199040"/>
              <a:ext cx="2880" cy="730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6754680" y="4199040"/>
              <a:ext cx="1800" cy="730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6756480" y="4199040"/>
              <a:ext cx="3240" cy="730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6759720" y="4199040"/>
              <a:ext cx="2880" cy="730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6762600" y="4199040"/>
              <a:ext cx="1800" cy="73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6764400" y="4199040"/>
              <a:ext cx="3240" cy="730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6767640" y="4199040"/>
              <a:ext cx="2880" cy="730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6770520" y="4199040"/>
              <a:ext cx="3240" cy="730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6773760" y="4199040"/>
              <a:ext cx="1800" cy="730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6775560" y="4199040"/>
              <a:ext cx="3240" cy="730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6778800" y="4199040"/>
              <a:ext cx="2880" cy="730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6781680" y="4199040"/>
              <a:ext cx="1800" cy="730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6783480" y="4199040"/>
              <a:ext cx="6120" cy="730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6624720" y="4202280"/>
              <a:ext cx="169920" cy="7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7045200" y="4129200"/>
              <a:ext cx="1800" cy="14292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7047000" y="4129200"/>
              <a:ext cx="3240" cy="14292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7050240" y="4129200"/>
              <a:ext cx="468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7054920" y="4129200"/>
              <a:ext cx="324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7058160" y="4129200"/>
              <a:ext cx="288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7061040" y="4129200"/>
              <a:ext cx="324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7064280" y="4129200"/>
              <a:ext cx="1800" cy="1429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7066080" y="4129200"/>
              <a:ext cx="2880" cy="1429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7068960" y="4129200"/>
              <a:ext cx="32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7072200" y="4129200"/>
              <a:ext cx="1800" cy="1429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7074000" y="4129200"/>
              <a:ext cx="324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7077240" y="4129200"/>
              <a:ext cx="288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7080120" y="4129200"/>
              <a:ext cx="1800" cy="1429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7081920" y="4129200"/>
              <a:ext cx="3240" cy="1429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7085160" y="4129200"/>
              <a:ext cx="2880" cy="1429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7088040" y="4129200"/>
              <a:ext cx="180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7089840" y="4129200"/>
              <a:ext cx="3240" cy="1429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7093080" y="4129200"/>
              <a:ext cx="2880" cy="1429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7095960" y="4129200"/>
              <a:ext cx="3240" cy="1429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7099200" y="4129200"/>
              <a:ext cx="180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7101000" y="4129200"/>
              <a:ext cx="3240" cy="1429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7104240" y="4129200"/>
              <a:ext cx="2880" cy="1429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7107120" y="4129200"/>
              <a:ext cx="180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7108920" y="4129200"/>
              <a:ext cx="3240" cy="1429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7112160" y="4129200"/>
              <a:ext cx="288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7115040" y="4129200"/>
              <a:ext cx="180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7116840" y="4129200"/>
              <a:ext cx="612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7122960" y="4129200"/>
              <a:ext cx="504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7128000" y="4129200"/>
              <a:ext cx="2880" cy="1429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7130880" y="4129200"/>
              <a:ext cx="504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7135920" y="4129200"/>
              <a:ext cx="612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7142040" y="4129200"/>
              <a:ext cx="180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7143840" y="4129200"/>
              <a:ext cx="324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7147080" y="4129200"/>
              <a:ext cx="2880" cy="1429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7149960" y="4129200"/>
              <a:ext cx="180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7151760" y="4129200"/>
              <a:ext cx="3240" cy="1429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7155000" y="4129200"/>
              <a:ext cx="2880" cy="1429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7157880" y="4129200"/>
              <a:ext cx="324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7161120" y="4129200"/>
              <a:ext cx="1800" cy="1429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7162920" y="4129200"/>
              <a:ext cx="2880" cy="1429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7165800" y="4129200"/>
              <a:ext cx="3240" cy="1429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7169040" y="4129200"/>
              <a:ext cx="180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7170840" y="4129200"/>
              <a:ext cx="3240" cy="1429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7174080" y="4129200"/>
              <a:ext cx="2880" cy="1429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7176960" y="4129200"/>
              <a:ext cx="1800" cy="1429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7178760" y="4129200"/>
              <a:ext cx="324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7182000" y="4129200"/>
              <a:ext cx="288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7184880" y="4129200"/>
              <a:ext cx="1800" cy="1429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7186680" y="4129200"/>
              <a:ext cx="32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7189920" y="4129200"/>
              <a:ext cx="2880" cy="1429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7192800" y="4129200"/>
              <a:ext cx="3240" cy="1429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7196040" y="4129200"/>
              <a:ext cx="180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7197840" y="4129200"/>
              <a:ext cx="324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7201080" y="4129200"/>
              <a:ext cx="288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7203960" y="4129200"/>
              <a:ext cx="504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7047000" y="4132440"/>
              <a:ext cx="166680" cy="1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7464600" y="4078440"/>
              <a:ext cx="2880" cy="193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7467480" y="4078440"/>
              <a:ext cx="1800" cy="193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7469280" y="4078440"/>
              <a:ext cx="6120" cy="193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7475400" y="4078440"/>
              <a:ext cx="1800" cy="193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7477200" y="4078440"/>
              <a:ext cx="3240" cy="193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7480440" y="4078440"/>
              <a:ext cx="2880" cy="193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7483320" y="4078440"/>
              <a:ext cx="3240" cy="193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7486560" y="4078440"/>
              <a:ext cx="1800" cy="193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7488360" y="4078440"/>
              <a:ext cx="2880" cy="193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7491240" y="4078440"/>
              <a:ext cx="3240" cy="193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7494480" y="4078440"/>
              <a:ext cx="1800" cy="193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7496280" y="4078440"/>
              <a:ext cx="3240" cy="193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7499520" y="4078440"/>
              <a:ext cx="2880" cy="193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7502400" y="4078440"/>
              <a:ext cx="1800" cy="193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7504200" y="4078440"/>
              <a:ext cx="3240" cy="193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7507440" y="4078440"/>
              <a:ext cx="2880" cy="193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7510320" y="4078440"/>
              <a:ext cx="1800" cy="1936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7512120" y="4078440"/>
              <a:ext cx="3240" cy="193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7515360" y="4078440"/>
              <a:ext cx="2880" cy="193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7518240" y="4078440"/>
              <a:ext cx="3240" cy="193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7521480" y="4078440"/>
              <a:ext cx="1800" cy="193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7523280" y="4078440"/>
              <a:ext cx="2880" cy="193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7526160" y="4078440"/>
              <a:ext cx="3240" cy="193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7529400" y="4078440"/>
              <a:ext cx="1800" cy="193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7531200" y="4078440"/>
              <a:ext cx="3240" cy="193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7534440" y="4078440"/>
              <a:ext cx="2880" cy="193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7537320" y="4078440"/>
              <a:ext cx="1800" cy="193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7539120" y="4078440"/>
              <a:ext cx="3240" cy="193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7542360" y="4078440"/>
              <a:ext cx="6120" cy="193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7548480" y="4078440"/>
              <a:ext cx="4680" cy="193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7553160" y="4078440"/>
              <a:ext cx="5040" cy="193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7558200" y="4078440"/>
              <a:ext cx="3240" cy="193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7561440" y="4078440"/>
              <a:ext cx="2880" cy="193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7564320" y="4078440"/>
              <a:ext cx="1800" cy="193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7566120" y="4078440"/>
              <a:ext cx="3240" cy="193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7569360" y="4078440"/>
              <a:ext cx="2880" cy="193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7572240" y="4078440"/>
              <a:ext cx="1800" cy="193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7574040" y="4078440"/>
              <a:ext cx="3240" cy="193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7577280" y="4078440"/>
              <a:ext cx="2880" cy="193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7580160" y="4078440"/>
              <a:ext cx="3240" cy="193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7583400" y="4078440"/>
              <a:ext cx="1800" cy="193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7585200" y="4078440"/>
              <a:ext cx="2880" cy="193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7588080" y="4078440"/>
              <a:ext cx="3240" cy="193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7591320" y="4078440"/>
              <a:ext cx="1800" cy="193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7593120" y="4078440"/>
              <a:ext cx="3240" cy="193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7596360" y="4078440"/>
              <a:ext cx="2880" cy="193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7599240" y="4078440"/>
              <a:ext cx="1800" cy="193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7601040" y="4078440"/>
              <a:ext cx="3240" cy="193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7604280" y="4078440"/>
              <a:ext cx="2880" cy="193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7607160" y="4078440"/>
              <a:ext cx="1800" cy="193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7608960" y="4078440"/>
              <a:ext cx="3240" cy="193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7612200" y="4078440"/>
              <a:ext cx="2880" cy="193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7615080" y="4078440"/>
              <a:ext cx="3240" cy="193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7618320" y="4078440"/>
              <a:ext cx="1800" cy="193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7620120" y="4078440"/>
              <a:ext cx="2880" cy="193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7623000" y="4078440"/>
              <a:ext cx="3240" cy="193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7626240" y="4078440"/>
              <a:ext cx="5040" cy="193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7467480" y="4081320"/>
              <a:ext cx="16848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7886880" y="3895560"/>
              <a:ext cx="2880" cy="37656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7889760" y="3895560"/>
              <a:ext cx="1800" cy="37656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76" name=""/>
          <p:cNvSpPr/>
          <p:nvPr/>
        </p:nvSpPr>
        <p:spPr>
          <a:xfrm>
            <a:off x="7891560" y="3895560"/>
            <a:ext cx="6120" cy="376560"/>
          </a:xfrm>
          <a:prstGeom prst="rect">
            <a:avLst/>
          </a:prstGeom>
          <a:solidFill>
            <a:srgbClr val="70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7" name=""/>
          <p:cNvSpPr/>
          <p:nvPr/>
        </p:nvSpPr>
        <p:spPr>
          <a:xfrm>
            <a:off x="7897680" y="3895560"/>
            <a:ext cx="1800" cy="376560"/>
          </a:xfrm>
          <a:prstGeom prst="rect">
            <a:avLst/>
          </a:prstGeom>
          <a:solidFill>
            <a:srgbClr val="71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8" name=""/>
          <p:cNvSpPr/>
          <p:nvPr/>
        </p:nvSpPr>
        <p:spPr>
          <a:xfrm>
            <a:off x="7899480" y="3895560"/>
            <a:ext cx="3240" cy="376560"/>
          </a:xfrm>
          <a:prstGeom prst="rect">
            <a:avLst/>
          </a:prstGeom>
          <a:solidFill>
            <a:srgbClr val="7373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9" name=""/>
          <p:cNvSpPr/>
          <p:nvPr/>
        </p:nvSpPr>
        <p:spPr>
          <a:xfrm>
            <a:off x="7902720" y="3895560"/>
            <a:ext cx="2880" cy="376560"/>
          </a:xfrm>
          <a:prstGeom prst="rect">
            <a:avLst/>
          </a:prstGeom>
          <a:solidFill>
            <a:srgbClr val="75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0" name=""/>
          <p:cNvSpPr/>
          <p:nvPr/>
        </p:nvSpPr>
        <p:spPr>
          <a:xfrm>
            <a:off x="7905600" y="3895560"/>
            <a:ext cx="3240" cy="37656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1" name=""/>
          <p:cNvSpPr/>
          <p:nvPr/>
        </p:nvSpPr>
        <p:spPr>
          <a:xfrm>
            <a:off x="7908840" y="3895560"/>
            <a:ext cx="1800" cy="376560"/>
          </a:xfrm>
          <a:prstGeom prst="rect">
            <a:avLst/>
          </a:prstGeom>
          <a:solidFill>
            <a:srgbClr val="7979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2" name=""/>
          <p:cNvSpPr/>
          <p:nvPr/>
        </p:nvSpPr>
        <p:spPr>
          <a:xfrm>
            <a:off x="7910640" y="3895560"/>
            <a:ext cx="2880" cy="376560"/>
          </a:xfrm>
          <a:prstGeom prst="rect">
            <a:avLst/>
          </a:prstGeom>
          <a:solidFill>
            <a:srgbClr val="7b7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>
            <a:off x="7913520" y="3895560"/>
            <a:ext cx="3240" cy="376560"/>
          </a:xfrm>
          <a:prstGeom prst="rect">
            <a:avLst/>
          </a:prstGeom>
          <a:solidFill>
            <a:srgbClr val="7e7e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4" name=""/>
          <p:cNvSpPr/>
          <p:nvPr/>
        </p:nvSpPr>
        <p:spPr>
          <a:xfrm>
            <a:off x="7916760" y="3895560"/>
            <a:ext cx="1800" cy="376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>
            <a:off x="7918560" y="3895560"/>
            <a:ext cx="3240" cy="376560"/>
          </a:xfrm>
          <a:prstGeom prst="rect">
            <a:avLst/>
          </a:prstGeom>
          <a:solidFill>
            <a:srgbClr val="838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6" name=""/>
          <p:cNvSpPr/>
          <p:nvPr/>
        </p:nvSpPr>
        <p:spPr>
          <a:xfrm>
            <a:off x="7921800" y="3895560"/>
            <a:ext cx="2880" cy="376560"/>
          </a:xfrm>
          <a:prstGeom prst="rect">
            <a:avLst/>
          </a:prstGeom>
          <a:solidFill>
            <a:srgbClr val="8686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>
            <a:off x="7924680" y="3895560"/>
            <a:ext cx="1800" cy="376560"/>
          </a:xfrm>
          <a:prstGeom prst="rect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>
            <a:off x="7926480" y="3895560"/>
            <a:ext cx="3240" cy="37656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7929720" y="3895560"/>
            <a:ext cx="2880" cy="376560"/>
          </a:xfrm>
          <a:prstGeom prst="rect">
            <a:avLst/>
          </a:prstGeom>
          <a:solidFill>
            <a:srgbClr val="8e8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7932600" y="3895560"/>
            <a:ext cx="3240" cy="37656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>
            <a:off x="7935840" y="3895560"/>
            <a:ext cx="1800" cy="37656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7937640" y="3895560"/>
            <a:ext cx="2880" cy="376560"/>
          </a:xfrm>
          <a:prstGeom prst="rect">
            <a:avLst/>
          </a:prstGeom>
          <a:solidFill>
            <a:srgbClr val="97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7940520" y="3895560"/>
            <a:ext cx="3240" cy="37656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>
            <a:off x="7943760" y="3895560"/>
            <a:ext cx="1800" cy="376560"/>
          </a:xfrm>
          <a:prstGeom prst="rect">
            <a:avLst/>
          </a:prstGeom>
          <a:solidFill>
            <a:srgbClr val="9b9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7945560" y="3895560"/>
            <a:ext cx="2880" cy="376560"/>
          </a:xfrm>
          <a:prstGeom prst="rect">
            <a:avLst/>
          </a:prstGeom>
          <a:solidFill>
            <a:srgbClr val="9d9d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7948440" y="3895560"/>
            <a:ext cx="3240" cy="376560"/>
          </a:xfrm>
          <a:prstGeom prst="rect">
            <a:avLst/>
          </a:pr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7951680" y="3895560"/>
            <a:ext cx="1800" cy="37656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7953480" y="3895560"/>
            <a:ext cx="3240" cy="376560"/>
          </a:xfrm>
          <a:prstGeom prst="rect">
            <a:avLst/>
          </a:prstGeom>
          <a:solidFill>
            <a:srgbClr val="a1a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7956720" y="3895560"/>
            <a:ext cx="2880" cy="376560"/>
          </a:xfrm>
          <a:prstGeom prst="rect">
            <a:avLst/>
          </a:prstGeom>
          <a:solidFill>
            <a:srgbClr val="a3a3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7959600" y="3895560"/>
            <a:ext cx="5040" cy="37656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7964640" y="3895560"/>
            <a:ext cx="6120" cy="3765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7970760" y="3895560"/>
            <a:ext cx="1800" cy="37656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7972560" y="3895560"/>
            <a:ext cx="6120" cy="3765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7978680" y="3895560"/>
            <a:ext cx="4680" cy="37656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>
            <a:off x="7983360" y="3895560"/>
            <a:ext cx="3240" cy="376560"/>
          </a:xfrm>
          <a:prstGeom prst="rect">
            <a:avLst/>
          </a:prstGeom>
          <a:solidFill>
            <a:srgbClr val="a3a3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>
            <a:off x="7986600" y="3895560"/>
            <a:ext cx="1800" cy="376560"/>
          </a:xfrm>
          <a:prstGeom prst="rect">
            <a:avLst/>
          </a:prstGeom>
          <a:solidFill>
            <a:srgbClr val="a1a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7988400" y="3895560"/>
            <a:ext cx="3240" cy="37656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7991640" y="3895560"/>
            <a:ext cx="2880" cy="376560"/>
          </a:xfrm>
          <a:prstGeom prst="rect">
            <a:avLst/>
          </a:pr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7994520" y="3895560"/>
            <a:ext cx="1800" cy="376560"/>
          </a:xfrm>
          <a:prstGeom prst="rect">
            <a:avLst/>
          </a:prstGeom>
          <a:solidFill>
            <a:srgbClr val="9d9d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>
            <a:off x="7996320" y="3895560"/>
            <a:ext cx="3240" cy="376560"/>
          </a:xfrm>
          <a:prstGeom prst="rect">
            <a:avLst/>
          </a:prstGeom>
          <a:solidFill>
            <a:srgbClr val="9b9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7999560" y="3895560"/>
            <a:ext cx="2880" cy="37656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>
            <a:off x="8002440" y="3895560"/>
            <a:ext cx="3240" cy="376560"/>
          </a:xfrm>
          <a:prstGeom prst="rect">
            <a:avLst/>
          </a:prstGeom>
          <a:solidFill>
            <a:srgbClr val="97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>
            <a:off x="8005680" y="3895560"/>
            <a:ext cx="1800" cy="37656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>
            <a:off x="8007480" y="3895560"/>
            <a:ext cx="2880" cy="37656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8010360" y="3895560"/>
            <a:ext cx="3240" cy="376560"/>
          </a:xfrm>
          <a:prstGeom prst="rect">
            <a:avLst/>
          </a:prstGeom>
          <a:solidFill>
            <a:srgbClr val="8e8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>
            <a:off x="8013600" y="3895560"/>
            <a:ext cx="1800" cy="37656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>
            <a:off x="8015400" y="3895560"/>
            <a:ext cx="3240" cy="376560"/>
          </a:xfrm>
          <a:prstGeom prst="rect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8018640" y="3895560"/>
            <a:ext cx="2880" cy="376560"/>
          </a:xfrm>
          <a:prstGeom prst="rect">
            <a:avLst/>
          </a:prstGeom>
          <a:solidFill>
            <a:srgbClr val="8686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8021520" y="3895560"/>
            <a:ext cx="1800" cy="376560"/>
          </a:xfrm>
          <a:prstGeom prst="rect">
            <a:avLst/>
          </a:prstGeom>
          <a:solidFill>
            <a:srgbClr val="838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>
            <a:off x="8023320" y="3895560"/>
            <a:ext cx="3240" cy="376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>
            <a:off x="8026560" y="3895560"/>
            <a:ext cx="2880" cy="376560"/>
          </a:xfrm>
          <a:prstGeom prst="rect">
            <a:avLst/>
          </a:prstGeom>
          <a:solidFill>
            <a:srgbClr val="7e7e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>
            <a:off x="8029440" y="3895560"/>
            <a:ext cx="3240" cy="376560"/>
          </a:xfrm>
          <a:prstGeom prst="rect">
            <a:avLst/>
          </a:prstGeom>
          <a:solidFill>
            <a:srgbClr val="7b7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>
            <a:off x="8032680" y="3895560"/>
            <a:ext cx="1800" cy="376560"/>
          </a:xfrm>
          <a:prstGeom prst="rect">
            <a:avLst/>
          </a:prstGeom>
          <a:solidFill>
            <a:srgbClr val="7979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>
            <a:off x="8034480" y="3895560"/>
            <a:ext cx="2880" cy="37656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>
            <a:off x="8037360" y="3895560"/>
            <a:ext cx="3240" cy="376560"/>
          </a:xfrm>
          <a:prstGeom prst="rect">
            <a:avLst/>
          </a:prstGeom>
          <a:solidFill>
            <a:srgbClr val="75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6" name=""/>
          <p:cNvSpPr/>
          <p:nvPr/>
        </p:nvSpPr>
        <p:spPr>
          <a:xfrm>
            <a:off x="8040600" y="3895560"/>
            <a:ext cx="1800" cy="376560"/>
          </a:xfrm>
          <a:prstGeom prst="rect">
            <a:avLst/>
          </a:prstGeom>
          <a:solidFill>
            <a:srgbClr val="7373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7" name=""/>
          <p:cNvSpPr/>
          <p:nvPr/>
        </p:nvSpPr>
        <p:spPr>
          <a:xfrm>
            <a:off x="8042400" y="3895560"/>
            <a:ext cx="2880" cy="376560"/>
          </a:xfrm>
          <a:prstGeom prst="rect">
            <a:avLst/>
          </a:prstGeom>
          <a:solidFill>
            <a:srgbClr val="71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8045280" y="3895560"/>
            <a:ext cx="5040" cy="376560"/>
          </a:xfrm>
          <a:prstGeom prst="rect">
            <a:avLst/>
          </a:prstGeom>
          <a:solidFill>
            <a:srgbClr val="70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>
            <a:off x="7889760" y="3897360"/>
            <a:ext cx="16668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>
            <a:off x="1871640" y="2413080"/>
            <a:ext cx="1440" cy="2232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1812960" y="464508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>
            <a:off x="1812960" y="4398840"/>
            <a:ext cx="586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>
            <a:off x="1812960" y="4151160"/>
            <a:ext cx="586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>
            <a:off x="1812960" y="390060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>
            <a:off x="1812960" y="365292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>
            <a:off x="1812960" y="340524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>
            <a:off x="1812960" y="3159000"/>
            <a:ext cx="586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1812960" y="290844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9" name=""/>
          <p:cNvSpPr/>
          <p:nvPr/>
        </p:nvSpPr>
        <p:spPr>
          <a:xfrm>
            <a:off x="1812960" y="266076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>
            <a:off x="1812960" y="241308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>
            <a:off x="1871640" y="4275000"/>
            <a:ext cx="63104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 flipV="1">
            <a:off x="187164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 flipV="1">
            <a:off x="22924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 flipV="1">
            <a:off x="27147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 flipV="1">
            <a:off x="313380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 flipV="1">
            <a:off x="35560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 flipV="1">
            <a:off x="397512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 flipV="1">
            <a:off x="43959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 flipV="1">
            <a:off x="481824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 flipV="1">
            <a:off x="52372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1" name=""/>
          <p:cNvSpPr/>
          <p:nvPr/>
        </p:nvSpPr>
        <p:spPr>
          <a:xfrm flipV="1">
            <a:off x="56595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 flipV="1">
            <a:off x="607860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 flipV="1">
            <a:off x="6499080" y="4275000"/>
            <a:ext cx="180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 flipV="1">
            <a:off x="6921360" y="4275000"/>
            <a:ext cx="180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 flipV="1">
            <a:off x="73407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6" name=""/>
          <p:cNvSpPr/>
          <p:nvPr/>
        </p:nvSpPr>
        <p:spPr>
          <a:xfrm flipV="1">
            <a:off x="776304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 flipV="1">
            <a:off x="81820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>
            <a:off x="2081160" y="2733840"/>
            <a:ext cx="5891400" cy="1014120"/>
          </a:xfrm>
          <a:custGeom>
            <a:avLst/>
            <a:gdLst/>
            <a:ahLst/>
            <a:rect l="l" t="t" r="r" b="b"/>
            <a:pathLst>
              <a:path w="2190" h="377">
                <a:moveTo>
                  <a:pt x="0" y="377"/>
                </a:moveTo>
                <a:lnTo>
                  <a:pt x="157" y="372"/>
                </a:lnTo>
                <a:lnTo>
                  <a:pt x="313" y="364"/>
                </a:lnTo>
                <a:lnTo>
                  <a:pt x="469" y="372"/>
                </a:lnTo>
                <a:lnTo>
                  <a:pt x="626" y="324"/>
                </a:lnTo>
                <a:lnTo>
                  <a:pt x="782" y="275"/>
                </a:lnTo>
                <a:lnTo>
                  <a:pt x="939" y="257"/>
                </a:lnTo>
                <a:lnTo>
                  <a:pt x="1095" y="214"/>
                </a:lnTo>
                <a:lnTo>
                  <a:pt x="1251" y="263"/>
                </a:lnTo>
                <a:lnTo>
                  <a:pt x="1408" y="248"/>
                </a:lnTo>
                <a:lnTo>
                  <a:pt x="1564" y="209"/>
                </a:lnTo>
                <a:lnTo>
                  <a:pt x="1721" y="208"/>
                </a:lnTo>
                <a:lnTo>
                  <a:pt x="1877" y="173"/>
                </a:lnTo>
                <a:lnTo>
                  <a:pt x="2033" y="111"/>
                </a:lnTo>
                <a:lnTo>
                  <a:pt x="2190" y="0"/>
                </a:lnTo>
              </a:path>
            </a:pathLst>
          </a:custGeom>
          <a:noFill/>
          <a:ln w="651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9" name=""/>
          <p:cNvSpPr/>
          <p:nvPr/>
        </p:nvSpPr>
        <p:spPr>
          <a:xfrm>
            <a:off x="2081160" y="2986200"/>
            <a:ext cx="5891400" cy="844560"/>
          </a:xfrm>
          <a:custGeom>
            <a:avLst/>
            <a:gdLst/>
            <a:ahLst/>
            <a:rect l="l" t="t" r="r" b="b"/>
            <a:pathLst>
              <a:path w="2190" h="314">
                <a:moveTo>
                  <a:pt x="0" y="314"/>
                </a:moveTo>
                <a:lnTo>
                  <a:pt x="157" y="285"/>
                </a:lnTo>
                <a:lnTo>
                  <a:pt x="313" y="260"/>
                </a:lnTo>
                <a:lnTo>
                  <a:pt x="469" y="247"/>
                </a:lnTo>
                <a:lnTo>
                  <a:pt x="626" y="182"/>
                </a:lnTo>
                <a:lnTo>
                  <a:pt x="782" y="83"/>
                </a:lnTo>
                <a:lnTo>
                  <a:pt x="939" y="74"/>
                </a:lnTo>
                <a:lnTo>
                  <a:pt x="1095" y="47"/>
                </a:lnTo>
                <a:lnTo>
                  <a:pt x="1251" y="60"/>
                </a:lnTo>
                <a:lnTo>
                  <a:pt x="1408" y="122"/>
                </a:lnTo>
                <a:lnTo>
                  <a:pt x="1564" y="89"/>
                </a:lnTo>
                <a:lnTo>
                  <a:pt x="1721" y="94"/>
                </a:lnTo>
                <a:lnTo>
                  <a:pt x="1877" y="85"/>
                </a:lnTo>
                <a:lnTo>
                  <a:pt x="2033" y="43"/>
                </a:lnTo>
                <a:lnTo>
                  <a:pt x="2190" y="0"/>
                </a:lnTo>
              </a:path>
            </a:pathLst>
          </a:custGeom>
          <a:noFill/>
          <a:ln w="65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0" name=""/>
          <p:cNvSpPr/>
          <p:nvPr/>
        </p:nvSpPr>
        <p:spPr>
          <a:xfrm>
            <a:off x="3512160" y="1940040"/>
            <a:ext cx="2573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Perú: comercio internacion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1" name=""/>
          <p:cNvSpPr/>
          <p:nvPr/>
        </p:nvSpPr>
        <p:spPr>
          <a:xfrm>
            <a:off x="4042800" y="2176560"/>
            <a:ext cx="1526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(millones de US$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>
            <a:off x="1985760" y="383688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8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>
            <a:off x="2404800" y="390384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4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4" name=""/>
          <p:cNvSpPr/>
          <p:nvPr/>
        </p:nvSpPr>
        <p:spPr>
          <a:xfrm>
            <a:off x="2817360" y="394956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221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5" name=""/>
          <p:cNvSpPr/>
          <p:nvPr/>
        </p:nvSpPr>
        <p:spPr>
          <a:xfrm>
            <a:off x="3236400" y="400536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679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>
            <a:off x="3612240" y="4346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1,049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>
            <a:off x="4031280" y="4481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2,135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4450320" y="4454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1,925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>
            <a:off x="4874400" y="441468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1,591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>
            <a:off x="5762160" y="400536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691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>
            <a:off x="6182640" y="399240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566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6602040" y="397368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429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7034040" y="390384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3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7453080" y="385272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55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>
            <a:off x="7828560" y="36687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,03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5293440" y="4508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2,358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>
            <a:off x="1092240" y="4527720"/>
            <a:ext cx="563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(4,00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8" name=""/>
          <p:cNvSpPr/>
          <p:nvPr/>
        </p:nvSpPr>
        <p:spPr>
          <a:xfrm>
            <a:off x="1092240" y="4280040"/>
            <a:ext cx="563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(2,00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>
            <a:off x="1531800" y="403236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>
            <a:off x="1145520" y="378288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2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>
            <a:off x="1145520" y="353520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4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>
            <a:off x="1145520" y="328788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6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>
            <a:off x="1145520" y="304020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8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>
            <a:off x="1035000" y="2790720"/>
            <a:ext cx="558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10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>
            <a:off x="1035000" y="2543040"/>
            <a:ext cx="558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12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1035000" y="2295360"/>
            <a:ext cx="558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14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 rot="16200000">
            <a:off x="187812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 rot="16200000">
            <a:off x="230040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 rot="16200000">
            <a:off x="272124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 rot="16200000">
            <a:off x="3140280" y="48715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 rot="16200000">
            <a:off x="356256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 rot="16200000">
            <a:off x="398160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 rot="16200000">
            <a:off x="440388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 rot="16200000">
            <a:off x="482472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 rot="16200000">
            <a:off x="524376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6" name=""/>
          <p:cNvSpPr/>
          <p:nvPr/>
        </p:nvSpPr>
        <p:spPr>
          <a:xfrm rot="16200000">
            <a:off x="566460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7" name=""/>
          <p:cNvSpPr/>
          <p:nvPr/>
        </p:nvSpPr>
        <p:spPr>
          <a:xfrm rot="16200000">
            <a:off x="608508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8" name=""/>
          <p:cNvSpPr/>
          <p:nvPr/>
        </p:nvSpPr>
        <p:spPr>
          <a:xfrm rot="16200000">
            <a:off x="650736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9" name=""/>
          <p:cNvSpPr/>
          <p:nvPr/>
        </p:nvSpPr>
        <p:spPr>
          <a:xfrm rot="16200000">
            <a:off x="692820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0" name=""/>
          <p:cNvSpPr/>
          <p:nvPr/>
        </p:nvSpPr>
        <p:spPr>
          <a:xfrm rot="16200000">
            <a:off x="734724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1" name=""/>
          <p:cNvSpPr/>
          <p:nvPr/>
        </p:nvSpPr>
        <p:spPr>
          <a:xfrm rot="16200000">
            <a:off x="7734600" y="4907880"/>
            <a:ext cx="46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4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>
            <a:off x="882720" y="5495760"/>
            <a:ext cx="19080" cy="115920"/>
          </a:xfrm>
          <a:prstGeom prst="rect">
            <a:avLst/>
          </a:prstGeom>
          <a:solidFill>
            <a:srgbClr val="6e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3" name=""/>
          <p:cNvSpPr/>
          <p:nvPr/>
        </p:nvSpPr>
        <p:spPr>
          <a:xfrm>
            <a:off x="901800" y="5495760"/>
            <a:ext cx="12600" cy="115920"/>
          </a:xfrm>
          <a:prstGeom prst="rect">
            <a:avLst/>
          </a:prstGeom>
          <a:solidFill>
            <a:srgbClr val="70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4" name=""/>
          <p:cNvSpPr/>
          <p:nvPr/>
        </p:nvSpPr>
        <p:spPr>
          <a:xfrm>
            <a:off x="914400" y="5495760"/>
            <a:ext cx="7920" cy="115920"/>
          </a:xfrm>
          <a:prstGeom prst="rect">
            <a:avLst/>
          </a:prstGeom>
          <a:solidFill>
            <a:srgbClr val="727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5" name=""/>
          <p:cNvSpPr/>
          <p:nvPr/>
        </p:nvSpPr>
        <p:spPr>
          <a:xfrm>
            <a:off x="922320" y="5495760"/>
            <a:ext cx="7920" cy="115920"/>
          </a:xfrm>
          <a:prstGeom prst="rect">
            <a:avLst/>
          </a:prstGeom>
          <a:solidFill>
            <a:srgbClr val="7474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>
            <a:off x="930240" y="5495760"/>
            <a:ext cx="7920" cy="115920"/>
          </a:xfrm>
          <a:prstGeom prst="rect">
            <a:avLst/>
          </a:prstGeom>
          <a:solidFill>
            <a:srgbClr val="7676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7" name=""/>
          <p:cNvSpPr/>
          <p:nvPr/>
        </p:nvSpPr>
        <p:spPr>
          <a:xfrm>
            <a:off x="938160" y="5495760"/>
            <a:ext cx="6480" cy="115920"/>
          </a:xfrm>
          <a:prstGeom prst="rect">
            <a:avLst/>
          </a:prstGeom>
          <a:solidFill>
            <a:srgbClr val="7878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8" name=""/>
          <p:cNvSpPr/>
          <p:nvPr/>
        </p:nvSpPr>
        <p:spPr>
          <a:xfrm>
            <a:off x="944640" y="5495760"/>
            <a:ext cx="4680" cy="115920"/>
          </a:xfrm>
          <a:prstGeom prst="rect">
            <a:avLst/>
          </a:prstGeom>
          <a:solidFill>
            <a:srgbClr val="7a7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>
            <a:off x="949320" y="5495760"/>
            <a:ext cx="4680" cy="115920"/>
          </a:xfrm>
          <a:prstGeom prst="rect">
            <a:avLst/>
          </a:prstGeom>
          <a:solidFill>
            <a:srgbClr val="7c7c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>
            <a:off x="954000" y="5495760"/>
            <a:ext cx="9720" cy="115920"/>
          </a:xfrm>
          <a:prstGeom prst="rect">
            <a:avLst/>
          </a:prstGeom>
          <a:solidFill>
            <a:srgbClr val="7e7e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>
            <a:off x="963720" y="5495760"/>
            <a:ext cx="4680" cy="115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968400" y="5495760"/>
            <a:ext cx="4680" cy="115920"/>
          </a:xfrm>
          <a:prstGeom prst="rect">
            <a:avLst/>
          </a:prstGeom>
          <a:solidFill>
            <a:srgbClr val="838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973080" y="5495760"/>
            <a:ext cx="6480" cy="115920"/>
          </a:xfrm>
          <a:prstGeom prst="rect">
            <a:avLst/>
          </a:prstGeom>
          <a:solidFill>
            <a:srgbClr val="8585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979560" y="5495760"/>
            <a:ext cx="4680" cy="115920"/>
          </a:xfrm>
          <a:prstGeom prst="rect">
            <a:avLst/>
          </a:prstGeom>
          <a:solidFill>
            <a:srgbClr val="8787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984240" y="5495760"/>
            <a:ext cx="4680" cy="115920"/>
          </a:xfrm>
          <a:prstGeom prst="rect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>
            <a:off x="988920" y="5495760"/>
            <a:ext cx="6480" cy="115920"/>
          </a:xfrm>
          <a:prstGeom prst="rect">
            <a:avLst/>
          </a:prstGeom>
          <a:solidFill>
            <a:srgbClr val="8b8b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995400" y="5495760"/>
            <a:ext cx="4680" cy="115920"/>
          </a:xfrm>
          <a:prstGeom prst="rect">
            <a:avLst/>
          </a:prstGeom>
          <a:solidFill>
            <a:srgbClr val="8d8d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1000080" y="5495760"/>
            <a:ext cx="6480" cy="115920"/>
          </a:xfrm>
          <a:prstGeom prst="rect">
            <a:avLst/>
          </a:prstGeom>
          <a:solidFill>
            <a:srgbClr val="8f8f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1006560" y="5495760"/>
            <a:ext cx="4680" cy="115920"/>
          </a:xfrm>
          <a:prstGeom prst="rect">
            <a:avLst/>
          </a:pr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1011240" y="5495760"/>
            <a:ext cx="7920" cy="11592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>
            <a:off x="1019160" y="5495760"/>
            <a:ext cx="4680" cy="115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>
            <a:off x="1023840" y="5495760"/>
            <a:ext cx="6480" cy="115920"/>
          </a:xfrm>
          <a:prstGeom prst="rect">
            <a:avLst/>
          </a:prstGeom>
          <a:solidFill>
            <a:srgbClr val="9898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>
            <a:off x="1030320" y="5495760"/>
            <a:ext cx="7920" cy="115920"/>
          </a:xfrm>
          <a:prstGeom prst="rect">
            <a:avLst/>
          </a:prstGeom>
          <a:solidFill>
            <a:srgbClr val="9a9a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4" name=""/>
          <p:cNvSpPr/>
          <p:nvPr/>
        </p:nvSpPr>
        <p:spPr>
          <a:xfrm>
            <a:off x="1038240" y="5495760"/>
            <a:ext cx="4680" cy="115920"/>
          </a:xfrm>
          <a:prstGeom prst="rect">
            <a:avLst/>
          </a:prstGeom>
          <a:solidFill>
            <a:srgbClr val="9c9c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5" name=""/>
          <p:cNvSpPr/>
          <p:nvPr/>
        </p:nvSpPr>
        <p:spPr>
          <a:xfrm>
            <a:off x="1042920" y="5495760"/>
            <a:ext cx="11160" cy="115920"/>
          </a:xfrm>
          <a:prstGeom prst="rect">
            <a:avLst/>
          </a:prstGeom>
          <a:solidFill>
            <a:srgbClr val="9e9e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6" name=""/>
          <p:cNvSpPr/>
          <p:nvPr/>
        </p:nvSpPr>
        <p:spPr>
          <a:xfrm>
            <a:off x="1054080" y="5495760"/>
            <a:ext cx="7920" cy="11592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7" name=""/>
          <p:cNvSpPr/>
          <p:nvPr/>
        </p:nvSpPr>
        <p:spPr>
          <a:xfrm>
            <a:off x="1062000" y="5495760"/>
            <a:ext cx="15840" cy="11592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>
            <a:off x="1077840" y="5495760"/>
            <a:ext cx="22320" cy="11592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>
            <a:off x="1100160" y="5495760"/>
            <a:ext cx="34920" cy="115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>
            <a:off x="1135080" y="5495760"/>
            <a:ext cx="12600" cy="11592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>
            <a:off x="1147680" y="5495760"/>
            <a:ext cx="14400" cy="11592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>
            <a:off x="1162080" y="5495760"/>
            <a:ext cx="7920" cy="11592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>
            <a:off x="1170000" y="5495760"/>
            <a:ext cx="7920" cy="115920"/>
          </a:xfrm>
          <a:prstGeom prst="rect">
            <a:avLst/>
          </a:prstGeom>
          <a:solidFill>
            <a:srgbClr val="9e9e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>
            <a:off x="1177920" y="5495760"/>
            <a:ext cx="7920" cy="115920"/>
          </a:xfrm>
          <a:prstGeom prst="rect">
            <a:avLst/>
          </a:prstGeom>
          <a:solidFill>
            <a:srgbClr val="9c9c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>
            <a:off x="1185840" y="5495760"/>
            <a:ext cx="6480" cy="115920"/>
          </a:xfrm>
          <a:prstGeom prst="rect">
            <a:avLst/>
          </a:prstGeom>
          <a:solidFill>
            <a:srgbClr val="9a9a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>
            <a:off x="1192320" y="5495760"/>
            <a:ext cx="4680" cy="115920"/>
          </a:xfrm>
          <a:prstGeom prst="rect">
            <a:avLst/>
          </a:prstGeom>
          <a:solidFill>
            <a:srgbClr val="9898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7" name=""/>
          <p:cNvSpPr/>
          <p:nvPr/>
        </p:nvSpPr>
        <p:spPr>
          <a:xfrm>
            <a:off x="1197000" y="5495760"/>
            <a:ext cx="4680" cy="115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8" name=""/>
          <p:cNvSpPr/>
          <p:nvPr/>
        </p:nvSpPr>
        <p:spPr>
          <a:xfrm>
            <a:off x="1201680" y="5495760"/>
            <a:ext cx="7920" cy="11592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9" name=""/>
          <p:cNvSpPr/>
          <p:nvPr/>
        </p:nvSpPr>
        <p:spPr>
          <a:xfrm>
            <a:off x="1209600" y="5495760"/>
            <a:ext cx="3240" cy="115920"/>
          </a:xfrm>
          <a:prstGeom prst="rect">
            <a:avLst/>
          </a:pr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0" name=""/>
          <p:cNvSpPr/>
          <p:nvPr/>
        </p:nvSpPr>
        <p:spPr>
          <a:xfrm>
            <a:off x="1212840" y="5495760"/>
            <a:ext cx="4680" cy="115920"/>
          </a:xfrm>
          <a:prstGeom prst="rect">
            <a:avLst/>
          </a:prstGeom>
          <a:solidFill>
            <a:srgbClr val="909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1" name=""/>
          <p:cNvSpPr/>
          <p:nvPr/>
        </p:nvSpPr>
        <p:spPr>
          <a:xfrm>
            <a:off x="1217520" y="5495760"/>
            <a:ext cx="6480" cy="115920"/>
          </a:xfrm>
          <a:prstGeom prst="rect">
            <a:avLst/>
          </a:prstGeom>
          <a:solidFill>
            <a:srgbClr val="8e8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2" name=""/>
          <p:cNvSpPr/>
          <p:nvPr/>
        </p:nvSpPr>
        <p:spPr>
          <a:xfrm>
            <a:off x="1224000" y="5495760"/>
            <a:ext cx="4680" cy="11592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3" name=""/>
          <p:cNvSpPr/>
          <p:nvPr/>
        </p:nvSpPr>
        <p:spPr>
          <a:xfrm>
            <a:off x="1228680" y="5495760"/>
            <a:ext cx="6480" cy="115920"/>
          </a:xfrm>
          <a:prstGeom prst="rect">
            <a:avLst/>
          </a:prstGeom>
          <a:solidFill>
            <a:srgbClr val="8a8a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4" name=""/>
          <p:cNvSpPr/>
          <p:nvPr/>
        </p:nvSpPr>
        <p:spPr>
          <a:xfrm>
            <a:off x="1235160" y="5495760"/>
            <a:ext cx="4680" cy="115920"/>
          </a:xfrm>
          <a:prstGeom prst="rect">
            <a:avLst/>
          </a:prstGeom>
          <a:solidFill>
            <a:srgbClr val="8888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>
            <a:off x="1239840" y="5495760"/>
            <a:ext cx="4680" cy="115920"/>
          </a:xfrm>
          <a:prstGeom prst="rect">
            <a:avLst/>
          </a:prstGeom>
          <a:solidFill>
            <a:srgbClr val="8686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>
            <a:off x="1244520" y="5495760"/>
            <a:ext cx="6480" cy="115920"/>
          </a:xfrm>
          <a:prstGeom prst="rect">
            <a:avLst/>
          </a:prstGeom>
          <a:solidFill>
            <a:srgbClr val="8484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1251000" y="5495760"/>
            <a:ext cx="4680" cy="115920"/>
          </a:xfrm>
          <a:prstGeom prst="rect">
            <a:avLst/>
          </a:prstGeom>
          <a:solidFill>
            <a:srgbClr val="8181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>
            <a:off x="1255680" y="5495760"/>
            <a:ext cx="7920" cy="1159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>
            <a:off x="1263600" y="5495760"/>
            <a:ext cx="6480" cy="115920"/>
          </a:xfrm>
          <a:prstGeom prst="rect">
            <a:avLst/>
          </a:prstGeom>
          <a:solidFill>
            <a:srgbClr val="7d7d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>
            <a:off x="1270080" y="5495760"/>
            <a:ext cx="7920" cy="115920"/>
          </a:xfrm>
          <a:prstGeom prst="rect">
            <a:avLst/>
          </a:prstGeom>
          <a:solidFill>
            <a:srgbClr val="7a7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>
            <a:off x="1278000" y="5495760"/>
            <a:ext cx="4680" cy="115920"/>
          </a:xfrm>
          <a:prstGeom prst="rect">
            <a:avLst/>
          </a:prstGeom>
          <a:solidFill>
            <a:srgbClr val="7878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1282680" y="5495760"/>
            <a:ext cx="7920" cy="115920"/>
          </a:xfrm>
          <a:prstGeom prst="rect">
            <a:avLst/>
          </a:prstGeom>
          <a:solidFill>
            <a:srgbClr val="7676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>
            <a:off x="1290600" y="5495760"/>
            <a:ext cx="11160" cy="115920"/>
          </a:xfrm>
          <a:prstGeom prst="rect">
            <a:avLst/>
          </a:prstGeom>
          <a:solidFill>
            <a:srgbClr val="7474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>
            <a:off x="1301760" y="5495760"/>
            <a:ext cx="7920" cy="115920"/>
          </a:xfrm>
          <a:prstGeom prst="rect">
            <a:avLst/>
          </a:prstGeom>
          <a:solidFill>
            <a:srgbClr val="727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5" name=""/>
          <p:cNvSpPr/>
          <p:nvPr/>
        </p:nvSpPr>
        <p:spPr>
          <a:xfrm>
            <a:off x="1309680" y="5495760"/>
            <a:ext cx="22320" cy="115920"/>
          </a:xfrm>
          <a:prstGeom prst="rect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6" name=""/>
          <p:cNvSpPr/>
          <p:nvPr/>
        </p:nvSpPr>
        <p:spPr>
          <a:xfrm>
            <a:off x="884160" y="5497560"/>
            <a:ext cx="457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>
            <a:off x="1434600" y="5435640"/>
            <a:ext cx="1514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Balanza comerc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>
            <a:off x="3789360" y="5527800"/>
            <a:ext cx="455760" cy="1440"/>
          </a:xfrm>
          <a:prstGeom prst="line">
            <a:avLst/>
          </a:prstGeom>
          <a:ln w="65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>
            <a:off x="4323240" y="5435640"/>
            <a:ext cx="1184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Exportacion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0" name=""/>
          <p:cNvSpPr/>
          <p:nvPr/>
        </p:nvSpPr>
        <p:spPr>
          <a:xfrm>
            <a:off x="6332400" y="5527800"/>
            <a:ext cx="454320" cy="1440"/>
          </a:xfrm>
          <a:prstGeom prst="line">
            <a:avLst/>
          </a:prstGeom>
          <a:ln w="65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1" name=""/>
          <p:cNvSpPr/>
          <p:nvPr/>
        </p:nvSpPr>
        <p:spPr>
          <a:xfrm>
            <a:off x="6863040" y="5435640"/>
            <a:ext cx="1218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Importacion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422280" y="6400800"/>
            <a:ext cx="822960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>
            <a:off x="755640" y="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 u="sng">
                <a:solidFill>
                  <a:srgbClr val="ffffff"/>
                </a:solidFill>
                <a:uFillTx/>
                <a:latin typeface="Tahoma"/>
                <a:hlinkClick r:id="rId1" action="ppaction://hlinksldjump"/>
              </a:rPr>
              <a:t>El Perú en la Economía Mund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66" name=""/>
          <p:cNvGrpSpPr/>
          <p:nvPr/>
        </p:nvGrpSpPr>
        <p:grpSpPr>
          <a:xfrm>
            <a:off x="433440" y="1511280"/>
            <a:ext cx="6964200" cy="4852800"/>
            <a:chOff x="433440" y="1511280"/>
            <a:chExt cx="6964200" cy="4852800"/>
          </a:xfrm>
        </p:grpSpPr>
        <p:sp>
          <p:nvSpPr>
            <p:cNvPr id="1867" name=""/>
            <p:cNvSpPr/>
            <p:nvPr/>
          </p:nvSpPr>
          <p:spPr>
            <a:xfrm>
              <a:off x="433440" y="1511280"/>
              <a:ext cx="69642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2166840" y="1611360"/>
              <a:ext cx="393876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Participación en el PBI mundial de países seleccionados, 2002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(en % del PBI mundial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2201040" y="6148440"/>
              <a:ext cx="1817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ffffff"/>
                  </a:solidFill>
                  <a:latin typeface="Arial"/>
                </a:rPr>
                <a:t>Fuente: Penn World Tables 6.1, IPE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3002040" y="4521240"/>
              <a:ext cx="20520" cy="127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3002040" y="4348080"/>
              <a:ext cx="2052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3002040" y="4175280"/>
              <a:ext cx="20520" cy="1267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3002040" y="4000680"/>
              <a:ext cx="31680" cy="1285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3002040" y="3840120"/>
              <a:ext cx="31680" cy="1144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3002040" y="3665520"/>
              <a:ext cx="4104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3002040" y="3492360"/>
              <a:ext cx="14904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3002040" y="3319560"/>
              <a:ext cx="20160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3002040" y="3146400"/>
              <a:ext cx="21276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3002040" y="2971800"/>
              <a:ext cx="40464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3002040" y="2809800"/>
              <a:ext cx="500040" cy="115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3002040" y="2637000"/>
              <a:ext cx="1268280" cy="1267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3002040" y="2463840"/>
              <a:ext cx="330660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3002040" y="5527800"/>
              <a:ext cx="3605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4" name=""/>
            <p:cNvSpPr/>
            <p:nvPr/>
          </p:nvSpPr>
          <p:spPr>
            <a:xfrm flipV="1">
              <a:off x="30020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5" name=""/>
            <p:cNvSpPr/>
            <p:nvPr/>
          </p:nvSpPr>
          <p:spPr>
            <a:xfrm flipV="1">
              <a:off x="35132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6" name=""/>
            <p:cNvSpPr/>
            <p:nvPr/>
          </p:nvSpPr>
          <p:spPr>
            <a:xfrm flipV="1">
              <a:off x="403560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 flipV="1">
              <a:off x="45482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8" name=""/>
            <p:cNvSpPr/>
            <p:nvPr/>
          </p:nvSpPr>
          <p:spPr>
            <a:xfrm flipV="1">
              <a:off x="5060880" y="55278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9" name=""/>
            <p:cNvSpPr/>
            <p:nvPr/>
          </p:nvSpPr>
          <p:spPr>
            <a:xfrm flipV="1">
              <a:off x="5572080" y="55278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 flipV="1">
              <a:off x="60944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1" name=""/>
            <p:cNvSpPr/>
            <p:nvPr/>
          </p:nvSpPr>
          <p:spPr>
            <a:xfrm flipV="1">
              <a:off x="6607080" y="55278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3002040" y="2440080"/>
              <a:ext cx="1440" cy="3087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2959200" y="55278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2959200" y="53546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2959200" y="51800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2959200" y="50068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2959200" y="48448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2959200" y="46720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2959200" y="449892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2959200" y="432432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2959200" y="415116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2959200" y="39783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2959200" y="38163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2959200" y="364320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2959200" y="34704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2959200" y="32958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2959200" y="31226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2959200" y="29494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2959200" y="27874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2959200" y="26146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2959200" y="24400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3064680" y="44989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3064680" y="43243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3064680" y="41511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3075840" y="39783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3075840" y="38163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3085560" y="36432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3193200" y="34704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3245760" y="32958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3256920" y="31226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3448800" y="29494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3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3544200" y="27766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4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4312440" y="26146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6350760" y="24400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32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3085560" y="46720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3118680" y="48448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3107520" y="50180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3118680" y="51688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3107520" y="53546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2903760" y="565452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3416400" y="565452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390636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441756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49302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2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54414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2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59652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3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64764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3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2319480" y="5354640"/>
              <a:ext cx="630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ara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2498400" y="518004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oliv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2394360" y="5006880"/>
              <a:ext cx="567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ru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2242080" y="4834080"/>
              <a:ext cx="724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sta Ric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2394000" y="4660920"/>
              <a:ext cx="560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Ecuador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2606400" y="4486320"/>
              <a:ext cx="31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erú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2594520" y="4324320"/>
              <a:ext cx="343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l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2327400" y="4151160"/>
              <a:ext cx="639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lomb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2029680" y="3978360"/>
              <a:ext cx="965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Venezuela, RB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2307240" y="3805200"/>
              <a:ext cx="65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Argent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2476440" y="363060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Irelan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2550960" y="3457440"/>
              <a:ext cx="38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razil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2455920" y="3295800"/>
              <a:ext cx="47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Mexic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2552400" y="312264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Spai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2552400" y="2949480"/>
              <a:ext cx="38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2509200" y="2776680"/>
              <a:ext cx="436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2521080" y="2602080"/>
              <a:ext cx="40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Japa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2082240" y="2428920"/>
              <a:ext cx="896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 Stat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2424240" y="4487760"/>
              <a:ext cx="934920" cy="16200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7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8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9" name=""/>
          <p:cNvSpPr/>
          <p:nvPr/>
        </p:nvSpPr>
        <p:spPr>
          <a:xfrm>
            <a:off x="755640" y="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La reestructuración industrial en el Perú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60" name=""/>
          <p:cNvGrpSpPr/>
          <p:nvPr/>
        </p:nvGrpSpPr>
        <p:grpSpPr>
          <a:xfrm>
            <a:off x="809640" y="1341360"/>
            <a:ext cx="8299440" cy="4889520"/>
            <a:chOff x="809640" y="1341360"/>
            <a:chExt cx="8299440" cy="4889520"/>
          </a:xfrm>
        </p:grpSpPr>
        <p:sp>
          <p:nvSpPr>
            <p:cNvPr id="1961" name=""/>
            <p:cNvSpPr/>
            <p:nvPr/>
          </p:nvSpPr>
          <p:spPr>
            <a:xfrm>
              <a:off x="1090440" y="6006960"/>
              <a:ext cx="1160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Fuente: MITINCI, IPE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2286000" y="1430280"/>
              <a:ext cx="47829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Crecimiento de sectores industrial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(tasas de crecimiento promedio, 1990 - 2000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3" name=""/>
            <p:cNvSpPr/>
            <p:nvPr/>
          </p:nvSpPr>
          <p:spPr>
            <a:xfrm flipV="1">
              <a:off x="2965320" y="1836360"/>
              <a:ext cx="1800" cy="390852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3481560" y="3030480"/>
              <a:ext cx="1969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Garamond"/>
                </a:rPr>
                <a:t>5% de crecimiento promedi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3552840" y="3639960"/>
              <a:ext cx="1968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669900"/>
                  </a:solidFill>
                  <a:latin typeface="Verdana"/>
                </a:rPr>
                <a:t>Crecimiento medi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1724040" y="3627360"/>
              <a:ext cx="14065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669900"/>
                  </a:solidFill>
                  <a:latin typeface="Verdana"/>
                </a:rPr>
                <a:t>Decrecimient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6224760" y="3030480"/>
              <a:ext cx="17586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Garamond"/>
                </a:rPr>
                <a:t>13% de crecimiento promedi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8" name=""/>
            <p:cNvSpPr/>
            <p:nvPr/>
          </p:nvSpPr>
          <p:spPr>
            <a:xfrm flipV="1">
              <a:off x="1160640" y="3868560"/>
              <a:ext cx="49212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809640" y="4325760"/>
              <a:ext cx="70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-70%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6365880" y="3639960"/>
              <a:ext cx="18986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669900"/>
                  </a:solidFill>
                  <a:latin typeface="Verdana"/>
                </a:rPr>
                <a:t>Muy alto crecimiento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1" name=""/>
            <p:cNvSpPr/>
            <p:nvPr/>
          </p:nvSpPr>
          <p:spPr>
            <a:xfrm flipV="1">
              <a:off x="6083280" y="1864800"/>
              <a:ext cx="1440" cy="390852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890640" y="1341360"/>
              <a:ext cx="69642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879480" y="6230880"/>
              <a:ext cx="8229600" cy="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74" name=""/>
            <p:cNvGrpSpPr/>
            <p:nvPr/>
          </p:nvGrpSpPr>
          <p:grpSpPr>
            <a:xfrm>
              <a:off x="1294560" y="1969920"/>
              <a:ext cx="6603480" cy="4152240"/>
              <a:chOff x="1294560" y="1969920"/>
              <a:chExt cx="6603480" cy="4152240"/>
            </a:xfrm>
          </p:grpSpPr>
          <p:grpSp>
            <p:nvGrpSpPr>
              <p:cNvPr id="1975" name=""/>
              <p:cNvGrpSpPr/>
              <p:nvPr/>
            </p:nvGrpSpPr>
            <p:grpSpPr>
              <a:xfrm>
                <a:off x="1609560" y="2050920"/>
                <a:ext cx="6267600" cy="1943280"/>
                <a:chOff x="1609560" y="2050920"/>
                <a:chExt cx="6267600" cy="1943280"/>
              </a:xfrm>
            </p:grpSpPr>
            <p:sp>
              <p:nvSpPr>
                <p:cNvPr id="1976" name=""/>
                <p:cNvSpPr/>
                <p:nvPr/>
              </p:nvSpPr>
              <p:spPr>
                <a:xfrm>
                  <a:off x="1665360" y="2832120"/>
                  <a:ext cx="73080" cy="11602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7" name=""/>
                <p:cNvSpPr/>
                <p:nvPr/>
              </p:nvSpPr>
              <p:spPr>
                <a:xfrm>
                  <a:off x="1784520" y="2832120"/>
                  <a:ext cx="74520" cy="10094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8" name=""/>
                <p:cNvSpPr/>
                <p:nvPr/>
              </p:nvSpPr>
              <p:spPr>
                <a:xfrm>
                  <a:off x="1905120" y="2832120"/>
                  <a:ext cx="74520" cy="5000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9" name=""/>
                <p:cNvSpPr/>
                <p:nvPr/>
              </p:nvSpPr>
              <p:spPr>
                <a:xfrm>
                  <a:off x="2025720" y="2832120"/>
                  <a:ext cx="73080" cy="2887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0" name=""/>
                <p:cNvSpPr/>
                <p:nvPr/>
              </p:nvSpPr>
              <p:spPr>
                <a:xfrm>
                  <a:off x="2144880" y="2832120"/>
                  <a:ext cx="74520" cy="269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1" name=""/>
                <p:cNvSpPr/>
                <p:nvPr/>
              </p:nvSpPr>
              <p:spPr>
                <a:xfrm>
                  <a:off x="2265480" y="2832120"/>
                  <a:ext cx="74520" cy="2491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2" name=""/>
                <p:cNvSpPr/>
                <p:nvPr/>
              </p:nvSpPr>
              <p:spPr>
                <a:xfrm>
                  <a:off x="2386080" y="2832120"/>
                  <a:ext cx="73080" cy="188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3" name=""/>
                <p:cNvSpPr/>
                <p:nvPr/>
              </p:nvSpPr>
              <p:spPr>
                <a:xfrm>
                  <a:off x="2505240" y="2832120"/>
                  <a:ext cx="74520" cy="1299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4" name=""/>
                <p:cNvSpPr/>
                <p:nvPr/>
              </p:nvSpPr>
              <p:spPr>
                <a:xfrm>
                  <a:off x="2625840" y="2832120"/>
                  <a:ext cx="74520" cy="1188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5" name=""/>
                <p:cNvSpPr/>
                <p:nvPr/>
              </p:nvSpPr>
              <p:spPr>
                <a:xfrm>
                  <a:off x="2746440" y="2832120"/>
                  <a:ext cx="73080" cy="997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6" name=""/>
                <p:cNvSpPr/>
                <p:nvPr/>
              </p:nvSpPr>
              <p:spPr>
                <a:xfrm>
                  <a:off x="2865600" y="2832120"/>
                  <a:ext cx="74520" cy="997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7" name=""/>
                <p:cNvSpPr/>
                <p:nvPr/>
              </p:nvSpPr>
              <p:spPr>
                <a:xfrm>
                  <a:off x="2986200" y="2832120"/>
                  <a:ext cx="74520" cy="9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8" name=""/>
                <p:cNvSpPr/>
                <p:nvPr/>
              </p:nvSpPr>
              <p:spPr>
                <a:xfrm>
                  <a:off x="3106800" y="2832120"/>
                  <a:ext cx="73080" cy="9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9" name=""/>
                <p:cNvSpPr/>
                <p:nvPr/>
              </p:nvSpPr>
              <p:spPr>
                <a:xfrm>
                  <a:off x="3225960" y="2801880"/>
                  <a:ext cx="64800" cy="302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0" name=""/>
                <p:cNvSpPr/>
                <p:nvPr/>
              </p:nvSpPr>
              <p:spPr>
                <a:xfrm>
                  <a:off x="3336840" y="2790720"/>
                  <a:ext cx="74520" cy="414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1" name=""/>
                <p:cNvSpPr/>
                <p:nvPr/>
              </p:nvSpPr>
              <p:spPr>
                <a:xfrm>
                  <a:off x="3457440" y="2781360"/>
                  <a:ext cx="74880" cy="507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2" name=""/>
                <p:cNvSpPr/>
                <p:nvPr/>
              </p:nvSpPr>
              <p:spPr>
                <a:xfrm>
                  <a:off x="3578400" y="2781360"/>
                  <a:ext cx="72720" cy="507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3" name=""/>
                <p:cNvSpPr/>
                <p:nvPr/>
              </p:nvSpPr>
              <p:spPr>
                <a:xfrm>
                  <a:off x="3697200" y="2771640"/>
                  <a:ext cx="74880" cy="60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4" name=""/>
                <p:cNvSpPr/>
                <p:nvPr/>
              </p:nvSpPr>
              <p:spPr>
                <a:xfrm>
                  <a:off x="3817800" y="2762280"/>
                  <a:ext cx="74880" cy="698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5" name=""/>
                <p:cNvSpPr/>
                <p:nvPr/>
              </p:nvSpPr>
              <p:spPr>
                <a:xfrm>
                  <a:off x="3938760" y="2751120"/>
                  <a:ext cx="72720" cy="8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6" name=""/>
                <p:cNvSpPr/>
                <p:nvPr/>
              </p:nvSpPr>
              <p:spPr>
                <a:xfrm>
                  <a:off x="4057560" y="2751120"/>
                  <a:ext cx="74880" cy="8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7" name=""/>
                <p:cNvSpPr/>
                <p:nvPr/>
              </p:nvSpPr>
              <p:spPr>
                <a:xfrm>
                  <a:off x="4178160" y="2732040"/>
                  <a:ext cx="74880" cy="1000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8" name=""/>
                <p:cNvSpPr/>
                <p:nvPr/>
              </p:nvSpPr>
              <p:spPr>
                <a:xfrm>
                  <a:off x="4299120" y="2720880"/>
                  <a:ext cx="72720" cy="1112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9" name=""/>
                <p:cNvSpPr/>
                <p:nvPr/>
              </p:nvSpPr>
              <p:spPr>
                <a:xfrm>
                  <a:off x="4417920" y="2720880"/>
                  <a:ext cx="74880" cy="1112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0" name=""/>
                <p:cNvSpPr/>
                <p:nvPr/>
              </p:nvSpPr>
              <p:spPr>
                <a:xfrm>
                  <a:off x="4538520" y="2711160"/>
                  <a:ext cx="74880" cy="1209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1" name=""/>
                <p:cNvSpPr/>
                <p:nvPr/>
              </p:nvSpPr>
              <p:spPr>
                <a:xfrm>
                  <a:off x="4659480" y="2701800"/>
                  <a:ext cx="72720" cy="1303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2" name=""/>
                <p:cNvSpPr/>
                <p:nvPr/>
              </p:nvSpPr>
              <p:spPr>
                <a:xfrm>
                  <a:off x="4780080" y="2701800"/>
                  <a:ext cx="73080" cy="1303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3" name=""/>
                <p:cNvSpPr/>
                <p:nvPr/>
              </p:nvSpPr>
              <p:spPr>
                <a:xfrm>
                  <a:off x="4898880" y="2690640"/>
                  <a:ext cx="74880" cy="141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4" name=""/>
                <p:cNvSpPr/>
                <p:nvPr/>
              </p:nvSpPr>
              <p:spPr>
                <a:xfrm>
                  <a:off x="5019840" y="2690640"/>
                  <a:ext cx="72720" cy="141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5" name=""/>
                <p:cNvSpPr/>
                <p:nvPr/>
              </p:nvSpPr>
              <p:spPr>
                <a:xfrm>
                  <a:off x="5140440" y="2631960"/>
                  <a:ext cx="73080" cy="2001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6" name=""/>
                <p:cNvSpPr/>
                <p:nvPr/>
              </p:nvSpPr>
              <p:spPr>
                <a:xfrm>
                  <a:off x="5259240" y="2620800"/>
                  <a:ext cx="74880" cy="2113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7" name=""/>
                <p:cNvSpPr/>
                <p:nvPr/>
              </p:nvSpPr>
              <p:spPr>
                <a:xfrm>
                  <a:off x="5380200" y="2611440"/>
                  <a:ext cx="72720" cy="2206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8" name=""/>
                <p:cNvSpPr/>
                <p:nvPr/>
              </p:nvSpPr>
              <p:spPr>
                <a:xfrm>
                  <a:off x="5500800" y="2601720"/>
                  <a:ext cx="73080" cy="2304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9" name=""/>
                <p:cNvSpPr/>
                <p:nvPr/>
              </p:nvSpPr>
              <p:spPr>
                <a:xfrm>
                  <a:off x="5619600" y="2590560"/>
                  <a:ext cx="74880" cy="2415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0" name=""/>
                <p:cNvSpPr/>
                <p:nvPr/>
              </p:nvSpPr>
              <p:spPr>
                <a:xfrm>
                  <a:off x="5740560" y="2581200"/>
                  <a:ext cx="74520" cy="2509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1" name=""/>
                <p:cNvSpPr/>
                <p:nvPr/>
              </p:nvSpPr>
              <p:spPr>
                <a:xfrm>
                  <a:off x="5861160" y="2571480"/>
                  <a:ext cx="73080" cy="260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2" name=""/>
                <p:cNvSpPr/>
                <p:nvPr/>
              </p:nvSpPr>
              <p:spPr>
                <a:xfrm>
                  <a:off x="5979960" y="2550960"/>
                  <a:ext cx="74880" cy="2811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3" name=""/>
                <p:cNvSpPr/>
                <p:nvPr/>
              </p:nvSpPr>
              <p:spPr>
                <a:xfrm>
                  <a:off x="6100920" y="2550960"/>
                  <a:ext cx="74520" cy="2811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4" name=""/>
                <p:cNvSpPr/>
                <p:nvPr/>
              </p:nvSpPr>
              <p:spPr>
                <a:xfrm>
                  <a:off x="6221520" y="2511360"/>
                  <a:ext cx="73080" cy="3207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5" name=""/>
                <p:cNvSpPr/>
                <p:nvPr/>
              </p:nvSpPr>
              <p:spPr>
                <a:xfrm>
                  <a:off x="6340320" y="2501640"/>
                  <a:ext cx="65160" cy="330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6" name=""/>
                <p:cNvSpPr/>
                <p:nvPr/>
              </p:nvSpPr>
              <p:spPr>
                <a:xfrm>
                  <a:off x="6451560" y="2481120"/>
                  <a:ext cx="74520" cy="35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7" name=""/>
                <p:cNvSpPr/>
                <p:nvPr/>
              </p:nvSpPr>
              <p:spPr>
                <a:xfrm>
                  <a:off x="6572160" y="2481120"/>
                  <a:ext cx="73080" cy="35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8" name=""/>
                <p:cNvSpPr/>
                <p:nvPr/>
              </p:nvSpPr>
              <p:spPr>
                <a:xfrm>
                  <a:off x="6692760" y="2471760"/>
                  <a:ext cx="73080" cy="360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9" name=""/>
                <p:cNvSpPr/>
                <p:nvPr/>
              </p:nvSpPr>
              <p:spPr>
                <a:xfrm>
                  <a:off x="6811920" y="2411280"/>
                  <a:ext cx="74520" cy="4208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0" name=""/>
                <p:cNvSpPr/>
                <p:nvPr/>
              </p:nvSpPr>
              <p:spPr>
                <a:xfrm>
                  <a:off x="6932520" y="2411280"/>
                  <a:ext cx="74880" cy="4208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1" name=""/>
                <p:cNvSpPr/>
                <p:nvPr/>
              </p:nvSpPr>
              <p:spPr>
                <a:xfrm>
                  <a:off x="7053120" y="2390760"/>
                  <a:ext cx="73080" cy="441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2" name=""/>
                <p:cNvSpPr/>
                <p:nvPr/>
              </p:nvSpPr>
              <p:spPr>
                <a:xfrm>
                  <a:off x="7172280" y="2360520"/>
                  <a:ext cx="74520" cy="4716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3" name=""/>
                <p:cNvSpPr/>
                <p:nvPr/>
              </p:nvSpPr>
              <p:spPr>
                <a:xfrm>
                  <a:off x="7292880" y="2360520"/>
                  <a:ext cx="74880" cy="4716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4" name=""/>
                <p:cNvSpPr/>
                <p:nvPr/>
              </p:nvSpPr>
              <p:spPr>
                <a:xfrm>
                  <a:off x="7413480" y="2341440"/>
                  <a:ext cx="73080" cy="4906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5" name=""/>
                <p:cNvSpPr/>
                <p:nvPr/>
              </p:nvSpPr>
              <p:spPr>
                <a:xfrm>
                  <a:off x="7532640" y="2311200"/>
                  <a:ext cx="74520" cy="5209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6" name=""/>
                <p:cNvSpPr/>
                <p:nvPr/>
              </p:nvSpPr>
              <p:spPr>
                <a:xfrm>
                  <a:off x="7653240" y="2271600"/>
                  <a:ext cx="74880" cy="5605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7" name=""/>
                <p:cNvSpPr/>
                <p:nvPr/>
              </p:nvSpPr>
              <p:spPr>
                <a:xfrm>
                  <a:off x="7773840" y="2130480"/>
                  <a:ext cx="73080" cy="701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8" name=""/>
                <p:cNvSpPr/>
                <p:nvPr/>
              </p:nvSpPr>
              <p:spPr>
                <a:xfrm>
                  <a:off x="1646280" y="2050920"/>
                  <a:ext cx="1440" cy="194148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9" name=""/>
                <p:cNvSpPr/>
                <p:nvPr/>
              </p:nvSpPr>
              <p:spPr>
                <a:xfrm>
                  <a:off x="1609560" y="399240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0" name=""/>
                <p:cNvSpPr/>
                <p:nvPr/>
              </p:nvSpPr>
              <p:spPr>
                <a:xfrm>
                  <a:off x="1609560" y="380196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1" name=""/>
                <p:cNvSpPr/>
                <p:nvPr/>
              </p:nvSpPr>
              <p:spPr>
                <a:xfrm>
                  <a:off x="1609560" y="360180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2" name=""/>
                <p:cNvSpPr/>
                <p:nvPr/>
              </p:nvSpPr>
              <p:spPr>
                <a:xfrm>
                  <a:off x="1609560" y="341136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3" name=""/>
                <p:cNvSpPr/>
                <p:nvPr/>
              </p:nvSpPr>
              <p:spPr>
                <a:xfrm>
                  <a:off x="1609560" y="321156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4" name=""/>
                <p:cNvSpPr/>
                <p:nvPr/>
              </p:nvSpPr>
              <p:spPr>
                <a:xfrm>
                  <a:off x="1609560" y="302076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5" name=""/>
                <p:cNvSpPr/>
                <p:nvPr/>
              </p:nvSpPr>
              <p:spPr>
                <a:xfrm>
                  <a:off x="1609560" y="283212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6" name=""/>
                <p:cNvSpPr/>
                <p:nvPr/>
              </p:nvSpPr>
              <p:spPr>
                <a:xfrm>
                  <a:off x="1609560" y="263196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7" name=""/>
                <p:cNvSpPr/>
                <p:nvPr/>
              </p:nvSpPr>
              <p:spPr>
                <a:xfrm>
                  <a:off x="1609560" y="244152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8" name=""/>
                <p:cNvSpPr/>
                <p:nvPr/>
              </p:nvSpPr>
              <p:spPr>
                <a:xfrm>
                  <a:off x="1609560" y="224136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9" name=""/>
                <p:cNvSpPr/>
                <p:nvPr/>
              </p:nvSpPr>
              <p:spPr>
                <a:xfrm>
                  <a:off x="1609560" y="205092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0" name=""/>
                <p:cNvSpPr/>
                <p:nvPr/>
              </p:nvSpPr>
              <p:spPr>
                <a:xfrm>
                  <a:off x="1646280" y="2832120"/>
                  <a:ext cx="6229440" cy="144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1" name=""/>
                <p:cNvSpPr/>
                <p:nvPr/>
              </p:nvSpPr>
              <p:spPr>
                <a:xfrm flipV="1">
                  <a:off x="16462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2" name=""/>
                <p:cNvSpPr/>
                <p:nvPr/>
              </p:nvSpPr>
              <p:spPr>
                <a:xfrm flipV="1">
                  <a:off x="17668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3" name=""/>
                <p:cNvSpPr/>
                <p:nvPr/>
              </p:nvSpPr>
              <p:spPr>
                <a:xfrm flipV="1">
                  <a:off x="18860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4" name=""/>
                <p:cNvSpPr/>
                <p:nvPr/>
              </p:nvSpPr>
              <p:spPr>
                <a:xfrm flipV="1">
                  <a:off x="20066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5" name=""/>
                <p:cNvSpPr/>
                <p:nvPr/>
              </p:nvSpPr>
              <p:spPr>
                <a:xfrm flipV="1">
                  <a:off x="21272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6" name=""/>
                <p:cNvSpPr/>
                <p:nvPr/>
              </p:nvSpPr>
              <p:spPr>
                <a:xfrm flipV="1">
                  <a:off x="22464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7" name=""/>
                <p:cNvSpPr/>
                <p:nvPr/>
              </p:nvSpPr>
              <p:spPr>
                <a:xfrm flipV="1">
                  <a:off x="23670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8" name=""/>
                <p:cNvSpPr/>
                <p:nvPr/>
              </p:nvSpPr>
              <p:spPr>
                <a:xfrm flipV="1">
                  <a:off x="24876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9" name=""/>
                <p:cNvSpPr/>
                <p:nvPr/>
              </p:nvSpPr>
              <p:spPr>
                <a:xfrm flipV="1">
                  <a:off x="26067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0" name=""/>
                <p:cNvSpPr/>
                <p:nvPr/>
              </p:nvSpPr>
              <p:spPr>
                <a:xfrm flipV="1">
                  <a:off x="27273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1" name=""/>
                <p:cNvSpPr/>
                <p:nvPr/>
              </p:nvSpPr>
              <p:spPr>
                <a:xfrm flipV="1">
                  <a:off x="28479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2" name=""/>
                <p:cNvSpPr/>
                <p:nvPr/>
              </p:nvSpPr>
              <p:spPr>
                <a:xfrm flipV="1">
                  <a:off x="29671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3" name=""/>
                <p:cNvSpPr/>
                <p:nvPr/>
              </p:nvSpPr>
              <p:spPr>
                <a:xfrm flipV="1">
                  <a:off x="30877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4" name=""/>
                <p:cNvSpPr/>
                <p:nvPr/>
              </p:nvSpPr>
              <p:spPr>
                <a:xfrm flipV="1">
                  <a:off x="32083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5" name=""/>
                <p:cNvSpPr/>
                <p:nvPr/>
              </p:nvSpPr>
              <p:spPr>
                <a:xfrm flipV="1">
                  <a:off x="33195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6" name=""/>
                <p:cNvSpPr/>
                <p:nvPr/>
              </p:nvSpPr>
              <p:spPr>
                <a:xfrm flipV="1">
                  <a:off x="343836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7" name=""/>
                <p:cNvSpPr/>
                <p:nvPr/>
              </p:nvSpPr>
              <p:spPr>
                <a:xfrm flipV="1">
                  <a:off x="35593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8" name=""/>
                <p:cNvSpPr/>
                <p:nvPr/>
              </p:nvSpPr>
              <p:spPr>
                <a:xfrm flipV="1">
                  <a:off x="36799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9" name=""/>
                <p:cNvSpPr/>
                <p:nvPr/>
              </p:nvSpPr>
              <p:spPr>
                <a:xfrm flipV="1">
                  <a:off x="379872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0" name=""/>
                <p:cNvSpPr/>
                <p:nvPr/>
              </p:nvSpPr>
              <p:spPr>
                <a:xfrm flipV="1">
                  <a:off x="39196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1" name=""/>
                <p:cNvSpPr/>
                <p:nvPr/>
              </p:nvSpPr>
              <p:spPr>
                <a:xfrm flipV="1">
                  <a:off x="40402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2" name=""/>
                <p:cNvSpPr/>
                <p:nvPr/>
              </p:nvSpPr>
              <p:spPr>
                <a:xfrm flipV="1">
                  <a:off x="415908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3" name=""/>
                <p:cNvSpPr/>
                <p:nvPr/>
              </p:nvSpPr>
              <p:spPr>
                <a:xfrm flipV="1">
                  <a:off x="42800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4" name=""/>
                <p:cNvSpPr/>
                <p:nvPr/>
              </p:nvSpPr>
              <p:spPr>
                <a:xfrm flipV="1">
                  <a:off x="44006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5" name=""/>
                <p:cNvSpPr/>
                <p:nvPr/>
              </p:nvSpPr>
              <p:spPr>
                <a:xfrm flipV="1">
                  <a:off x="45212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6" name=""/>
                <p:cNvSpPr/>
                <p:nvPr/>
              </p:nvSpPr>
              <p:spPr>
                <a:xfrm flipV="1">
                  <a:off x="46404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7" name=""/>
                <p:cNvSpPr/>
                <p:nvPr/>
              </p:nvSpPr>
              <p:spPr>
                <a:xfrm flipV="1">
                  <a:off x="47610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8" name=""/>
                <p:cNvSpPr/>
                <p:nvPr/>
              </p:nvSpPr>
              <p:spPr>
                <a:xfrm flipV="1">
                  <a:off x="48816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9" name=""/>
                <p:cNvSpPr/>
                <p:nvPr/>
              </p:nvSpPr>
              <p:spPr>
                <a:xfrm flipV="1">
                  <a:off x="50007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0" name=""/>
                <p:cNvSpPr/>
                <p:nvPr/>
              </p:nvSpPr>
              <p:spPr>
                <a:xfrm flipV="1">
                  <a:off x="51213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1" name=""/>
                <p:cNvSpPr/>
                <p:nvPr/>
              </p:nvSpPr>
              <p:spPr>
                <a:xfrm flipV="1">
                  <a:off x="52419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2" name=""/>
                <p:cNvSpPr/>
                <p:nvPr/>
              </p:nvSpPr>
              <p:spPr>
                <a:xfrm flipV="1">
                  <a:off x="53611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3" name=""/>
                <p:cNvSpPr/>
                <p:nvPr/>
              </p:nvSpPr>
              <p:spPr>
                <a:xfrm flipV="1">
                  <a:off x="54817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4" name=""/>
                <p:cNvSpPr/>
                <p:nvPr/>
              </p:nvSpPr>
              <p:spPr>
                <a:xfrm flipV="1">
                  <a:off x="56023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5" name=""/>
                <p:cNvSpPr/>
                <p:nvPr/>
              </p:nvSpPr>
              <p:spPr>
                <a:xfrm flipV="1">
                  <a:off x="57214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6" name=""/>
                <p:cNvSpPr/>
                <p:nvPr/>
              </p:nvSpPr>
              <p:spPr>
                <a:xfrm flipV="1">
                  <a:off x="58420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7" name=""/>
                <p:cNvSpPr/>
                <p:nvPr/>
              </p:nvSpPr>
              <p:spPr>
                <a:xfrm flipV="1">
                  <a:off x="59626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8" name=""/>
                <p:cNvSpPr/>
                <p:nvPr/>
              </p:nvSpPr>
              <p:spPr>
                <a:xfrm flipV="1">
                  <a:off x="60818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9" name=""/>
                <p:cNvSpPr/>
                <p:nvPr/>
              </p:nvSpPr>
              <p:spPr>
                <a:xfrm flipV="1">
                  <a:off x="62024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0" name=""/>
                <p:cNvSpPr/>
                <p:nvPr/>
              </p:nvSpPr>
              <p:spPr>
                <a:xfrm flipV="1">
                  <a:off x="63230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1" name=""/>
                <p:cNvSpPr/>
                <p:nvPr/>
              </p:nvSpPr>
              <p:spPr>
                <a:xfrm flipV="1">
                  <a:off x="64342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2" name=""/>
                <p:cNvSpPr/>
                <p:nvPr/>
              </p:nvSpPr>
              <p:spPr>
                <a:xfrm flipV="1">
                  <a:off x="655308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3" name=""/>
                <p:cNvSpPr/>
                <p:nvPr/>
              </p:nvSpPr>
              <p:spPr>
                <a:xfrm flipV="1">
                  <a:off x="667368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4" name=""/>
                <p:cNvSpPr/>
                <p:nvPr/>
              </p:nvSpPr>
              <p:spPr>
                <a:xfrm flipV="1">
                  <a:off x="67946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5" name=""/>
                <p:cNvSpPr/>
                <p:nvPr/>
              </p:nvSpPr>
              <p:spPr>
                <a:xfrm flipV="1">
                  <a:off x="691344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6" name=""/>
                <p:cNvSpPr/>
                <p:nvPr/>
              </p:nvSpPr>
              <p:spPr>
                <a:xfrm flipV="1">
                  <a:off x="703404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7" name=""/>
                <p:cNvSpPr/>
                <p:nvPr/>
              </p:nvSpPr>
              <p:spPr>
                <a:xfrm flipV="1">
                  <a:off x="71550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8" name=""/>
                <p:cNvSpPr/>
                <p:nvPr/>
              </p:nvSpPr>
              <p:spPr>
                <a:xfrm flipV="1">
                  <a:off x="727380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9" name=""/>
                <p:cNvSpPr/>
                <p:nvPr/>
              </p:nvSpPr>
              <p:spPr>
                <a:xfrm flipV="1">
                  <a:off x="739440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0" name=""/>
                <p:cNvSpPr/>
                <p:nvPr/>
              </p:nvSpPr>
              <p:spPr>
                <a:xfrm flipV="1">
                  <a:off x="75153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1" name=""/>
                <p:cNvSpPr/>
                <p:nvPr/>
              </p:nvSpPr>
              <p:spPr>
                <a:xfrm flipV="1">
                  <a:off x="763416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2" name=""/>
                <p:cNvSpPr/>
                <p:nvPr/>
              </p:nvSpPr>
              <p:spPr>
                <a:xfrm flipV="1">
                  <a:off x="775476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3" name=""/>
                <p:cNvSpPr/>
                <p:nvPr/>
              </p:nvSpPr>
              <p:spPr>
                <a:xfrm flipV="1">
                  <a:off x="78757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4" name=""/>
                <p:cNvSpPr/>
                <p:nvPr/>
              </p:nvSpPr>
              <p:spPr>
                <a:xfrm>
                  <a:off x="1701720" y="388296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5" name=""/>
                <p:cNvSpPr/>
                <p:nvPr/>
              </p:nvSpPr>
              <p:spPr>
                <a:xfrm>
                  <a:off x="1728720" y="383220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6" name=""/>
                <p:cNvSpPr/>
                <p:nvPr/>
              </p:nvSpPr>
              <p:spPr>
                <a:xfrm>
                  <a:off x="1747800" y="379260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7" name=""/>
                <p:cNvSpPr/>
                <p:nvPr/>
              </p:nvSpPr>
              <p:spPr>
                <a:xfrm>
                  <a:off x="1776240" y="3741480"/>
                  <a:ext cx="1764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5" y="0"/>
                      </a:lnTo>
                      <a:lnTo>
                        <a:pt x="11" y="7"/>
                      </a:lnTo>
                      <a:lnTo>
                        <a:pt x="5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8" name=""/>
                <p:cNvSpPr/>
                <p:nvPr/>
              </p:nvSpPr>
              <p:spPr>
                <a:xfrm>
                  <a:off x="1793880" y="372240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9" name=""/>
                <p:cNvSpPr/>
                <p:nvPr/>
              </p:nvSpPr>
              <p:spPr>
                <a:xfrm>
                  <a:off x="1812960" y="3662280"/>
                  <a:ext cx="1728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0" name=""/>
                <p:cNvSpPr/>
                <p:nvPr/>
              </p:nvSpPr>
              <p:spPr>
                <a:xfrm>
                  <a:off x="1839960" y="362268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1" name=""/>
                <p:cNvSpPr/>
                <p:nvPr/>
              </p:nvSpPr>
              <p:spPr>
                <a:xfrm>
                  <a:off x="1868400" y="3571920"/>
                  <a:ext cx="1764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2" name=""/>
                <p:cNvSpPr/>
                <p:nvPr/>
              </p:nvSpPr>
              <p:spPr>
                <a:xfrm>
                  <a:off x="1878120" y="3571920"/>
                  <a:ext cx="1728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5" y="0"/>
                      </a:lnTo>
                      <a:lnTo>
                        <a:pt x="11" y="6"/>
                      </a:lnTo>
                      <a:lnTo>
                        <a:pt x="5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3" name=""/>
                <p:cNvSpPr/>
                <p:nvPr/>
              </p:nvSpPr>
              <p:spPr>
                <a:xfrm>
                  <a:off x="1905120" y="351144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2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4" name=""/>
                <p:cNvSpPr/>
                <p:nvPr/>
              </p:nvSpPr>
              <p:spPr>
                <a:xfrm>
                  <a:off x="1914480" y="3511440"/>
                  <a:ext cx="1764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5" name=""/>
                <p:cNvSpPr/>
                <p:nvPr/>
              </p:nvSpPr>
              <p:spPr>
                <a:xfrm>
                  <a:off x="1941480" y="346212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6" name=""/>
                <p:cNvSpPr/>
                <p:nvPr/>
              </p:nvSpPr>
              <p:spPr>
                <a:xfrm>
                  <a:off x="1979640" y="3422520"/>
                  <a:ext cx="1728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2"/>
                      </a:moveTo>
                      <a:lnTo>
                        <a:pt x="5" y="0"/>
                      </a:lnTo>
                      <a:lnTo>
                        <a:pt x="11" y="6"/>
                      </a:lnTo>
                      <a:lnTo>
                        <a:pt x="5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7" name=""/>
                <p:cNvSpPr/>
                <p:nvPr/>
              </p:nvSpPr>
              <p:spPr>
                <a:xfrm>
                  <a:off x="2006640" y="338112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2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8" name=""/>
                <p:cNvSpPr/>
                <p:nvPr/>
              </p:nvSpPr>
              <p:spPr>
                <a:xfrm>
                  <a:off x="2035080" y="3332160"/>
                  <a:ext cx="1764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2"/>
                      </a:moveTo>
                      <a:lnTo>
                        <a:pt x="5" y="0"/>
                      </a:lnTo>
                      <a:lnTo>
                        <a:pt x="11" y="6"/>
                      </a:lnTo>
                      <a:lnTo>
                        <a:pt x="5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9" name=""/>
                <p:cNvSpPr/>
                <p:nvPr/>
              </p:nvSpPr>
              <p:spPr>
                <a:xfrm>
                  <a:off x="2043000" y="333216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0" name=""/>
                <p:cNvSpPr/>
                <p:nvPr/>
              </p:nvSpPr>
              <p:spPr>
                <a:xfrm>
                  <a:off x="2071800" y="3281400"/>
                  <a:ext cx="1728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1" name=""/>
                <p:cNvSpPr/>
                <p:nvPr/>
              </p:nvSpPr>
              <p:spPr>
                <a:xfrm>
                  <a:off x="2062080" y="32922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2" name=""/>
                <p:cNvSpPr/>
                <p:nvPr/>
              </p:nvSpPr>
              <p:spPr>
                <a:xfrm>
                  <a:off x="2108160" y="3262320"/>
                  <a:ext cx="2844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3" name=""/>
                <p:cNvSpPr/>
                <p:nvPr/>
              </p:nvSpPr>
              <p:spPr>
                <a:xfrm>
                  <a:off x="2127240" y="3241440"/>
                  <a:ext cx="1764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4" name=""/>
                <p:cNvSpPr/>
                <p:nvPr/>
              </p:nvSpPr>
              <p:spPr>
                <a:xfrm>
                  <a:off x="2154240" y="319248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5" name=""/>
                <p:cNvSpPr/>
                <p:nvPr/>
              </p:nvSpPr>
              <p:spPr>
                <a:xfrm>
                  <a:off x="2144880" y="3201840"/>
                  <a:ext cx="28440" cy="2052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6" name=""/>
                <p:cNvSpPr/>
                <p:nvPr/>
              </p:nvSpPr>
              <p:spPr>
                <a:xfrm>
                  <a:off x="2190600" y="3171600"/>
                  <a:ext cx="2880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7" name=""/>
                <p:cNvSpPr/>
                <p:nvPr/>
              </p:nvSpPr>
              <p:spPr>
                <a:xfrm>
                  <a:off x="2190600" y="3162240"/>
                  <a:ext cx="2880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8" name=""/>
                <p:cNvSpPr/>
                <p:nvPr/>
              </p:nvSpPr>
              <p:spPr>
                <a:xfrm>
                  <a:off x="2228760" y="31320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9" name=""/>
                <p:cNvSpPr/>
                <p:nvPr/>
              </p:nvSpPr>
              <p:spPr>
                <a:xfrm>
                  <a:off x="2274840" y="310176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0" name=""/>
                <p:cNvSpPr/>
                <p:nvPr/>
              </p:nvSpPr>
              <p:spPr>
                <a:xfrm>
                  <a:off x="2274840" y="30924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1" name=""/>
                <p:cNvSpPr/>
                <p:nvPr/>
              </p:nvSpPr>
              <p:spPr>
                <a:xfrm>
                  <a:off x="2311560" y="3062160"/>
                  <a:ext cx="2844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2" name=""/>
                <p:cNvSpPr/>
                <p:nvPr/>
              </p:nvSpPr>
              <p:spPr>
                <a:xfrm>
                  <a:off x="2376360" y="304164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3" name=""/>
                <p:cNvSpPr/>
                <p:nvPr/>
              </p:nvSpPr>
              <p:spPr>
                <a:xfrm>
                  <a:off x="2357280" y="3020760"/>
                  <a:ext cx="2880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6" y="0"/>
                      </a:lnTo>
                      <a:lnTo>
                        <a:pt x="18" y="7"/>
                      </a:lnTo>
                      <a:lnTo>
                        <a:pt x="12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4" name=""/>
                <p:cNvSpPr/>
                <p:nvPr/>
              </p:nvSpPr>
              <p:spPr>
                <a:xfrm>
                  <a:off x="2413080" y="30114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5" name=""/>
                <p:cNvSpPr/>
                <p:nvPr/>
              </p:nvSpPr>
              <p:spPr>
                <a:xfrm>
                  <a:off x="2403360" y="3001680"/>
                  <a:ext cx="2880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6" name=""/>
                <p:cNvSpPr/>
                <p:nvPr/>
              </p:nvSpPr>
              <p:spPr>
                <a:xfrm>
                  <a:off x="2459160" y="2981160"/>
                  <a:ext cx="28440" cy="2052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12" y="0"/>
                      </a:lnTo>
                      <a:lnTo>
                        <a:pt x="18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7" name=""/>
                <p:cNvSpPr/>
                <p:nvPr/>
              </p:nvSpPr>
              <p:spPr>
                <a:xfrm>
                  <a:off x="2505240" y="2950920"/>
                  <a:ext cx="2844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12" y="0"/>
                      </a:lnTo>
                      <a:lnTo>
                        <a:pt x="18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8" name=""/>
                <p:cNvSpPr/>
                <p:nvPr/>
              </p:nvSpPr>
              <p:spPr>
                <a:xfrm>
                  <a:off x="2543040" y="2941560"/>
                  <a:ext cx="1764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9" name=""/>
                <p:cNvSpPr/>
                <p:nvPr/>
              </p:nvSpPr>
              <p:spPr>
                <a:xfrm>
                  <a:off x="2589120" y="2911320"/>
                  <a:ext cx="27000" cy="2052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0" name=""/>
                <p:cNvSpPr/>
                <p:nvPr/>
              </p:nvSpPr>
              <p:spPr>
                <a:xfrm>
                  <a:off x="2644920" y="2890800"/>
                  <a:ext cx="27000" cy="2052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7"/>
                      </a:moveTo>
                      <a:lnTo>
                        <a:pt x="11" y="0"/>
                      </a:lnTo>
                      <a:lnTo>
                        <a:pt x="17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1" name=""/>
                <p:cNvSpPr/>
                <p:nvPr/>
              </p:nvSpPr>
              <p:spPr>
                <a:xfrm>
                  <a:off x="2662200" y="2881080"/>
                  <a:ext cx="2844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2" name=""/>
                <p:cNvSpPr/>
                <p:nvPr/>
              </p:nvSpPr>
              <p:spPr>
                <a:xfrm>
                  <a:off x="2717640" y="2871720"/>
                  <a:ext cx="2880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3" name=""/>
                <p:cNvSpPr/>
                <p:nvPr/>
              </p:nvSpPr>
              <p:spPr>
                <a:xfrm>
                  <a:off x="2746440" y="28620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4" name=""/>
                <p:cNvSpPr/>
                <p:nvPr/>
              </p:nvSpPr>
              <p:spPr>
                <a:xfrm>
                  <a:off x="2801880" y="2851200"/>
                  <a:ext cx="27000" cy="2052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7"/>
                      </a:moveTo>
                      <a:lnTo>
                        <a:pt x="11" y="0"/>
                      </a:lnTo>
                      <a:lnTo>
                        <a:pt x="17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5" name=""/>
                <p:cNvSpPr/>
                <p:nvPr/>
              </p:nvSpPr>
              <p:spPr>
                <a:xfrm>
                  <a:off x="2865600" y="28414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6" name=""/>
                <p:cNvSpPr/>
                <p:nvPr/>
              </p:nvSpPr>
              <p:spPr>
                <a:xfrm>
                  <a:off x="2874960" y="2841480"/>
                  <a:ext cx="190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7" name=""/>
                <p:cNvSpPr/>
                <p:nvPr/>
              </p:nvSpPr>
              <p:spPr>
                <a:xfrm>
                  <a:off x="2921040" y="2820960"/>
                  <a:ext cx="28440" cy="2052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12" y="0"/>
                      </a:lnTo>
                      <a:lnTo>
                        <a:pt x="18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8" name=""/>
                <p:cNvSpPr/>
                <p:nvPr/>
              </p:nvSpPr>
              <p:spPr>
                <a:xfrm>
                  <a:off x="2986200" y="282096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9" name=""/>
                <p:cNvSpPr/>
                <p:nvPr/>
              </p:nvSpPr>
              <p:spPr>
                <a:xfrm>
                  <a:off x="2995560" y="2811240"/>
                  <a:ext cx="27000" cy="2088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0" name=""/>
                <p:cNvSpPr/>
                <p:nvPr/>
              </p:nvSpPr>
              <p:spPr>
                <a:xfrm>
                  <a:off x="3060720" y="2811240"/>
                  <a:ext cx="172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1" name=""/>
                <p:cNvSpPr/>
                <p:nvPr/>
              </p:nvSpPr>
              <p:spPr>
                <a:xfrm>
                  <a:off x="3116160" y="28018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2" name=""/>
                <p:cNvSpPr/>
                <p:nvPr/>
              </p:nvSpPr>
              <p:spPr>
                <a:xfrm>
                  <a:off x="3124080" y="28018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3" name=""/>
                <p:cNvSpPr/>
                <p:nvPr/>
              </p:nvSpPr>
              <p:spPr>
                <a:xfrm>
                  <a:off x="3179880" y="28018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4" name=""/>
                <p:cNvSpPr/>
                <p:nvPr/>
              </p:nvSpPr>
              <p:spPr>
                <a:xfrm>
                  <a:off x="323532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5" name=""/>
                <p:cNvSpPr/>
                <p:nvPr/>
              </p:nvSpPr>
              <p:spPr>
                <a:xfrm>
                  <a:off x="325440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6" name=""/>
                <p:cNvSpPr/>
                <p:nvPr/>
              </p:nvSpPr>
              <p:spPr>
                <a:xfrm>
                  <a:off x="330984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7" name=""/>
                <p:cNvSpPr/>
                <p:nvPr/>
              </p:nvSpPr>
              <p:spPr>
                <a:xfrm>
                  <a:off x="3365640" y="2790720"/>
                  <a:ext cx="172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8" name=""/>
                <p:cNvSpPr/>
                <p:nvPr/>
              </p:nvSpPr>
              <p:spPr>
                <a:xfrm>
                  <a:off x="338292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9" name=""/>
                <p:cNvSpPr/>
                <p:nvPr/>
              </p:nvSpPr>
              <p:spPr>
                <a:xfrm>
                  <a:off x="343836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0" name=""/>
                <p:cNvSpPr/>
                <p:nvPr/>
              </p:nvSpPr>
              <p:spPr>
                <a:xfrm>
                  <a:off x="3494160" y="279072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1" name=""/>
                <p:cNvSpPr/>
                <p:nvPr/>
              </p:nvSpPr>
              <p:spPr>
                <a:xfrm>
                  <a:off x="350352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2" name=""/>
                <p:cNvSpPr/>
                <p:nvPr/>
              </p:nvSpPr>
              <p:spPr>
                <a:xfrm>
                  <a:off x="355932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3" name=""/>
                <p:cNvSpPr/>
                <p:nvPr/>
              </p:nvSpPr>
              <p:spPr>
                <a:xfrm>
                  <a:off x="361476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4" name=""/>
                <p:cNvSpPr/>
                <p:nvPr/>
              </p:nvSpPr>
              <p:spPr>
                <a:xfrm>
                  <a:off x="3633840" y="2781360"/>
                  <a:ext cx="172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5" name=""/>
                <p:cNvSpPr/>
                <p:nvPr/>
              </p:nvSpPr>
              <p:spPr>
                <a:xfrm>
                  <a:off x="3689280" y="2781360"/>
                  <a:ext cx="1764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6" name=""/>
                <p:cNvSpPr/>
                <p:nvPr/>
              </p:nvSpPr>
              <p:spPr>
                <a:xfrm>
                  <a:off x="371628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7" name=""/>
                <p:cNvSpPr/>
                <p:nvPr/>
              </p:nvSpPr>
              <p:spPr>
                <a:xfrm>
                  <a:off x="3772080" y="2781360"/>
                  <a:ext cx="18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8" name=""/>
                <p:cNvSpPr/>
                <p:nvPr/>
              </p:nvSpPr>
              <p:spPr>
                <a:xfrm>
                  <a:off x="3827520" y="27813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9" name=""/>
                <p:cNvSpPr/>
                <p:nvPr/>
              </p:nvSpPr>
              <p:spPr>
                <a:xfrm>
                  <a:off x="3836880" y="2781360"/>
                  <a:ext cx="1764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0" name=""/>
                <p:cNvSpPr/>
                <p:nvPr/>
              </p:nvSpPr>
              <p:spPr>
                <a:xfrm>
                  <a:off x="3892680" y="2781360"/>
                  <a:ext cx="172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1" name=""/>
                <p:cNvSpPr/>
                <p:nvPr/>
              </p:nvSpPr>
              <p:spPr>
                <a:xfrm>
                  <a:off x="3948120" y="2781360"/>
                  <a:ext cx="172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2" name=""/>
                <p:cNvSpPr/>
                <p:nvPr/>
              </p:nvSpPr>
              <p:spPr>
                <a:xfrm>
                  <a:off x="396540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3" name=""/>
                <p:cNvSpPr/>
                <p:nvPr/>
              </p:nvSpPr>
              <p:spPr>
                <a:xfrm>
                  <a:off x="4021200" y="2771640"/>
                  <a:ext cx="190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4" name=""/>
                <p:cNvSpPr/>
                <p:nvPr/>
              </p:nvSpPr>
              <p:spPr>
                <a:xfrm>
                  <a:off x="4076640" y="2771640"/>
                  <a:ext cx="190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5" name=""/>
                <p:cNvSpPr/>
                <p:nvPr/>
              </p:nvSpPr>
              <p:spPr>
                <a:xfrm>
                  <a:off x="4095720" y="2771640"/>
                  <a:ext cx="176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6" name=""/>
                <p:cNvSpPr/>
                <p:nvPr/>
              </p:nvSpPr>
              <p:spPr>
                <a:xfrm>
                  <a:off x="4151160" y="2771640"/>
                  <a:ext cx="176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7" name=""/>
                <p:cNvSpPr/>
                <p:nvPr/>
              </p:nvSpPr>
              <p:spPr>
                <a:xfrm>
                  <a:off x="4206960" y="27622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8" name=""/>
                <p:cNvSpPr/>
                <p:nvPr/>
              </p:nvSpPr>
              <p:spPr>
                <a:xfrm>
                  <a:off x="4214880" y="27622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9" name=""/>
                <p:cNvSpPr/>
                <p:nvPr/>
              </p:nvSpPr>
              <p:spPr>
                <a:xfrm>
                  <a:off x="4270320" y="27622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0" name=""/>
                <p:cNvSpPr/>
                <p:nvPr/>
              </p:nvSpPr>
              <p:spPr>
                <a:xfrm>
                  <a:off x="4325760" y="27511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1" name=""/>
                <p:cNvSpPr/>
                <p:nvPr/>
              </p:nvSpPr>
              <p:spPr>
                <a:xfrm>
                  <a:off x="4344840" y="27511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2" name=""/>
                <p:cNvSpPr/>
                <p:nvPr/>
              </p:nvSpPr>
              <p:spPr>
                <a:xfrm>
                  <a:off x="4400640" y="2751120"/>
                  <a:ext cx="172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3" name=""/>
                <p:cNvSpPr/>
                <p:nvPr/>
              </p:nvSpPr>
              <p:spPr>
                <a:xfrm>
                  <a:off x="4456080" y="274140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4" name=""/>
                <p:cNvSpPr/>
                <p:nvPr/>
              </p:nvSpPr>
              <p:spPr>
                <a:xfrm>
                  <a:off x="4465800" y="2741400"/>
                  <a:ext cx="172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5" name=""/>
                <p:cNvSpPr/>
                <p:nvPr/>
              </p:nvSpPr>
              <p:spPr>
                <a:xfrm>
                  <a:off x="4511520" y="273204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76" name=""/>
              <p:cNvSpPr/>
              <p:nvPr/>
            </p:nvSpPr>
            <p:spPr>
              <a:xfrm>
                <a:off x="4575240" y="273204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4584600" y="2720880"/>
                <a:ext cx="2880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4649760" y="272088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4705200" y="271116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4714920" y="271116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4761000" y="270180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4807080" y="27018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4853160" y="269064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4917960" y="26812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>
                <a:off x="4927680" y="268128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4973760" y="267156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5038560" y="2671560"/>
                <a:ext cx="176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5046840" y="2660400"/>
                <a:ext cx="28440" cy="2088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5102280" y="265104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5167440" y="26510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5176800" y="2651040"/>
                <a:ext cx="17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5222880" y="263196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5288040" y="263196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5297400" y="262080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5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5351400" y="2611440"/>
                <a:ext cx="2880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5416560" y="26114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5425920" y="261144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5481720" y="260172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5537160" y="259056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5556240" y="2590560"/>
                <a:ext cx="1764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5610240" y="25812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5665680" y="257148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5684760" y="257148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5730840" y="256068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5759280" y="255096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5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5823000" y="255096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5878440" y="254160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5888160" y="25416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5934240" y="253188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5999040" y="253188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6008760" y="2520720"/>
                <a:ext cx="27000" cy="2088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6073920" y="2520720"/>
                <a:ext cx="172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6127920" y="2520720"/>
                <a:ext cx="9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6137280" y="252072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6192720" y="251136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6248520" y="250164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6267600" y="250164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6323040" y="250164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6378480" y="2490840"/>
                <a:ext cx="176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6396120" y="2490840"/>
                <a:ext cx="190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6442200" y="248112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6507000" y="248112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6516720" y="248112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6562800" y="247176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6627960" y="247176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6645240" y="247176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6692760" y="246060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5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6756480" y="2460600"/>
                <a:ext cx="9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6765840" y="246060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6821640" y="2450880"/>
                <a:ext cx="18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6850080" y="245088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6896160" y="244152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5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6959520" y="244152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6969240" y="243036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7024680" y="242100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7089840" y="24210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7099200" y="241128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7155000" y="240192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5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7218360" y="2390760"/>
                <a:ext cx="9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7227720" y="239076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7273800" y="2371680"/>
                <a:ext cx="2880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7338960" y="236052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7348680" y="2350800"/>
                <a:ext cx="27000" cy="2088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7404120" y="234144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7469280" y="232092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7477200" y="232092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7524720" y="229068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5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7578720" y="227160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7597800" y="226044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7653240" y="2230200"/>
                <a:ext cx="28800" cy="2088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7699320" y="2200320"/>
                <a:ext cx="2880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7718400" y="219060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7764480" y="217152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1294560" y="39132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3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1294560" y="37224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2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1294560" y="35226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2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1294560" y="333216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1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1294560" y="31320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1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1360080" y="2941560"/>
                <a:ext cx="218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1396440" y="275112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1396440" y="255096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1331280" y="236052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1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1331280" y="216036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1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1331280" y="196992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2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 rot="16200000">
                <a:off x="937440" y="4730400"/>
                <a:ext cx="1529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Equipo, Radio y Televisi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 rot="16200000">
                <a:off x="1015920" y="4861080"/>
                <a:ext cx="160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paratos Electrodomést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 rot="16200000">
                <a:off x="1318680" y="4636800"/>
                <a:ext cx="1242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bonos y Plaguicid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 rot="16200000">
                <a:off x="1764000" y="4309920"/>
                <a:ext cx="590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urtidurí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 rot="16200000">
                <a:off x="1303200" y="4910040"/>
                <a:ext cx="1759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de Caucho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 rot="16200000">
                <a:off x="1636200" y="4699080"/>
                <a:ext cx="1328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Vehículos automotore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 rot="16200000">
                <a:off x="1555920" y="4892760"/>
                <a:ext cx="1730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hocolates, cacao y confiterí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 rot="16200000">
                <a:off x="1648440" y="4911480"/>
                <a:ext cx="1792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Farmacéuticos de uso Human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 rot="16200000">
                <a:off x="1794240" y="4894200"/>
                <a:ext cx="1742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Maquinaria y equip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 rot="16200000">
                <a:off x="1937520" y="4872960"/>
                <a:ext cx="1693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 calzado de cuer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 rot="16200000">
                <a:off x="1985760" y="4936320"/>
                <a:ext cx="1838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Destilación de alcohol y bebid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 rot="16200000">
                <a:off x="2480760" y="4558680"/>
                <a:ext cx="1090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Llantas y Cámar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 rot="16200000">
                <a:off x="2671200" y="4456800"/>
                <a:ext cx="950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erveza y Malt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 rot="16200000">
                <a:off x="2457360" y="4807080"/>
                <a:ext cx="161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Hilados, Tejidos y acabad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 rot="16200000">
                <a:off x="2740320" y="4657680"/>
                <a:ext cx="1291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Refinerías de Petróle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 rot="16200000">
                <a:off x="2723760" y="4783320"/>
                <a:ext cx="156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 Papel y Cart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 rot="16200000">
                <a:off x="2768400" y="4899600"/>
                <a:ext cx="1715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serraderos y acepilladura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 rot="16200000">
                <a:off x="2931480" y="4857840"/>
                <a:ext cx="1629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Resinas Sintéticas, materi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 rot="16200000">
                <a:off x="2911320" y="4977360"/>
                <a:ext cx="1911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ceites y grasas vegetal y animal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 rot="16200000">
                <a:off x="3771000" y="4225320"/>
                <a:ext cx="430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zúcar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 rot="16200000">
                <a:off x="3388680" y="4734720"/>
                <a:ext cx="143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onservación de frutas y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 rot="16200000">
                <a:off x="3423240" y="4846320"/>
                <a:ext cx="1608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Maquinaria eléctrica divers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 rot="16200000">
                <a:off x="3800520" y="4585680"/>
                <a:ext cx="1091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s divers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 rot="16200000">
                <a:off x="3519000" y="5013720"/>
                <a:ext cx="1896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minerales no metál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 rot="16200000">
                <a:off x="3586320" y="5044320"/>
                <a:ext cx="2003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 confección de prend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 rot="16200000">
                <a:off x="4478040" y="4234320"/>
                <a:ext cx="457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Tabac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 rot="16200000">
                <a:off x="3853800" y="4981680"/>
                <a:ext cx="1928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onservación de Pescado y otr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 rot="16200000">
                <a:off x="3945600" y="4992480"/>
                <a:ext cx="1986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Elaboración de Harina de Pescad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 rot="16200000">
                <a:off x="4165920" y="4958640"/>
                <a:ext cx="1786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Suministros Eléctric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 rot="16200000">
                <a:off x="4904640" y="4276800"/>
                <a:ext cx="547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ement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 rot="16200000">
                <a:off x="4941360" y="4381560"/>
                <a:ext cx="715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anificaci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 rot="16200000">
                <a:off x="4628520" y="4822560"/>
                <a:ext cx="1582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Herramientas y artículos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 rot="16200000">
                <a:off x="4574520" y="4993200"/>
                <a:ext cx="1925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l vidrio y productos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 rot="16200000">
                <a:off x="5117400" y="4582440"/>
                <a:ext cx="1084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Lácte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 rot="16200000">
                <a:off x="5011920" y="4795200"/>
                <a:ext cx="153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inturas, Barnices y Lac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 rot="16200000">
                <a:off x="4926960" y="4992840"/>
                <a:ext cx="19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Básica de Hierro y acer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 rot="16200000">
                <a:off x="5108400" y="4974120"/>
                <a:ext cx="1820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Alimentici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 rot="16200000">
                <a:off x="5563440" y="4586400"/>
                <a:ext cx="1151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Molinería de gran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 rot="16200000">
                <a:off x="5496840" y="4791960"/>
                <a:ext cx="1521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Otros Productos Quím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 rot="16200000">
                <a:off x="5497560" y="4900680"/>
                <a:ext cx="1762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Básica de Metales n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 rot="16200000">
                <a:off x="5608080" y="4932720"/>
                <a:ext cx="1785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mprenta, editoriales y conex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 rot="16200000">
                <a:off x="5805720" y="4846680"/>
                <a:ext cx="1628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limentos balanceados par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 rot="16200000">
                <a:off x="5780880" y="4973760"/>
                <a:ext cx="1919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de Tocador y Limpiez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 rot="16200000">
                <a:off x="6400440" y="4469760"/>
                <a:ext cx="921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Química Básic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 rot="16200000">
                <a:off x="6093720" y="4922280"/>
                <a:ext cx="17730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eparación y conservación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 rot="16200000">
                <a:off x="6534360" y="4570920"/>
                <a:ext cx="1133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Bebidas Gaseos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 rot="16200000">
                <a:off x="6630480" y="4635720"/>
                <a:ext cx="1181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Plást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 rot="16200000">
                <a:off x="6540840" y="4776840"/>
                <a:ext cx="1602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Envases de Papel y Cart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 rot="16200000">
                <a:off x="7130880" y="4336200"/>
                <a:ext cx="660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ordelerí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 rot="16200000">
                <a:off x="6723360" y="4919040"/>
                <a:ext cx="1716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metálic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 rot="16200000">
                <a:off x="7211520" y="4497120"/>
                <a:ext cx="982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Tejidos de Punt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 rot="16200000">
                <a:off x="7020360" y="4807080"/>
                <a:ext cx="160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Objetos de loza y porcelan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"/>
          <p:cNvSpPr/>
          <p:nvPr/>
        </p:nvSpPr>
        <p:spPr>
          <a:xfrm>
            <a:off x="492120" y="6095880"/>
            <a:ext cx="6470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Banco Mundial, "Closing the Gap in Education and Technology" (2002)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8" name=""/>
          <p:cNvSpPr/>
          <p:nvPr/>
        </p:nvSpPr>
        <p:spPr>
          <a:xfrm>
            <a:off x="611280" y="333360"/>
            <a:ext cx="7543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Inversión en I&amp;D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19" name=""/>
          <p:cNvGrpSpPr/>
          <p:nvPr/>
        </p:nvGrpSpPr>
        <p:grpSpPr>
          <a:xfrm>
            <a:off x="489600" y="1219320"/>
            <a:ext cx="3894480" cy="4611600"/>
            <a:chOff x="489600" y="1219320"/>
            <a:chExt cx="3894480" cy="4611600"/>
          </a:xfrm>
        </p:grpSpPr>
        <p:sp>
          <p:nvSpPr>
            <p:cNvPr id="2320" name=""/>
            <p:cNvSpPr/>
            <p:nvPr/>
          </p:nvSpPr>
          <p:spPr>
            <a:xfrm>
              <a:off x="633240" y="1219320"/>
              <a:ext cx="35164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nversión Pública y Privada en Investigación &amp; Desarrollo por Trabajador – América Latin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En US$ de 1995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21" name=""/>
            <p:cNvGrpSpPr/>
            <p:nvPr/>
          </p:nvGrpSpPr>
          <p:grpSpPr>
            <a:xfrm>
              <a:off x="489600" y="1913040"/>
              <a:ext cx="3894480" cy="3917880"/>
              <a:chOff x="489600" y="1913040"/>
              <a:chExt cx="3894480" cy="3917880"/>
            </a:xfrm>
          </p:grpSpPr>
          <p:sp>
            <p:nvSpPr>
              <p:cNvPr id="2322" name=""/>
              <p:cNvSpPr/>
              <p:nvPr/>
            </p:nvSpPr>
            <p:spPr>
              <a:xfrm>
                <a:off x="895320" y="4791240"/>
                <a:ext cx="165240" cy="1364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1195560" y="4686480"/>
                <a:ext cx="153720" cy="24120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1484280" y="4633920"/>
                <a:ext cx="165240" cy="29376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1784520" y="4624560"/>
                <a:ext cx="163440" cy="3031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2084400" y="4529160"/>
                <a:ext cx="154080" cy="3985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2373480" y="4456080"/>
                <a:ext cx="163440" cy="47160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2673360" y="4205160"/>
                <a:ext cx="163440" cy="7225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2971800" y="4089240"/>
                <a:ext cx="155520" cy="8384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3262320" y="3063960"/>
                <a:ext cx="163440" cy="18637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3560760" y="2781360"/>
                <a:ext cx="165240" cy="21463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3860640" y="2781360"/>
                <a:ext cx="154080" cy="21463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4151160" y="2362320"/>
                <a:ext cx="163800" cy="256536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828720" y="1996920"/>
                <a:ext cx="1440" cy="293076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789120" y="492768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789120" y="456084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789120" y="419400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789120" y="382752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789120" y="346248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789120" y="309564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789120" y="272880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789120" y="236232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789120" y="199692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828720" y="4927680"/>
                <a:ext cx="355428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884880" y="4560840"/>
                <a:ext cx="195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1184760" y="4456080"/>
                <a:ext cx="195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9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1445040" y="440388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1.1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1745280" y="43941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1.2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2043720" y="42991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3.8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2334240" y="422604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5.8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2632680" y="39751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22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2932560" y="385920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25.9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3221640" y="28335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53.8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3521520" y="25509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1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3821760" y="25509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1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4110480" y="21319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73.1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556200" y="4843440"/>
                <a:ext cx="195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489600" y="447660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489600" y="41115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2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489600" y="374508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3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489600" y="337824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4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489600" y="301140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5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489600" y="26449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489600" y="22795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7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489600" y="191304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8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 rot="16200000">
                <a:off x="626760" y="5304960"/>
                <a:ext cx="697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Nicaragu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 rot="16200000">
                <a:off x="990360" y="5254920"/>
                <a:ext cx="570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Ecuado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 rot="16200000">
                <a:off x="1285200" y="5240160"/>
                <a:ext cx="578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Uruguay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 rot="16200000">
                <a:off x="1473480" y="5348160"/>
                <a:ext cx="782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El Salvado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 rot="16200000">
                <a:off x="1843560" y="5290560"/>
                <a:ext cx="645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olombi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 rot="16200000">
                <a:off x="2091600" y="5330880"/>
                <a:ext cx="749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Guatemal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 rot="16200000">
                <a:off x="2594880" y="5123160"/>
                <a:ext cx="323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Perú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 rot="16200000">
                <a:off x="2681640" y="5352120"/>
                <a:ext cx="747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osta Ric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 rot="16200000">
                <a:off x="3180960" y="5131800"/>
                <a:ext cx="348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hil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 rot="16200000">
                <a:off x="3316320" y="5271840"/>
                <a:ext cx="655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Argentin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 rot="16200000">
                <a:off x="3753360" y="515592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Brasi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 rot="16200000">
                <a:off x="3881880" y="5309640"/>
                <a:ext cx="724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Venezuel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378" name=""/>
          <p:cNvGrpSpPr/>
          <p:nvPr/>
        </p:nvGrpSpPr>
        <p:grpSpPr>
          <a:xfrm>
            <a:off x="5064120" y="1197000"/>
            <a:ext cx="3798720" cy="4548240"/>
            <a:chOff x="5064120" y="1197000"/>
            <a:chExt cx="3798720" cy="4548240"/>
          </a:xfrm>
        </p:grpSpPr>
        <p:sp>
          <p:nvSpPr>
            <p:cNvPr id="2379" name=""/>
            <p:cNvSpPr/>
            <p:nvPr/>
          </p:nvSpPr>
          <p:spPr>
            <a:xfrm>
              <a:off x="5064120" y="1197000"/>
              <a:ext cx="37987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nversión Pública y Privada en Investigación &amp; Desarrollo por Trabajador – Singapur &amp; Kore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En US$ de 1995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80" name=""/>
            <p:cNvGrpSpPr/>
            <p:nvPr/>
          </p:nvGrpSpPr>
          <p:grpSpPr>
            <a:xfrm>
              <a:off x="5339520" y="2116080"/>
              <a:ext cx="3080520" cy="3629160"/>
              <a:chOff x="5339520" y="2116080"/>
              <a:chExt cx="3080520" cy="3629160"/>
            </a:xfrm>
          </p:grpSpPr>
          <p:sp>
            <p:nvSpPr>
              <p:cNvPr id="2381" name=""/>
              <p:cNvSpPr/>
              <p:nvPr/>
            </p:nvSpPr>
            <p:spPr>
              <a:xfrm>
                <a:off x="6164280" y="4092480"/>
                <a:ext cx="487440" cy="132876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7512120" y="2349360"/>
                <a:ext cx="476280" cy="307188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5734080" y="2197080"/>
                <a:ext cx="1440" cy="322416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5695920" y="542124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5695920" y="501480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5695920" y="461952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5695920" y="421488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5695920" y="380844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5695920" y="3403440"/>
                <a:ext cx="38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5695920" y="3008160"/>
                <a:ext cx="38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5695920" y="260352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5695920" y="219708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5734080" y="5421240"/>
                <a:ext cx="268596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6247800" y="387036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167.9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7595640" y="212544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83.7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5471280" y="533880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5406480" y="493380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5339520" y="453852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1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5339520" y="413388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1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5339520" y="372744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2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5339520" y="332244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2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5339520" y="292716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5339520" y="252072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5339520" y="211608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4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6132240" y="5562360"/>
                <a:ext cx="6134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Singapu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7556040" y="5562360"/>
                <a:ext cx="416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ore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64800" y="304560"/>
            <a:ext cx="80708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formas y apertura comercial en los 90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258920" y="1987560"/>
            <a:ext cx="6697440" cy="4536720"/>
            <a:chOff x="1258920" y="1987560"/>
            <a:chExt cx="6697440" cy="4536720"/>
          </a:xfrm>
        </p:grpSpPr>
        <p:pic>
          <p:nvPicPr>
            <p:cNvPr id="124" name="" descr=""/>
            <p:cNvPicPr/>
            <p:nvPr/>
          </p:nvPicPr>
          <p:blipFill>
            <a:blip r:embed="rId1"/>
            <a:stretch/>
          </p:blipFill>
          <p:spPr>
            <a:xfrm>
              <a:off x="1258920" y="2580480"/>
              <a:ext cx="6697440" cy="394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2000880" y="1987560"/>
              <a:ext cx="569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Verdana"/>
                </a:rPr>
                <a:t>Evolución del promedio arancelari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000680" y="3896280"/>
              <a:ext cx="2567160" cy="104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1598040" y="6553080"/>
            <a:ext cx="215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</a:t>
            </a:r>
            <a:r>
              <a:rPr b="1" lang="es-MX" sz="800" spc="-1" strike="noStrike">
                <a:solidFill>
                  <a:srgbClr val="ffffff"/>
                </a:solidFill>
                <a:latin typeface="Arial"/>
              </a:rPr>
              <a:t>MEF</a:t>
            </a: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"/>
          <p:cNvSpPr/>
          <p:nvPr/>
        </p:nvSpPr>
        <p:spPr>
          <a:xfrm>
            <a:off x="1066680" y="304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Tahoma"/>
              </a:rPr>
              <a:t>Comparación entre Chile, Colombia y Per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8" name=""/>
          <p:cNvSpPr/>
          <p:nvPr/>
        </p:nvSpPr>
        <p:spPr>
          <a:xfrm>
            <a:off x="987840" y="6338880"/>
            <a:ext cx="2247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CEPAL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09" name=""/>
          <p:cNvGrpSpPr/>
          <p:nvPr/>
        </p:nvGrpSpPr>
        <p:grpSpPr>
          <a:xfrm>
            <a:off x="4934160" y="1916280"/>
            <a:ext cx="3741480" cy="2398680"/>
            <a:chOff x="4934160" y="1916280"/>
            <a:chExt cx="3741480" cy="2398680"/>
          </a:xfrm>
        </p:grpSpPr>
        <p:grpSp>
          <p:nvGrpSpPr>
            <p:cNvPr id="2410" name=""/>
            <p:cNvGrpSpPr/>
            <p:nvPr/>
          </p:nvGrpSpPr>
          <p:grpSpPr>
            <a:xfrm>
              <a:off x="5124600" y="2255760"/>
              <a:ext cx="3544560" cy="1402920"/>
              <a:chOff x="5124600" y="2255760"/>
              <a:chExt cx="3544560" cy="1402920"/>
            </a:xfrm>
          </p:grpSpPr>
          <p:sp>
            <p:nvSpPr>
              <p:cNvPr id="2411" name=""/>
              <p:cNvSpPr/>
              <p:nvPr/>
            </p:nvSpPr>
            <p:spPr>
              <a:xfrm>
                <a:off x="5148360" y="2255760"/>
                <a:ext cx="1440" cy="137628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5124600" y="363204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5124600" y="343368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5124600" y="323676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5124600" y="303840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5124600" y="284940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5124600" y="2652840"/>
                <a:ext cx="2376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5124600" y="245412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5124600" y="225576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5148360" y="3632040"/>
                <a:ext cx="35193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 flipV="1">
                <a:off x="51483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 flipV="1">
                <a:off x="52214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 flipV="1">
                <a:off x="52927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 flipV="1">
                <a:off x="53578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 flipV="1">
                <a:off x="54291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 flipV="1">
                <a:off x="55008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 flipV="1">
                <a:off x="55738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 flipV="1">
                <a:off x="56372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 flipV="1">
                <a:off x="57103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 flipV="1">
                <a:off x="57816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 flipV="1">
                <a:off x="58546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 flipV="1">
                <a:off x="59259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 flipV="1">
                <a:off x="599112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 flipV="1">
                <a:off x="60627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 flipV="1">
                <a:off x="61340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 flipV="1">
                <a:off x="62071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 flipV="1">
                <a:off x="627048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 flipV="1">
                <a:off x="63435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 flipV="1">
                <a:off x="64152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 flipV="1">
                <a:off x="64882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 flipV="1">
                <a:off x="65595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 flipV="1">
                <a:off x="662292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 flipV="1">
                <a:off x="66960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 flipV="1">
                <a:off x="67676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 flipV="1">
                <a:off x="68403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 flipV="1">
                <a:off x="69120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 flipV="1">
                <a:off x="69771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 flipV="1">
                <a:off x="70484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 flipV="1">
                <a:off x="71215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 flipV="1">
                <a:off x="71928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 flipV="1">
                <a:off x="72565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 flipV="1">
                <a:off x="73296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 flipV="1">
                <a:off x="740088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 flipV="1">
                <a:off x="74739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 flipV="1">
                <a:off x="75452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 flipV="1">
                <a:off x="76104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 flipV="1">
                <a:off x="76820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 flipV="1">
                <a:off x="77547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 flipV="1">
                <a:off x="78264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 flipV="1">
                <a:off x="78897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 flipV="1">
                <a:off x="79628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 flipV="1">
                <a:off x="80344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 flipV="1">
                <a:off x="81072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 flipV="1">
                <a:off x="81788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 flipV="1">
                <a:off x="82440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 flipV="1">
                <a:off x="831528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 flipV="1">
                <a:off x="83869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 flipV="1">
                <a:off x="84596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 flipV="1">
                <a:off x="85233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 flipV="1">
                <a:off x="85964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 flipV="1">
                <a:off x="86677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>
                <a:off x="5180040" y="2427120"/>
                <a:ext cx="3456000" cy="827280"/>
              </a:xfrm>
              <a:custGeom>
                <a:avLst/>
                <a:gdLst/>
                <a:ahLst/>
                <a:rect l="l" t="t" r="r" b="b"/>
                <a:pathLst>
                  <a:path w="431" h="92">
                    <a:moveTo>
                      <a:pt x="0" y="81"/>
                    </a:moveTo>
                    <a:lnTo>
                      <a:pt x="9" y="83"/>
                    </a:lnTo>
                    <a:lnTo>
                      <a:pt x="18" y="92"/>
                    </a:lnTo>
                    <a:lnTo>
                      <a:pt x="27" y="88"/>
                    </a:lnTo>
                    <a:lnTo>
                      <a:pt x="36" y="83"/>
                    </a:lnTo>
                    <a:lnTo>
                      <a:pt x="44" y="84"/>
                    </a:lnTo>
                    <a:lnTo>
                      <a:pt x="53" y="84"/>
                    </a:lnTo>
                    <a:lnTo>
                      <a:pt x="62" y="88"/>
                    </a:lnTo>
                    <a:lnTo>
                      <a:pt x="71" y="84"/>
                    </a:lnTo>
                    <a:lnTo>
                      <a:pt x="79" y="76"/>
                    </a:lnTo>
                    <a:lnTo>
                      <a:pt x="88" y="73"/>
                    </a:lnTo>
                    <a:lnTo>
                      <a:pt x="97" y="77"/>
                    </a:lnTo>
                    <a:lnTo>
                      <a:pt x="106" y="78"/>
                    </a:lnTo>
                    <a:lnTo>
                      <a:pt x="115" y="75"/>
                    </a:lnTo>
                    <a:lnTo>
                      <a:pt x="123" y="77"/>
                    </a:lnTo>
                    <a:lnTo>
                      <a:pt x="132" y="73"/>
                    </a:lnTo>
                    <a:lnTo>
                      <a:pt x="141" y="77"/>
                    </a:lnTo>
                    <a:lnTo>
                      <a:pt x="150" y="76"/>
                    </a:lnTo>
                    <a:lnTo>
                      <a:pt x="158" y="73"/>
                    </a:lnTo>
                    <a:lnTo>
                      <a:pt x="167" y="74"/>
                    </a:lnTo>
                    <a:lnTo>
                      <a:pt x="176" y="76"/>
                    </a:lnTo>
                    <a:lnTo>
                      <a:pt x="185" y="78"/>
                    </a:lnTo>
                    <a:lnTo>
                      <a:pt x="194" y="77"/>
                    </a:lnTo>
                    <a:lnTo>
                      <a:pt x="202" y="72"/>
                    </a:lnTo>
                    <a:lnTo>
                      <a:pt x="211" y="78"/>
                    </a:lnTo>
                    <a:lnTo>
                      <a:pt x="220" y="72"/>
                    </a:lnTo>
                    <a:lnTo>
                      <a:pt x="229" y="64"/>
                    </a:lnTo>
                    <a:lnTo>
                      <a:pt x="237" y="60"/>
                    </a:lnTo>
                    <a:lnTo>
                      <a:pt x="246" y="54"/>
                    </a:lnTo>
                    <a:lnTo>
                      <a:pt x="255" y="42"/>
                    </a:lnTo>
                    <a:lnTo>
                      <a:pt x="264" y="42"/>
                    </a:lnTo>
                    <a:lnTo>
                      <a:pt x="273" y="54"/>
                    </a:lnTo>
                    <a:lnTo>
                      <a:pt x="281" y="56"/>
                    </a:lnTo>
                    <a:lnTo>
                      <a:pt x="290" y="54"/>
                    </a:lnTo>
                    <a:lnTo>
                      <a:pt x="299" y="58"/>
                    </a:lnTo>
                    <a:lnTo>
                      <a:pt x="308" y="55"/>
                    </a:lnTo>
                    <a:lnTo>
                      <a:pt x="316" y="50"/>
                    </a:lnTo>
                    <a:lnTo>
                      <a:pt x="325" y="46"/>
                    </a:lnTo>
                    <a:lnTo>
                      <a:pt x="334" y="38"/>
                    </a:lnTo>
                    <a:lnTo>
                      <a:pt x="343" y="34"/>
                    </a:lnTo>
                    <a:lnTo>
                      <a:pt x="352" y="32"/>
                    </a:lnTo>
                    <a:lnTo>
                      <a:pt x="360" y="26"/>
                    </a:lnTo>
                    <a:lnTo>
                      <a:pt x="369" y="25"/>
                    </a:lnTo>
                    <a:lnTo>
                      <a:pt x="378" y="20"/>
                    </a:lnTo>
                    <a:lnTo>
                      <a:pt x="387" y="11"/>
                    </a:lnTo>
                    <a:lnTo>
                      <a:pt x="395" y="6"/>
                    </a:lnTo>
                    <a:lnTo>
                      <a:pt x="404" y="2"/>
                    </a:lnTo>
                    <a:lnTo>
                      <a:pt x="413" y="0"/>
                    </a:lnTo>
                    <a:lnTo>
                      <a:pt x="422" y="4"/>
                    </a:lnTo>
                    <a:lnTo>
                      <a:pt x="431" y="0"/>
                    </a:lnTo>
                  </a:path>
                </a:pathLst>
              </a:custGeom>
              <a:noFill/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>
                <a:off x="5180040" y="2967120"/>
                <a:ext cx="3456000" cy="314280"/>
              </a:xfrm>
              <a:custGeom>
                <a:avLst/>
                <a:gdLst/>
                <a:ahLst/>
                <a:rect l="l" t="t" r="r" b="b"/>
                <a:pathLst>
                  <a:path w="431" h="35">
                    <a:moveTo>
                      <a:pt x="0" y="20"/>
                    </a:moveTo>
                    <a:lnTo>
                      <a:pt x="9" y="23"/>
                    </a:lnTo>
                    <a:lnTo>
                      <a:pt x="18" y="12"/>
                    </a:lnTo>
                    <a:lnTo>
                      <a:pt x="27" y="16"/>
                    </a:lnTo>
                    <a:lnTo>
                      <a:pt x="36" y="16"/>
                    </a:lnTo>
                    <a:lnTo>
                      <a:pt x="44" y="20"/>
                    </a:lnTo>
                    <a:lnTo>
                      <a:pt x="53" y="25"/>
                    </a:lnTo>
                    <a:lnTo>
                      <a:pt x="62" y="28"/>
                    </a:lnTo>
                    <a:lnTo>
                      <a:pt x="71" y="26"/>
                    </a:lnTo>
                    <a:lnTo>
                      <a:pt x="79" y="25"/>
                    </a:lnTo>
                    <a:lnTo>
                      <a:pt x="88" y="28"/>
                    </a:lnTo>
                    <a:lnTo>
                      <a:pt x="97" y="28"/>
                    </a:lnTo>
                    <a:lnTo>
                      <a:pt x="106" y="31"/>
                    </a:lnTo>
                    <a:lnTo>
                      <a:pt x="115" y="28"/>
                    </a:lnTo>
                    <a:lnTo>
                      <a:pt x="123" y="31"/>
                    </a:lnTo>
                    <a:lnTo>
                      <a:pt x="132" y="28"/>
                    </a:lnTo>
                    <a:lnTo>
                      <a:pt x="141" y="32"/>
                    </a:lnTo>
                    <a:lnTo>
                      <a:pt x="150" y="29"/>
                    </a:lnTo>
                    <a:lnTo>
                      <a:pt x="158" y="29"/>
                    </a:lnTo>
                    <a:lnTo>
                      <a:pt x="167" y="28"/>
                    </a:lnTo>
                    <a:lnTo>
                      <a:pt x="176" y="26"/>
                    </a:lnTo>
                    <a:lnTo>
                      <a:pt x="185" y="28"/>
                    </a:lnTo>
                    <a:lnTo>
                      <a:pt x="194" y="30"/>
                    </a:lnTo>
                    <a:lnTo>
                      <a:pt x="202" y="34"/>
                    </a:lnTo>
                    <a:lnTo>
                      <a:pt x="211" y="34"/>
                    </a:lnTo>
                    <a:lnTo>
                      <a:pt x="220" y="35"/>
                    </a:lnTo>
                    <a:lnTo>
                      <a:pt x="229" y="35"/>
                    </a:lnTo>
                    <a:lnTo>
                      <a:pt x="237" y="30"/>
                    </a:lnTo>
                    <a:lnTo>
                      <a:pt x="246" y="31"/>
                    </a:lnTo>
                    <a:lnTo>
                      <a:pt x="255" y="28"/>
                    </a:lnTo>
                    <a:lnTo>
                      <a:pt x="264" y="30"/>
                    </a:lnTo>
                    <a:lnTo>
                      <a:pt x="273" y="29"/>
                    </a:lnTo>
                    <a:lnTo>
                      <a:pt x="281" y="32"/>
                    </a:lnTo>
                    <a:lnTo>
                      <a:pt x="290" y="32"/>
                    </a:lnTo>
                    <a:lnTo>
                      <a:pt x="299" y="33"/>
                    </a:lnTo>
                    <a:lnTo>
                      <a:pt x="308" y="30"/>
                    </a:lnTo>
                    <a:lnTo>
                      <a:pt x="316" y="29"/>
                    </a:lnTo>
                    <a:lnTo>
                      <a:pt x="325" y="29"/>
                    </a:lnTo>
                    <a:lnTo>
                      <a:pt x="334" y="30"/>
                    </a:lnTo>
                    <a:lnTo>
                      <a:pt x="343" y="26"/>
                    </a:lnTo>
                    <a:lnTo>
                      <a:pt x="352" y="23"/>
                    </a:lnTo>
                    <a:lnTo>
                      <a:pt x="360" y="15"/>
                    </a:lnTo>
                    <a:lnTo>
                      <a:pt x="369" y="6"/>
                    </a:lnTo>
                    <a:lnTo>
                      <a:pt x="378" y="1"/>
                    </a:lnTo>
                    <a:lnTo>
                      <a:pt x="387" y="2"/>
                    </a:lnTo>
                    <a:lnTo>
                      <a:pt x="395" y="1"/>
                    </a:lnTo>
                    <a:lnTo>
                      <a:pt x="404" y="0"/>
                    </a:lnTo>
                    <a:lnTo>
                      <a:pt x="413" y="0"/>
                    </a:lnTo>
                    <a:lnTo>
                      <a:pt x="422" y="6"/>
                    </a:lnTo>
                    <a:lnTo>
                      <a:pt x="431" y="4"/>
                    </a:lnTo>
                  </a:path>
                </a:pathLst>
              </a:custGeom>
              <a:noFill/>
              <a:ln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5180040" y="2922480"/>
                <a:ext cx="3456000" cy="358920"/>
              </a:xfrm>
              <a:custGeom>
                <a:avLst/>
                <a:gdLst/>
                <a:ahLst/>
                <a:rect l="l" t="t" r="r" b="b"/>
                <a:pathLst>
                  <a:path w="431" h="40">
                    <a:moveTo>
                      <a:pt x="0" y="23"/>
                    </a:moveTo>
                    <a:lnTo>
                      <a:pt x="9" y="19"/>
                    </a:lnTo>
                    <a:lnTo>
                      <a:pt x="18" y="16"/>
                    </a:lnTo>
                    <a:lnTo>
                      <a:pt x="27" y="20"/>
                    </a:lnTo>
                    <a:lnTo>
                      <a:pt x="36" y="13"/>
                    </a:lnTo>
                    <a:lnTo>
                      <a:pt x="44" y="11"/>
                    </a:lnTo>
                    <a:lnTo>
                      <a:pt x="53" y="6"/>
                    </a:lnTo>
                    <a:lnTo>
                      <a:pt x="62" y="12"/>
                    </a:lnTo>
                    <a:lnTo>
                      <a:pt x="71" y="12"/>
                    </a:lnTo>
                    <a:lnTo>
                      <a:pt x="79" y="7"/>
                    </a:lnTo>
                    <a:lnTo>
                      <a:pt x="88" y="0"/>
                    </a:lnTo>
                    <a:lnTo>
                      <a:pt x="97" y="0"/>
                    </a:lnTo>
                    <a:lnTo>
                      <a:pt x="106" y="6"/>
                    </a:lnTo>
                    <a:lnTo>
                      <a:pt x="115" y="8"/>
                    </a:lnTo>
                    <a:lnTo>
                      <a:pt x="123" y="7"/>
                    </a:lnTo>
                    <a:lnTo>
                      <a:pt x="132" y="6"/>
                    </a:lnTo>
                    <a:lnTo>
                      <a:pt x="141" y="3"/>
                    </a:lnTo>
                    <a:lnTo>
                      <a:pt x="150" y="9"/>
                    </a:lnTo>
                    <a:lnTo>
                      <a:pt x="158" y="14"/>
                    </a:lnTo>
                    <a:lnTo>
                      <a:pt x="167" y="24"/>
                    </a:lnTo>
                    <a:lnTo>
                      <a:pt x="176" y="26"/>
                    </a:lnTo>
                    <a:lnTo>
                      <a:pt x="185" y="26"/>
                    </a:lnTo>
                    <a:lnTo>
                      <a:pt x="194" y="30"/>
                    </a:lnTo>
                    <a:lnTo>
                      <a:pt x="202" y="25"/>
                    </a:lnTo>
                    <a:lnTo>
                      <a:pt x="211" y="28"/>
                    </a:lnTo>
                    <a:lnTo>
                      <a:pt x="220" y="32"/>
                    </a:lnTo>
                    <a:lnTo>
                      <a:pt x="229" y="30"/>
                    </a:lnTo>
                    <a:lnTo>
                      <a:pt x="237" y="33"/>
                    </a:lnTo>
                    <a:lnTo>
                      <a:pt x="246" y="25"/>
                    </a:lnTo>
                    <a:lnTo>
                      <a:pt x="255" y="26"/>
                    </a:lnTo>
                    <a:lnTo>
                      <a:pt x="264" y="25"/>
                    </a:lnTo>
                    <a:lnTo>
                      <a:pt x="273" y="22"/>
                    </a:lnTo>
                    <a:lnTo>
                      <a:pt x="281" y="28"/>
                    </a:lnTo>
                    <a:lnTo>
                      <a:pt x="290" y="31"/>
                    </a:lnTo>
                    <a:lnTo>
                      <a:pt x="299" y="33"/>
                    </a:lnTo>
                    <a:lnTo>
                      <a:pt x="308" y="37"/>
                    </a:lnTo>
                    <a:lnTo>
                      <a:pt x="316" y="39"/>
                    </a:lnTo>
                    <a:lnTo>
                      <a:pt x="325" y="40"/>
                    </a:lnTo>
                    <a:lnTo>
                      <a:pt x="334" y="34"/>
                    </a:lnTo>
                    <a:lnTo>
                      <a:pt x="343" y="32"/>
                    </a:lnTo>
                    <a:lnTo>
                      <a:pt x="352" y="30"/>
                    </a:lnTo>
                    <a:lnTo>
                      <a:pt x="360" y="26"/>
                    </a:lnTo>
                    <a:lnTo>
                      <a:pt x="369" y="28"/>
                    </a:lnTo>
                    <a:lnTo>
                      <a:pt x="378" y="24"/>
                    </a:lnTo>
                    <a:lnTo>
                      <a:pt x="387" y="19"/>
                    </a:lnTo>
                    <a:lnTo>
                      <a:pt x="395" y="17"/>
                    </a:lnTo>
                    <a:lnTo>
                      <a:pt x="404" y="14"/>
                    </a:lnTo>
                    <a:lnTo>
                      <a:pt x="413" y="11"/>
                    </a:lnTo>
                    <a:lnTo>
                      <a:pt x="422" y="15"/>
                    </a:lnTo>
                    <a:lnTo>
                      <a:pt x="431" y="14"/>
                    </a:lnTo>
                  </a:path>
                </a:pathLst>
              </a:custGeom>
              <a:noFill/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>
                <a:off x="5156280" y="3129120"/>
                <a:ext cx="48960" cy="5364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5229360" y="3146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5300640" y="3227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5373720" y="319104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>
                <a:off x="5445000" y="3146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5510160" y="3156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5581800" y="3156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5653080" y="3191040"/>
                <a:ext cx="49320" cy="5364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5726160" y="3156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5789520" y="30830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5862600" y="3056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5934240" y="3092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6006960" y="310212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6078600" y="3075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6141960" y="3092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6215040" y="3056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6286680" y="309240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6359400" y="308304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6423120" y="305604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6496200" y="3065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6567480" y="3083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6640560" y="3102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6711840" y="3092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6775560" y="304812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6848640" y="3102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6919920" y="304812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6993000" y="2976480"/>
                <a:ext cx="4752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33"/>
                    </a:lnTo>
                    <a:lnTo>
                      <a:pt x="0" y="33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7056360" y="294012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7129440" y="2886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7201080" y="2778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7273800" y="277812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7345440" y="2886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7408800" y="2903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7481880" y="2886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7553160" y="292248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7626240" y="289548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7689960" y="2849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7763040" y="281448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7834320" y="274176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7905600" y="27068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7978680" y="268776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8042400" y="263376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8115480" y="26258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8186760" y="257976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8259840" y="249876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8323200" y="2454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8396280" y="241776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8467560" y="2400480"/>
                <a:ext cx="4788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8539200" y="24368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8612280" y="240048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5148360" y="311004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 flipH="1" flipV="1">
                <a:off x="5156280" y="3119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5180040" y="3146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 flipH="1">
                <a:off x="5156280" y="3146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 flipV="1">
                <a:off x="5180040" y="311904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5221440" y="313704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 flipH="1" flipV="1">
                <a:off x="5229360" y="3146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5253120" y="3173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 flipH="1">
                <a:off x="5229360" y="3173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 flipV="1">
                <a:off x="5253120" y="3146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5292720" y="3038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 flipH="1" flipV="1">
                <a:off x="5300640" y="3047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5324400" y="307512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 flipH="1">
                <a:off x="5300640" y="3075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 flipV="1">
                <a:off x="5324400" y="304776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5365800" y="307512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 flipH="1" flipV="1">
                <a:off x="5373720" y="3082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5397480" y="311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 flipH="1">
                <a:off x="5373720" y="311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 flipV="1">
                <a:off x="5397480" y="3082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5437080" y="307512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 flipH="1" flipV="1">
                <a:off x="5445000" y="3082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5468760" y="311004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 flipH="1">
                <a:off x="5445000" y="311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 flipV="1">
                <a:off x="5468760" y="308268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5500800" y="311004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 flipH="1" flipV="1">
                <a:off x="5510160" y="3119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5533920" y="3146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 flipH="1">
                <a:off x="5510160" y="3146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 flipV="1">
                <a:off x="5533920" y="3119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5573880" y="315612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 flipH="1" flipV="1">
                <a:off x="5581800" y="3163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5605560" y="3191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 flipH="1">
                <a:off x="5581800" y="3191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 flipV="1">
                <a:off x="5605560" y="3163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5645160" y="318276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 flipH="1" flipV="1">
                <a:off x="5652720" y="319068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56786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 flipH="1">
                <a:off x="5652720" y="3218040"/>
                <a:ext cx="255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 flipV="1">
                <a:off x="56786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5718240" y="316404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 flipH="1" flipV="1">
                <a:off x="572616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574992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 flipH="1">
                <a:off x="572616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 flipV="1">
                <a:off x="574992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5781600" y="315612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 flipH="1" flipV="1">
                <a:off x="5789520" y="3163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5813280" y="3191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 flipH="1">
                <a:off x="5789520" y="3191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 flipV="1">
                <a:off x="5813280" y="316368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585468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 flipH="1" flipV="1">
                <a:off x="58626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58863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 flipH="1">
                <a:off x="58626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 flipV="1">
                <a:off x="58863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5925960" y="318276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 flipH="1" flipV="1">
                <a:off x="59342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59580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 flipH="1">
                <a:off x="59342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 flipV="1">
                <a:off x="59580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>
                <a:off x="5999040" y="320976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 flipH="1" flipV="1">
                <a:off x="6006600" y="3218040"/>
                <a:ext cx="2412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603108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 flipH="1">
                <a:off x="6006600" y="324468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 flipV="1">
                <a:off x="603108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607068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 flipH="1" flipV="1">
                <a:off x="60786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61023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 flipH="1">
                <a:off x="60786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 flipV="1">
                <a:off x="61023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6134040" y="320976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 flipH="1" flipV="1">
                <a:off x="6141600" y="3218040"/>
                <a:ext cx="255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616752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 flipH="1">
                <a:off x="6141600" y="324468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 flipV="1">
                <a:off x="616752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620712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 flipH="1" flipV="1">
                <a:off x="62150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62388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 flipH="1">
                <a:off x="62150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 flipV="1">
                <a:off x="62388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6278400" y="3218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 flipH="1" flipV="1">
                <a:off x="6286680" y="322704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631188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 flipH="1">
                <a:off x="6286680" y="3254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 flipV="1">
                <a:off x="631188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6351480" y="3191040"/>
                <a:ext cx="7164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11" name=""/>
            <p:cNvGrpSpPr/>
            <p:nvPr/>
          </p:nvGrpSpPr>
          <p:grpSpPr>
            <a:xfrm>
              <a:off x="5156280" y="2895480"/>
              <a:ext cx="3519360" cy="430200"/>
              <a:chOff x="5156280" y="2895480"/>
              <a:chExt cx="3519360" cy="430200"/>
            </a:xfrm>
          </p:grpSpPr>
          <p:sp>
            <p:nvSpPr>
              <p:cNvPr id="2612" name=""/>
              <p:cNvSpPr/>
              <p:nvPr/>
            </p:nvSpPr>
            <p:spPr>
              <a:xfrm flipH="1" flipV="1">
                <a:off x="635940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>
                <a:off x="6383160" y="3227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 flipH="1">
                <a:off x="635940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 flipV="1">
                <a:off x="6383160" y="320004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>
                <a:off x="6415200" y="3191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 flipH="1" flipV="1">
                <a:off x="642312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6446880" y="3227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 flipH="1">
                <a:off x="642312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 flipV="1">
                <a:off x="6446880" y="320004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>
                <a:off x="648828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 flipH="1" flipV="1">
                <a:off x="64962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65199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 flipH="1">
                <a:off x="64962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 flipV="1">
                <a:off x="65199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>
                <a:off x="6559560" y="3164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 flipH="1" flipV="1">
                <a:off x="656748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659124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 flipH="1">
                <a:off x="656748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 flipV="1">
                <a:off x="659124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663264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 flipH="1" flipV="1">
                <a:off x="66405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666432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 flipH="1">
                <a:off x="66405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 flipV="1">
                <a:off x="666432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6703920" y="3200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 flipH="1" flipV="1">
                <a:off x="671184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673560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 flipH="1">
                <a:off x="671184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 flipV="1">
                <a:off x="673560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6767640" y="3236760"/>
                <a:ext cx="7272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 flipH="1" flipV="1">
                <a:off x="6775560" y="324432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6800760" y="3271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 flipH="1">
                <a:off x="6775560" y="327168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 flipV="1">
                <a:off x="6800760" y="32443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6840360" y="323676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 flipH="1" flipV="1">
                <a:off x="6848640" y="32443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6872400" y="3271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 flipH="1">
                <a:off x="6848640" y="3271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 flipV="1">
                <a:off x="6872400" y="32443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>
                <a:off x="6912000" y="324468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 flipH="1" flipV="1">
                <a:off x="6919920" y="3254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6943680" y="328140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 flipH="1">
                <a:off x="6919920" y="3281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 flipV="1">
                <a:off x="6943680" y="3254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6985080" y="324468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 flipH="1" flipV="1">
                <a:off x="6993000" y="3254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>
                <a:off x="7016760" y="3281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 flipH="1">
                <a:off x="6993000" y="3281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 flipV="1">
                <a:off x="7016760" y="3254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>
                <a:off x="7048440" y="3200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 flipH="1" flipV="1">
                <a:off x="705636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>
                <a:off x="708012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 flipH="1">
                <a:off x="705636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 flipV="1">
                <a:off x="708012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7121520" y="3209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 flipH="1" flipV="1">
                <a:off x="71294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715320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 flipH="1">
                <a:off x="712944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 flipV="1">
                <a:off x="71532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7192800" y="318276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 flipH="1" flipV="1">
                <a:off x="720108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72248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 flipH="1">
                <a:off x="720108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 flipV="1">
                <a:off x="72248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>
                <a:off x="7264440" y="3200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 flipH="1" flipV="1">
                <a:off x="727380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>
                <a:off x="729756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 flipH="1">
                <a:off x="727380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 flipV="1">
                <a:off x="729756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1" name=""/>
              <p:cNvSpPr/>
              <p:nvPr/>
            </p:nvSpPr>
            <p:spPr>
              <a:xfrm>
                <a:off x="7337520" y="319104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2" name=""/>
              <p:cNvSpPr/>
              <p:nvPr/>
            </p:nvSpPr>
            <p:spPr>
              <a:xfrm flipH="1" flipV="1">
                <a:off x="734544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3" name=""/>
              <p:cNvSpPr/>
              <p:nvPr/>
            </p:nvSpPr>
            <p:spPr>
              <a:xfrm>
                <a:off x="736920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 flipH="1">
                <a:off x="734544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5" name=""/>
              <p:cNvSpPr/>
              <p:nvPr/>
            </p:nvSpPr>
            <p:spPr>
              <a:xfrm flipV="1">
                <a:off x="736920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6" name=""/>
              <p:cNvSpPr/>
              <p:nvPr/>
            </p:nvSpPr>
            <p:spPr>
              <a:xfrm>
                <a:off x="7400880" y="3218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 flipH="1" flipV="1">
                <a:off x="7408440" y="3227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>
                <a:off x="743436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 flipH="1">
                <a:off x="7408440" y="325440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 flipV="1">
                <a:off x="743436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>
                <a:off x="7473960" y="321804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 flipH="1" flipV="1">
                <a:off x="748188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>
                <a:off x="750564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 flipH="1">
                <a:off x="748188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 flipV="1">
                <a:off x="750564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>
                <a:off x="7545240" y="3227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 flipH="1" flipV="1">
                <a:off x="7552800" y="3236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>
                <a:off x="7577280" y="326376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 flipH="1">
                <a:off x="7552800" y="3263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 flipV="1">
                <a:off x="7577280" y="3236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7618320" y="3200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 flipH="1" flipV="1">
                <a:off x="762624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765000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 flipH="1">
                <a:off x="762624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 flipV="1">
                <a:off x="765000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>
                <a:off x="7682040" y="3191040"/>
                <a:ext cx="7272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 flipH="1" flipV="1">
                <a:off x="768996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>
                <a:off x="771372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 flipH="1">
                <a:off x="768996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 flipV="1">
                <a:off x="771372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7754760" y="3191040"/>
                <a:ext cx="7164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 flipH="1" flipV="1">
                <a:off x="776304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>
                <a:off x="778680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 flipH="1">
                <a:off x="776304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 flipV="1">
                <a:off x="778680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7826400" y="320040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 flipH="1" flipV="1">
                <a:off x="783432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785808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 flipH="1">
                <a:off x="783432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 flipV="1">
                <a:off x="785808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7897680" y="3164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 flipH="1" flipV="1">
                <a:off x="7905240" y="3173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793116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 flipH="1">
                <a:off x="7905240" y="320040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 flipV="1">
                <a:off x="793116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7970760" y="313704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 flipH="1" flipV="1">
                <a:off x="7978680" y="3146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8002440" y="3173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 flipH="1">
                <a:off x="7978680" y="3173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 flipV="1">
                <a:off x="8002440" y="314604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8034480" y="3065400"/>
                <a:ext cx="7272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 flipH="1" flipV="1">
                <a:off x="8042400" y="3074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8066160" y="310212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 flipH="1">
                <a:off x="8042400" y="3102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 flipV="1">
                <a:off x="8066160" y="307476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8107200" y="2984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 flipH="1" flipV="1">
                <a:off x="8115480" y="2993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8139240" y="3021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 flipH="1">
                <a:off x="8115480" y="3021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 flipV="1">
                <a:off x="8139240" y="2993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8178840" y="294012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 flipH="1" flipV="1">
                <a:off x="8186760" y="2949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8210520" y="2976480"/>
                <a:ext cx="255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 flipH="1">
                <a:off x="8186760" y="297648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 flipV="1">
                <a:off x="8210520" y="294912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8251920" y="2949480"/>
                <a:ext cx="71280" cy="7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 flipH="1" flipV="1">
                <a:off x="8259840" y="295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8283600" y="298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 flipH="1">
                <a:off x="8259840" y="298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 flipV="1">
                <a:off x="8283600" y="295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8315280" y="294012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 flipH="1" flipV="1">
                <a:off x="8323200" y="2949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8346960" y="297648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 flipH="1">
                <a:off x="8323200" y="297648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 flipV="1">
                <a:off x="8346960" y="2949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8386920" y="2930400"/>
                <a:ext cx="7272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 flipH="1" flipV="1">
                <a:off x="8396280" y="2939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8420040" y="2967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 flipH="1">
                <a:off x="8396280" y="2967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 flipV="1">
                <a:off x="8420040" y="2939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8459640" y="2930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 flipH="1" flipV="1">
                <a:off x="8467200" y="2939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8491680" y="2967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 flipH="1">
                <a:off x="8467200" y="296712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 flipV="1">
                <a:off x="8491680" y="2939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8531280" y="2984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 flipH="1" flipV="1">
                <a:off x="8539200" y="299376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8564400" y="302112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 flipH="1">
                <a:off x="8539200" y="302112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 flipV="1">
                <a:off x="8564400" y="2993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8604360" y="296712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 flipH="1" flipV="1">
                <a:off x="8612280" y="297612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8636040" y="3002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 flipH="1">
                <a:off x="8612280" y="3002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 flipV="1">
                <a:off x="8636040" y="297612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5156280" y="310212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>
                <a:off x="5229360" y="3065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5300640" y="3038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>
                <a:off x="5373720" y="3075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>
                <a:off x="5445000" y="3011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5510160" y="2994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>
                <a:off x="5581800" y="2949480"/>
                <a:ext cx="4752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3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5653080" y="30020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>
                <a:off x="5726160" y="3002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>
                <a:off x="5789520" y="2957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5862600" y="289548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>
                <a:off x="5934240" y="289548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>
                <a:off x="6006960" y="2949480"/>
                <a:ext cx="4788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3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>
                <a:off x="6078600" y="2967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>
                <a:off x="6141960" y="2957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>
                <a:off x="6215040" y="2949480"/>
                <a:ext cx="4752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3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>
                <a:off x="6286680" y="292248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>
                <a:off x="6359400" y="2976480"/>
                <a:ext cx="4788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6"/>
                    </a:lnTo>
                    <a:lnTo>
                      <a:pt x="15" y="33"/>
                    </a:lnTo>
                    <a:lnTo>
                      <a:pt x="0" y="1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>
                <a:off x="6423120" y="302112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>
                <a:off x="6496200" y="3110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>
                <a:off x="6567480" y="3129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>
                <a:off x="6640560" y="3129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>
                <a:off x="6711840" y="316404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>
                <a:off x="6775560" y="311940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>
                <a:off x="6848640" y="3146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>
                <a:off x="6919920" y="318276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>
                <a:off x="6993000" y="3164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>
                <a:off x="7056360" y="3191040"/>
                <a:ext cx="4788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>
                <a:off x="7129440" y="3119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>
                <a:off x="7201080" y="3129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7273800" y="3119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7345440" y="3092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7408800" y="3146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>
                <a:off x="7481880" y="3173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7553160" y="3191040"/>
                <a:ext cx="49320" cy="5364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7626240" y="3227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12" name=""/>
            <p:cNvSpPr/>
            <p:nvPr/>
          </p:nvSpPr>
          <p:spPr>
            <a:xfrm>
              <a:off x="7689960" y="324468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7763040" y="3254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7834320" y="3200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7905600" y="318276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6" y="0"/>
                  </a:moveTo>
                  <a:lnTo>
                    <a:pt x="31" y="17"/>
                  </a:lnTo>
                  <a:lnTo>
                    <a:pt x="16" y="34"/>
                  </a:lnTo>
                  <a:lnTo>
                    <a:pt x="0" y="17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7978680" y="316404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8042400" y="3129120"/>
              <a:ext cx="48960" cy="5364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5" y="0"/>
                  </a:moveTo>
                  <a:lnTo>
                    <a:pt x="31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8115480" y="3146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8186760" y="311004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5" y="0"/>
                  </a:moveTo>
                  <a:lnTo>
                    <a:pt x="31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8259840" y="3065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8323200" y="304812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8396280" y="302112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8467560" y="299412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8539200" y="302904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6" y="0"/>
                  </a:moveTo>
                  <a:lnTo>
                    <a:pt x="31" y="17"/>
                  </a:lnTo>
                  <a:lnTo>
                    <a:pt x="16" y="34"/>
                  </a:lnTo>
                  <a:lnTo>
                    <a:pt x="0" y="17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8612280" y="302112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5778720" y="1916280"/>
              <a:ext cx="19346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Indice de Apertura Económica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(%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5032440" y="356868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4978800" y="337176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4978800" y="317340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2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4978800" y="297648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3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4978800" y="278748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4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4978800" y="258912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5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4978800" y="239076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6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4978800" y="219384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7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5" name=""/>
            <p:cNvSpPr/>
            <p:nvPr/>
          </p:nvSpPr>
          <p:spPr>
            <a:xfrm rot="18900000">
              <a:off x="494316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5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6" name=""/>
            <p:cNvSpPr/>
            <p:nvPr/>
          </p:nvSpPr>
          <p:spPr>
            <a:xfrm rot="18900000">
              <a:off x="515916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54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7" name=""/>
            <p:cNvSpPr/>
            <p:nvPr/>
          </p:nvSpPr>
          <p:spPr>
            <a:xfrm rot="18900000">
              <a:off x="536868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57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8" name=""/>
            <p:cNvSpPr/>
            <p:nvPr/>
          </p:nvSpPr>
          <p:spPr>
            <a:xfrm rot="18900000">
              <a:off x="557676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9" name=""/>
            <p:cNvSpPr/>
            <p:nvPr/>
          </p:nvSpPr>
          <p:spPr>
            <a:xfrm rot="18900000">
              <a:off x="5792400" y="378144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3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0" name=""/>
            <p:cNvSpPr/>
            <p:nvPr/>
          </p:nvSpPr>
          <p:spPr>
            <a:xfrm rot="18900000">
              <a:off x="600048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6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1" name=""/>
            <p:cNvSpPr/>
            <p:nvPr/>
          </p:nvSpPr>
          <p:spPr>
            <a:xfrm rot="18900000">
              <a:off x="621000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9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2" name=""/>
            <p:cNvSpPr/>
            <p:nvPr/>
          </p:nvSpPr>
          <p:spPr>
            <a:xfrm rot="18900000">
              <a:off x="642600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72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3" name=""/>
            <p:cNvSpPr/>
            <p:nvPr/>
          </p:nvSpPr>
          <p:spPr>
            <a:xfrm rot="18900000">
              <a:off x="663408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75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4" name=""/>
            <p:cNvSpPr/>
            <p:nvPr/>
          </p:nvSpPr>
          <p:spPr>
            <a:xfrm rot="18900000">
              <a:off x="684360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78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5" name=""/>
            <p:cNvSpPr/>
            <p:nvPr/>
          </p:nvSpPr>
          <p:spPr>
            <a:xfrm rot="18900000">
              <a:off x="7059240" y="378144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8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6" name=""/>
            <p:cNvSpPr/>
            <p:nvPr/>
          </p:nvSpPr>
          <p:spPr>
            <a:xfrm rot="18900000">
              <a:off x="726732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84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7" name=""/>
            <p:cNvSpPr/>
            <p:nvPr/>
          </p:nvSpPr>
          <p:spPr>
            <a:xfrm rot="18900000">
              <a:off x="747684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87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8" name=""/>
            <p:cNvSpPr/>
            <p:nvPr/>
          </p:nvSpPr>
          <p:spPr>
            <a:xfrm rot="18900000">
              <a:off x="769284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9" name=""/>
            <p:cNvSpPr/>
            <p:nvPr/>
          </p:nvSpPr>
          <p:spPr>
            <a:xfrm rot="18900000">
              <a:off x="790092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3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0" name=""/>
            <p:cNvSpPr/>
            <p:nvPr/>
          </p:nvSpPr>
          <p:spPr>
            <a:xfrm rot="18900000">
              <a:off x="811044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6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1" name=""/>
            <p:cNvSpPr/>
            <p:nvPr/>
          </p:nvSpPr>
          <p:spPr>
            <a:xfrm rot="18900000">
              <a:off x="8326080" y="378144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9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5846760" y="4226040"/>
              <a:ext cx="216000" cy="1440"/>
            </a:xfrm>
            <a:prstGeom prst="line">
              <a:avLst/>
            </a:prstGeom>
            <a:ln w="79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5925960" y="419904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6" y="0"/>
                  </a:moveTo>
                  <a:lnTo>
                    <a:pt x="31" y="34"/>
                  </a:lnTo>
                  <a:lnTo>
                    <a:pt x="0" y="34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cc00"/>
            </a:solidFill>
            <a:ln w="792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6097680" y="4162320"/>
              <a:ext cx="29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hil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6575400" y="4226040"/>
              <a:ext cx="217440" cy="144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6648480" y="4189320"/>
              <a:ext cx="7128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7" name=""/>
            <p:cNvSpPr/>
            <p:nvPr/>
          </p:nvSpPr>
          <p:spPr>
            <a:xfrm flipH="1" flipV="1">
              <a:off x="6656400" y="419868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6680160" y="422604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9" name=""/>
            <p:cNvSpPr/>
            <p:nvPr/>
          </p:nvSpPr>
          <p:spPr>
            <a:xfrm flipH="1">
              <a:off x="6656400" y="422604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0" name=""/>
            <p:cNvSpPr/>
            <p:nvPr/>
          </p:nvSpPr>
          <p:spPr>
            <a:xfrm flipV="1">
              <a:off x="6680160" y="419868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6831360" y="4162320"/>
              <a:ext cx="564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olombi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7574040" y="4226040"/>
              <a:ext cx="216000" cy="14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7653240" y="419904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7818480" y="4162320"/>
              <a:ext cx="277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Perú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65" name=""/>
          <p:cNvGrpSpPr/>
          <p:nvPr/>
        </p:nvGrpSpPr>
        <p:grpSpPr>
          <a:xfrm>
            <a:off x="943920" y="3773520"/>
            <a:ext cx="3676680" cy="2413080"/>
            <a:chOff x="943920" y="3773520"/>
            <a:chExt cx="3676680" cy="2413080"/>
          </a:xfrm>
        </p:grpSpPr>
        <p:grpSp>
          <p:nvGrpSpPr>
            <p:cNvPr id="2866" name=""/>
            <p:cNvGrpSpPr/>
            <p:nvPr/>
          </p:nvGrpSpPr>
          <p:grpSpPr>
            <a:xfrm>
              <a:off x="1298520" y="4365720"/>
              <a:ext cx="3287880" cy="1122120"/>
              <a:chOff x="1298520" y="4365720"/>
              <a:chExt cx="3287880" cy="1122120"/>
            </a:xfrm>
          </p:grpSpPr>
          <p:sp>
            <p:nvSpPr>
              <p:cNvPr id="2867" name=""/>
              <p:cNvSpPr/>
              <p:nvPr/>
            </p:nvSpPr>
            <p:spPr>
              <a:xfrm>
                <a:off x="1335240" y="4365720"/>
                <a:ext cx="1440" cy="108252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>
                <a:off x="1298520" y="544824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>
                <a:off x="1298520" y="529416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>
                <a:off x="1298520" y="513864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>
                <a:off x="1298520" y="498312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>
                <a:off x="1298520" y="4830840"/>
                <a:ext cx="3672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>
                <a:off x="1298520" y="4675320"/>
                <a:ext cx="3672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>
                <a:off x="1298520" y="451944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>
                <a:off x="1298520" y="4365720"/>
                <a:ext cx="3672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6" name=""/>
              <p:cNvSpPr/>
              <p:nvPr/>
            </p:nvSpPr>
            <p:spPr>
              <a:xfrm>
                <a:off x="1335240" y="5448240"/>
                <a:ext cx="32493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7" name=""/>
              <p:cNvSpPr/>
              <p:nvPr/>
            </p:nvSpPr>
            <p:spPr>
              <a:xfrm flipV="1">
                <a:off x="13352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 flipV="1">
                <a:off x="1397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 flipV="1">
                <a:off x="14590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 flipV="1">
                <a:off x="15224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 flipV="1">
                <a:off x="15843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 flipV="1">
                <a:off x="1646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 flipV="1">
                <a:off x="1709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 flipV="1">
                <a:off x="1771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 flipV="1">
                <a:off x="1835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 flipV="1">
                <a:off x="18972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 flipV="1">
                <a:off x="19591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 flipV="1">
                <a:off x="20210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 flipV="1">
                <a:off x="20858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 flipV="1">
                <a:off x="21477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 flipV="1">
                <a:off x="220968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 flipV="1">
                <a:off x="227160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 flipV="1">
                <a:off x="233352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 flipV="1">
                <a:off x="23972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 flipV="1">
                <a:off x="2459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 flipV="1">
                <a:off x="25225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 flipV="1">
                <a:off x="25844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 flipV="1">
                <a:off x="26463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 flipV="1">
                <a:off x="270972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 flipV="1">
                <a:off x="2771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 flipV="1">
                <a:off x="2833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 flipV="1">
                <a:off x="2897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 flipV="1">
                <a:off x="2960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 flipV="1">
                <a:off x="3022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 flipV="1">
                <a:off x="308448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 flipV="1">
                <a:off x="31464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 flipV="1">
                <a:off x="32083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 flipV="1">
                <a:off x="32734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 flipV="1">
                <a:off x="33354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 flipV="1">
                <a:off x="33973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 flipV="1">
                <a:off x="34592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 flipV="1">
                <a:off x="3521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 flipV="1">
                <a:off x="358452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 flipV="1">
                <a:off x="36464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 flipV="1">
                <a:off x="3710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 flipV="1">
                <a:off x="37720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 flipV="1">
                <a:off x="3833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 flipV="1">
                <a:off x="38973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 flipV="1">
                <a:off x="3959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 flipV="1">
                <a:off x="40212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 flipV="1">
                <a:off x="4084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 flipV="1">
                <a:off x="4148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 flipV="1">
                <a:off x="42102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 flipV="1">
                <a:off x="42721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 flipV="1">
                <a:off x="43340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 flipV="1">
                <a:off x="43959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 flipV="1">
                <a:off x="44607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 flipV="1">
                <a:off x="452268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 flipV="1">
                <a:off x="458460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 flipV="1">
                <a:off x="1365120" y="5132520"/>
                <a:ext cx="61920" cy="93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 flipV="1">
                <a:off x="1427040" y="5127480"/>
                <a:ext cx="65160" cy="5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 flipV="1">
                <a:off x="1492200" y="5111640"/>
                <a:ext cx="6192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>
                <a:off x="1554120" y="5111640"/>
                <a:ext cx="61920" cy="64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 flipV="1">
                <a:off x="1616040" y="5116680"/>
                <a:ext cx="6192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>
                <a:off x="1677960" y="5116680"/>
                <a:ext cx="61920" cy="61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 flipV="1">
                <a:off x="1739880" y="5121360"/>
                <a:ext cx="6336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 flipV="1">
                <a:off x="1803240" y="5114880"/>
                <a:ext cx="61920" cy="64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 flipV="1">
                <a:off x="1865160" y="5095440"/>
                <a:ext cx="63720" cy="190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 flipV="1">
                <a:off x="1928880" y="5087880"/>
                <a:ext cx="6192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 flipV="1">
                <a:off x="1990800" y="5079960"/>
                <a:ext cx="6192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 flipV="1">
                <a:off x="2052720" y="5070600"/>
                <a:ext cx="63360" cy="93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 flipV="1">
                <a:off x="2116080" y="5059080"/>
                <a:ext cx="61920" cy="111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 flipV="1">
                <a:off x="2178000" y="5057280"/>
                <a:ext cx="61920" cy="18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2239920" y="5057640"/>
                <a:ext cx="63720" cy="5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 flipV="1">
                <a:off x="2303640" y="5035320"/>
                <a:ext cx="6156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 flipV="1">
                <a:off x="2365200" y="5027760"/>
                <a:ext cx="6372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 flipV="1">
                <a:off x="2428920" y="5022720"/>
                <a:ext cx="61920" cy="5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 flipV="1">
                <a:off x="2490840" y="5017680"/>
                <a:ext cx="61920" cy="46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 flipV="1">
                <a:off x="2552760" y="5014440"/>
                <a:ext cx="61920" cy="32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 flipV="1">
                <a:off x="2614680" y="4986000"/>
                <a:ext cx="65160" cy="28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>
                <a:off x="2679840" y="4986360"/>
                <a:ext cx="61920" cy="126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>
                <a:off x="2741760" y="4998960"/>
                <a:ext cx="61920" cy="302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>
                <a:off x="2803680" y="5029200"/>
                <a:ext cx="6192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2865600" y="5029200"/>
                <a:ext cx="61920" cy="586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 flipV="1">
                <a:off x="2927520" y="5079960"/>
                <a:ext cx="6336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 flipV="1">
                <a:off x="2990880" y="5052600"/>
                <a:ext cx="6192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 flipV="1">
                <a:off x="3052800" y="5029200"/>
                <a:ext cx="63360" cy="237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 flipV="1">
                <a:off x="3116160" y="5003280"/>
                <a:ext cx="61920" cy="255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 flipV="1">
                <a:off x="3178080" y="4976280"/>
                <a:ext cx="6192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 flipV="1">
                <a:off x="3240000" y="4957920"/>
                <a:ext cx="63720" cy="187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3303720" y="4957920"/>
                <a:ext cx="61920" cy="68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3365640" y="5025960"/>
                <a:ext cx="6192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 flipV="1">
                <a:off x="3427560" y="5025960"/>
                <a:ext cx="6336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 flipV="1">
                <a:off x="3490920" y="5024520"/>
                <a:ext cx="6336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 flipV="1">
                <a:off x="3554280" y="5008680"/>
                <a:ext cx="6192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 flipV="1">
                <a:off x="3616200" y="4989240"/>
                <a:ext cx="61920" cy="190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 flipV="1">
                <a:off x="3678120" y="4963680"/>
                <a:ext cx="61920" cy="255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 flipV="1">
                <a:off x="3740040" y="4871880"/>
                <a:ext cx="61920" cy="921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 flipV="1">
                <a:off x="3801960" y="4863960"/>
                <a:ext cx="6516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 flipV="1">
                <a:off x="3867120" y="4832280"/>
                <a:ext cx="61920" cy="316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 flipV="1">
                <a:off x="3929040" y="4774680"/>
                <a:ext cx="61920" cy="572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 flipV="1">
                <a:off x="3990960" y="4741920"/>
                <a:ext cx="61920" cy="331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 flipV="1">
                <a:off x="4052880" y="4718160"/>
                <a:ext cx="61920" cy="237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 flipV="1">
                <a:off x="4114800" y="4664160"/>
                <a:ext cx="63360" cy="54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 flipV="1">
                <a:off x="4178160" y="4622400"/>
                <a:ext cx="63720" cy="414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 flipV="1">
                <a:off x="4241880" y="4578120"/>
                <a:ext cx="61920" cy="442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 flipV="1">
                <a:off x="4303800" y="4560480"/>
                <a:ext cx="61920" cy="176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>
                <a:off x="4365720" y="4560840"/>
                <a:ext cx="61920" cy="176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 flipV="1">
                <a:off x="4427640" y="4551120"/>
                <a:ext cx="6336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 flipV="1">
                <a:off x="4491000" y="4538520"/>
                <a:ext cx="61920" cy="129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>
                <a:off x="1365120" y="530388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 flipV="1">
                <a:off x="1427040" y="5298840"/>
                <a:ext cx="6516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 flipV="1">
                <a:off x="1492200" y="5294160"/>
                <a:ext cx="61920" cy="5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 flipV="1">
                <a:off x="1554120" y="5287680"/>
                <a:ext cx="6192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 flipV="1">
                <a:off x="1616040" y="528588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 flipV="1">
                <a:off x="1677960" y="528480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1739880" y="5284800"/>
                <a:ext cx="6336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1803240" y="528624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 flipV="1">
                <a:off x="1865160" y="5281200"/>
                <a:ext cx="637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 flipV="1">
                <a:off x="1928880" y="528012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 flipV="1">
                <a:off x="1990800" y="5276520"/>
                <a:ext cx="61920" cy="32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 flipV="1">
                <a:off x="2052720" y="5270400"/>
                <a:ext cx="6336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>
                <a:off x="2116080" y="527040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 flipV="1">
                <a:off x="2178000" y="526536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 flipV="1">
                <a:off x="2239920" y="5264280"/>
                <a:ext cx="637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 flipV="1">
                <a:off x="2303640" y="5260680"/>
                <a:ext cx="61560" cy="32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 flipV="1">
                <a:off x="2365200" y="5256000"/>
                <a:ext cx="637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 flipV="1">
                <a:off x="2428920" y="5251320"/>
                <a:ext cx="61920" cy="5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 flipV="1">
                <a:off x="2490840" y="5244840"/>
                <a:ext cx="6192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 flipV="1">
                <a:off x="2552760" y="5235120"/>
                <a:ext cx="61920" cy="97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 flipV="1">
                <a:off x="2614680" y="5229000"/>
                <a:ext cx="6516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 flipV="1">
                <a:off x="2679840" y="5217840"/>
                <a:ext cx="61920" cy="1116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 flipV="1">
                <a:off x="2741760" y="5206680"/>
                <a:ext cx="61920" cy="1116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 flipV="1">
                <a:off x="2803680" y="520056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>
                <a:off x="2865600" y="520056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 flipV="1">
                <a:off x="2927520" y="5195520"/>
                <a:ext cx="6336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 flipV="1">
                <a:off x="2990880" y="518940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 flipV="1">
                <a:off x="3052800" y="5175000"/>
                <a:ext cx="63360" cy="14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 flipV="1">
                <a:off x="3116160" y="516888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 flipV="1">
                <a:off x="3178080" y="516384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>
                <a:off x="3240000" y="5164200"/>
                <a:ext cx="637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>
                <a:off x="3303720" y="516420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>
                <a:off x="3365640" y="516564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 flipV="1">
                <a:off x="3427560" y="5162400"/>
                <a:ext cx="63360" cy="5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 flipV="1">
                <a:off x="3490920" y="5157360"/>
                <a:ext cx="6336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 flipV="1">
                <a:off x="3554280" y="5143320"/>
                <a:ext cx="61920" cy="14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 flipV="1">
                <a:off x="3616200" y="5133600"/>
                <a:ext cx="61920" cy="97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 flipV="1">
                <a:off x="3678120" y="5126040"/>
                <a:ext cx="61920" cy="79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 flipV="1">
                <a:off x="3740040" y="5118120"/>
                <a:ext cx="61920" cy="79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 flipV="1">
                <a:off x="3801960" y="5114520"/>
                <a:ext cx="65160" cy="32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3867120" y="511488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 flipV="1">
                <a:off x="3929040" y="510840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 flipV="1">
                <a:off x="3990960" y="5101920"/>
                <a:ext cx="6192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 flipV="1">
                <a:off x="4052880" y="5087880"/>
                <a:ext cx="61920" cy="144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 flipV="1">
                <a:off x="4114800" y="5076360"/>
                <a:ext cx="63360" cy="1116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>
                <a:off x="4178160" y="5076720"/>
                <a:ext cx="637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 flipV="1">
                <a:off x="4241880" y="507168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>
                <a:off x="4303800" y="507204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>
                <a:off x="4365720" y="5076720"/>
                <a:ext cx="61920" cy="190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>
                <a:off x="4427640" y="5095800"/>
                <a:ext cx="6336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4491000" y="509580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 flipV="1">
                <a:off x="1365120" y="5200200"/>
                <a:ext cx="61920" cy="111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 flipV="1">
                <a:off x="1427040" y="5194080"/>
                <a:ext cx="6516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 flipV="1">
                <a:off x="1492200" y="5187960"/>
                <a:ext cx="61920" cy="64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 flipV="1">
                <a:off x="1554120" y="518004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 flipV="1">
                <a:off x="1616040" y="517500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 flipV="1">
                <a:off x="1677960" y="5171760"/>
                <a:ext cx="61920" cy="32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 flipV="1">
                <a:off x="1739880" y="5164200"/>
                <a:ext cx="6336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>
                <a:off x="1803240" y="516420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 flipV="1">
                <a:off x="1865160" y="5163840"/>
                <a:ext cx="637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 flipV="1">
                <a:off x="1928880" y="5141880"/>
                <a:ext cx="61920" cy="223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 flipV="1">
                <a:off x="1990800" y="5132520"/>
                <a:ext cx="61920" cy="93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 flipV="1">
                <a:off x="2052720" y="5114520"/>
                <a:ext cx="63360" cy="176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 flipV="1">
                <a:off x="2116080" y="510984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 flipV="1">
                <a:off x="2178000" y="5100120"/>
                <a:ext cx="61920" cy="97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 flipV="1">
                <a:off x="2239920" y="5094000"/>
                <a:ext cx="6372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 flipV="1">
                <a:off x="2303640" y="5084280"/>
                <a:ext cx="61560" cy="97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 flipV="1">
                <a:off x="2365200" y="5083200"/>
                <a:ext cx="6372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>
                <a:off x="2428920" y="5083200"/>
                <a:ext cx="61920" cy="93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 flipV="1">
                <a:off x="2490840" y="508752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 flipV="1">
                <a:off x="2552760" y="507996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 flipV="1">
                <a:off x="2614680" y="5074920"/>
                <a:ext cx="6516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>
                <a:off x="2679840" y="5075280"/>
                <a:ext cx="6192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 flipV="1">
                <a:off x="2741760" y="506736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 flipV="1">
                <a:off x="2803680" y="5041440"/>
                <a:ext cx="61920" cy="255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 flipV="1">
                <a:off x="2865600" y="5040360"/>
                <a:ext cx="6192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>
                <a:off x="2927520" y="5040360"/>
                <a:ext cx="63360" cy="32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2990880" y="504360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3052800" y="5051520"/>
                <a:ext cx="6336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 flipV="1">
                <a:off x="3116160" y="5044680"/>
                <a:ext cx="61920" cy="1260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 flipV="1">
                <a:off x="3178080" y="5038560"/>
                <a:ext cx="61920" cy="64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 flipV="1">
                <a:off x="3240000" y="5030640"/>
                <a:ext cx="637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3303720" y="5030640"/>
                <a:ext cx="61920" cy="97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3365640" y="5040360"/>
                <a:ext cx="61920" cy="55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 flipV="1">
                <a:off x="3427560" y="5089320"/>
                <a:ext cx="6336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>
                <a:off x="3490920" y="5089680"/>
                <a:ext cx="6336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67" name=""/>
            <p:cNvSpPr/>
            <p:nvPr/>
          </p:nvSpPr>
          <p:spPr>
            <a:xfrm flipV="1">
              <a:off x="3554280" y="5067360"/>
              <a:ext cx="6192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8" name=""/>
            <p:cNvSpPr/>
            <p:nvPr/>
          </p:nvSpPr>
          <p:spPr>
            <a:xfrm flipV="1">
              <a:off x="3616200" y="5045040"/>
              <a:ext cx="6192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3678120" y="5045040"/>
              <a:ext cx="61920" cy="428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3740040" y="5087880"/>
              <a:ext cx="61920" cy="475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3801960" y="5135400"/>
              <a:ext cx="6516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2" name=""/>
            <p:cNvSpPr/>
            <p:nvPr/>
          </p:nvSpPr>
          <p:spPr>
            <a:xfrm flipV="1">
              <a:off x="3867120" y="5156280"/>
              <a:ext cx="6192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3929040" y="5156280"/>
              <a:ext cx="61920" cy="61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4" name=""/>
            <p:cNvSpPr/>
            <p:nvPr/>
          </p:nvSpPr>
          <p:spPr>
            <a:xfrm flipV="1">
              <a:off x="3990960" y="5154480"/>
              <a:ext cx="61920" cy="79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5" name=""/>
            <p:cNvSpPr/>
            <p:nvPr/>
          </p:nvSpPr>
          <p:spPr>
            <a:xfrm flipV="1">
              <a:off x="4052880" y="5122800"/>
              <a:ext cx="61920" cy="316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6" name=""/>
            <p:cNvSpPr/>
            <p:nvPr/>
          </p:nvSpPr>
          <p:spPr>
            <a:xfrm flipV="1">
              <a:off x="4114800" y="5100480"/>
              <a:ext cx="6336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7" name=""/>
            <p:cNvSpPr/>
            <p:nvPr/>
          </p:nvSpPr>
          <p:spPr>
            <a:xfrm flipV="1">
              <a:off x="4178160" y="5099040"/>
              <a:ext cx="6372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8" name=""/>
            <p:cNvSpPr/>
            <p:nvPr/>
          </p:nvSpPr>
          <p:spPr>
            <a:xfrm flipV="1">
              <a:off x="4241880" y="5079600"/>
              <a:ext cx="61920" cy="190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4303800" y="5079960"/>
              <a:ext cx="61920" cy="97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4365720" y="5089680"/>
              <a:ext cx="6192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1" name=""/>
            <p:cNvSpPr/>
            <p:nvPr/>
          </p:nvSpPr>
          <p:spPr>
            <a:xfrm flipV="1">
              <a:off x="4427640" y="5086080"/>
              <a:ext cx="63360" cy="46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4491000" y="5086440"/>
              <a:ext cx="61920" cy="46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2538720" y="3773520"/>
              <a:ext cx="916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PBI per cápita</a:t>
              </a:r>
              <a:r>
                <a:rPr b="1" lang="es-ES" sz="9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1798200" y="3927600"/>
              <a:ext cx="2331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Verdana"/>
                </a:rPr>
                <a:t>(en dólares a precios constantes de 1995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1177920" y="537228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943920" y="52164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943920" y="5060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943920" y="49068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943920" y="47530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943920" y="45975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5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943920" y="44434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943920" y="4287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7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3" name=""/>
            <p:cNvSpPr/>
            <p:nvPr/>
          </p:nvSpPr>
          <p:spPr>
            <a:xfrm rot="16200000">
              <a:off x="12297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4" name=""/>
            <p:cNvSpPr/>
            <p:nvPr/>
          </p:nvSpPr>
          <p:spPr>
            <a:xfrm rot="16200000">
              <a:off x="14169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5" name=""/>
            <p:cNvSpPr/>
            <p:nvPr/>
          </p:nvSpPr>
          <p:spPr>
            <a:xfrm rot="16200000">
              <a:off x="16041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6" name=""/>
            <p:cNvSpPr/>
            <p:nvPr/>
          </p:nvSpPr>
          <p:spPr>
            <a:xfrm rot="16200000">
              <a:off x="179172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7" name=""/>
            <p:cNvSpPr/>
            <p:nvPr/>
          </p:nvSpPr>
          <p:spPr>
            <a:xfrm rot="16200000">
              <a:off x="198360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6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8" name=""/>
            <p:cNvSpPr/>
            <p:nvPr/>
          </p:nvSpPr>
          <p:spPr>
            <a:xfrm rot="16200000">
              <a:off x="21693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6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9" name=""/>
            <p:cNvSpPr/>
            <p:nvPr/>
          </p:nvSpPr>
          <p:spPr>
            <a:xfrm rot="16200000">
              <a:off x="23583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6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0" name=""/>
            <p:cNvSpPr/>
            <p:nvPr/>
          </p:nvSpPr>
          <p:spPr>
            <a:xfrm rot="16200000">
              <a:off x="25455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7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1" name=""/>
            <p:cNvSpPr/>
            <p:nvPr/>
          </p:nvSpPr>
          <p:spPr>
            <a:xfrm rot="16200000">
              <a:off x="273312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7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2" name=""/>
            <p:cNvSpPr/>
            <p:nvPr/>
          </p:nvSpPr>
          <p:spPr>
            <a:xfrm rot="16200000">
              <a:off x="292032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7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3" name=""/>
            <p:cNvSpPr/>
            <p:nvPr/>
          </p:nvSpPr>
          <p:spPr>
            <a:xfrm rot="16200000">
              <a:off x="3107520" y="56332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4" name=""/>
            <p:cNvSpPr/>
            <p:nvPr/>
          </p:nvSpPr>
          <p:spPr>
            <a:xfrm rot="16200000">
              <a:off x="32950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5" name=""/>
            <p:cNvSpPr/>
            <p:nvPr/>
          </p:nvSpPr>
          <p:spPr>
            <a:xfrm rot="16200000">
              <a:off x="348372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6" name=""/>
            <p:cNvSpPr/>
            <p:nvPr/>
          </p:nvSpPr>
          <p:spPr>
            <a:xfrm rot="16200000">
              <a:off x="36694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7" name=""/>
            <p:cNvSpPr/>
            <p:nvPr/>
          </p:nvSpPr>
          <p:spPr>
            <a:xfrm rot="16200000">
              <a:off x="38584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9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8" name=""/>
            <p:cNvSpPr/>
            <p:nvPr/>
          </p:nvSpPr>
          <p:spPr>
            <a:xfrm rot="16200000">
              <a:off x="40456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9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9" name=""/>
            <p:cNvSpPr/>
            <p:nvPr/>
          </p:nvSpPr>
          <p:spPr>
            <a:xfrm rot="16200000">
              <a:off x="423144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9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0" name=""/>
            <p:cNvSpPr/>
            <p:nvPr/>
          </p:nvSpPr>
          <p:spPr>
            <a:xfrm rot="16200000">
              <a:off x="442044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00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1" name=""/>
            <p:cNvSpPr/>
            <p:nvPr/>
          </p:nvSpPr>
          <p:spPr>
            <a:xfrm>
              <a:off x="1346040" y="6100920"/>
              <a:ext cx="276480" cy="144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2" name=""/>
            <p:cNvSpPr/>
            <p:nvPr/>
          </p:nvSpPr>
          <p:spPr>
            <a:xfrm>
              <a:off x="1660680" y="6033960"/>
              <a:ext cx="29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hil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3" name=""/>
            <p:cNvSpPr/>
            <p:nvPr/>
          </p:nvSpPr>
          <p:spPr>
            <a:xfrm>
              <a:off x="2386080" y="6100920"/>
              <a:ext cx="276120" cy="1440"/>
            </a:xfrm>
            <a:prstGeom prst="line">
              <a:avLst/>
            </a:prstGeom>
            <a:ln w="255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2705400" y="6033960"/>
              <a:ext cx="564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olombi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3666960" y="6100920"/>
              <a:ext cx="27648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3975120" y="6033960"/>
              <a:ext cx="277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Perú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17" name=""/>
          <p:cNvSpPr/>
          <p:nvPr/>
        </p:nvSpPr>
        <p:spPr>
          <a:xfrm>
            <a:off x="5105520" y="4495680"/>
            <a:ext cx="25905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Penn World Tabl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Método: Precios constantes en %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8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9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0" name=""/>
          <p:cNvSpPr/>
          <p:nvPr/>
        </p:nvSpPr>
        <p:spPr>
          <a:xfrm>
            <a:off x="755640" y="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El Perú en la Economía Mund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1" name=""/>
          <p:cNvSpPr/>
          <p:nvPr/>
        </p:nvSpPr>
        <p:spPr>
          <a:xfrm>
            <a:off x="1763640" y="1603440"/>
            <a:ext cx="540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Índice de apertura comercial del Perú y otros países, 200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(exportaciones e importaciones en porcentaje del PBI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2" name=""/>
          <p:cNvSpPr/>
          <p:nvPr/>
        </p:nvSpPr>
        <p:spPr>
          <a:xfrm>
            <a:off x="1827000" y="6508800"/>
            <a:ext cx="3167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s: FMI, World Development Indicators 2003, BCRP, IP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23" name=""/>
          <p:cNvGrpSpPr/>
          <p:nvPr/>
        </p:nvGrpSpPr>
        <p:grpSpPr>
          <a:xfrm>
            <a:off x="1839240" y="2622960"/>
            <a:ext cx="4937400" cy="3568320"/>
            <a:chOff x="1839240" y="2622960"/>
            <a:chExt cx="4937400" cy="3568320"/>
          </a:xfrm>
        </p:grpSpPr>
        <p:sp>
          <p:nvSpPr>
            <p:cNvPr id="3124" name=""/>
            <p:cNvSpPr/>
            <p:nvPr/>
          </p:nvSpPr>
          <p:spPr>
            <a:xfrm>
              <a:off x="2937240" y="5720040"/>
              <a:ext cx="553680" cy="13140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2937240" y="5540400"/>
              <a:ext cx="57708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2937240" y="5360400"/>
              <a:ext cx="7434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2937240" y="5179320"/>
              <a:ext cx="820800" cy="1317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2937240" y="4999320"/>
              <a:ext cx="93132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2937240" y="4820040"/>
              <a:ext cx="95256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2937240" y="4640400"/>
              <a:ext cx="102024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2937240" y="4458960"/>
              <a:ext cx="1197000" cy="13320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2937240" y="4279320"/>
              <a:ext cx="120852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2937240" y="4099680"/>
              <a:ext cx="124128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2937240" y="3920040"/>
              <a:ext cx="12744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2937240" y="3740040"/>
              <a:ext cx="142884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2937240" y="3558960"/>
              <a:ext cx="14850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2937240" y="3379320"/>
              <a:ext cx="153972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2937240" y="3199680"/>
              <a:ext cx="15840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2937240" y="3020040"/>
              <a:ext cx="167328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2937240" y="2838600"/>
              <a:ext cx="223884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2937240" y="2659320"/>
              <a:ext cx="3456720" cy="13140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2937240" y="5876280"/>
              <a:ext cx="36349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3" name=""/>
            <p:cNvSpPr/>
            <p:nvPr/>
          </p:nvSpPr>
          <p:spPr>
            <a:xfrm flipV="1">
              <a:off x="2937240" y="5876280"/>
              <a:ext cx="180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4" name=""/>
            <p:cNvSpPr/>
            <p:nvPr/>
          </p:nvSpPr>
          <p:spPr>
            <a:xfrm flipV="1">
              <a:off x="354744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5" name=""/>
            <p:cNvSpPr/>
            <p:nvPr/>
          </p:nvSpPr>
          <p:spPr>
            <a:xfrm flipV="1">
              <a:off x="414576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6" name=""/>
            <p:cNvSpPr/>
            <p:nvPr/>
          </p:nvSpPr>
          <p:spPr>
            <a:xfrm flipV="1">
              <a:off x="475416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7" name=""/>
            <p:cNvSpPr/>
            <p:nvPr/>
          </p:nvSpPr>
          <p:spPr>
            <a:xfrm flipV="1">
              <a:off x="5364000" y="5876280"/>
              <a:ext cx="180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8" name=""/>
            <p:cNvSpPr/>
            <p:nvPr/>
          </p:nvSpPr>
          <p:spPr>
            <a:xfrm flipV="1">
              <a:off x="596232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9" name=""/>
            <p:cNvSpPr/>
            <p:nvPr/>
          </p:nvSpPr>
          <p:spPr>
            <a:xfrm flipV="1">
              <a:off x="657252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2937240" y="2635920"/>
              <a:ext cx="1800" cy="3240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2892960" y="587628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2892960" y="56970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2892960" y="551556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2892960" y="533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2892960" y="515592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6" name=""/>
            <p:cNvSpPr/>
            <p:nvPr/>
          </p:nvSpPr>
          <p:spPr>
            <a:xfrm>
              <a:off x="2892960" y="497664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7" name=""/>
            <p:cNvSpPr/>
            <p:nvPr/>
          </p:nvSpPr>
          <p:spPr>
            <a:xfrm>
              <a:off x="2892960" y="47952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8" name=""/>
            <p:cNvSpPr/>
            <p:nvPr/>
          </p:nvSpPr>
          <p:spPr>
            <a:xfrm>
              <a:off x="2892960" y="461556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9" name=""/>
            <p:cNvSpPr/>
            <p:nvPr/>
          </p:nvSpPr>
          <p:spPr>
            <a:xfrm>
              <a:off x="2892960" y="443592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2892960" y="425628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2892960" y="40752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2892960" y="38952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2892960" y="371556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2892960" y="353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2892960" y="335484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2892960" y="317484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2892960" y="299520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2892960" y="281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2892960" y="263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3934440" y="479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3999240" y="461556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3.7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4177800" y="44359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9.5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4190040" y="42562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9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4222080" y="407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1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4255200" y="389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1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4410000" y="371556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7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4465800" y="35359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4520520" y="33548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50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4565160" y="31748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52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4654080" y="299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55.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5220360" y="28159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73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6438240" y="263592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114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3900600" y="49633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0.6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3768120" y="51678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26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3689640" y="53474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24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3547080" y="55288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18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3567600" y="56970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18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2836800" y="600840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341244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2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401004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4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461988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6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522828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8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5781600" y="600840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0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6391800" y="600840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2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1981800" y="5683680"/>
              <a:ext cx="896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 Stat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2439720" y="5504040"/>
              <a:ext cx="40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Japa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2471040" y="5324400"/>
              <a:ext cx="38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razil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2528640" y="5144760"/>
              <a:ext cx="31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eru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2238480" y="4963320"/>
              <a:ext cx="639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lomb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2306160" y="4783680"/>
              <a:ext cx="567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ru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2217960" y="4604040"/>
              <a:ext cx="65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Argent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2415960" y="442404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oliv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1839240" y="4242960"/>
              <a:ext cx="1082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 Kingdom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1929960" y="4063320"/>
              <a:ext cx="965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Venezuela, RB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2472840" y="388368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Spai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2305800" y="3704040"/>
              <a:ext cx="560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Ecuador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2472120" y="3522600"/>
              <a:ext cx="38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2228400" y="3343320"/>
              <a:ext cx="630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ara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2372040" y="3163320"/>
              <a:ext cx="47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Mexic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2516040" y="2983680"/>
              <a:ext cx="343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l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2149560" y="2802240"/>
              <a:ext cx="724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sta Ric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2393640" y="262296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Irelan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7391520" y="3417840"/>
            <a:ext cx="4680" cy="463680"/>
          </a:xfrm>
          <a:prstGeom prst="rect">
            <a:avLst/>
          </a:prstGeom>
          <a:solidFill>
            <a:srgbClr val="9a7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59760" y="3425760"/>
            <a:ext cx="4680" cy="463680"/>
          </a:xfrm>
          <a:prstGeom prst="rect">
            <a:avLst/>
          </a:prstGeom>
          <a:solidFill>
            <a:srgbClr val="f8c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04280" y="3776760"/>
            <a:ext cx="2880" cy="1231920"/>
          </a:xfrm>
          <a:prstGeom prst="rect">
            <a:avLst/>
          </a:prstGeom>
          <a:solidFill>
            <a:srgbClr val="3030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04280" y="3265560"/>
            <a:ext cx="2880" cy="511200"/>
          </a:xfrm>
          <a:prstGeom prst="rect">
            <a:avLst/>
          </a:prstGeom>
          <a:solidFill>
            <a:srgbClr val="f2c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369080" y="6308640"/>
            <a:ext cx="214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ffffff"/>
                </a:solidFill>
                <a:latin typeface="Arial"/>
              </a:rPr>
              <a:t>p: proyectad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SUNAT. Elaboración: COMEXPERU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143000" y="1660680"/>
            <a:ext cx="7391520" cy="466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l proteccionismo es recesivo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2819520" y="295596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80 - 198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370760" y="295596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85 - 19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949720" y="2955960"/>
            <a:ext cx="1046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90 -19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472520" y="295596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95 - 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055520" y="4527720"/>
            <a:ext cx="32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P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325680" y="452772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0.4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452772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1.9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495480" y="452772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5.49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44920" y="452772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.51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70280" y="4905360"/>
            <a:ext cx="1294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Agropecuar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39336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.7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94460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0.9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49548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4.2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04492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5.94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50480" y="5281560"/>
            <a:ext cx="72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Minerí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25680" y="528156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0.7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76920" y="528156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7.6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95480" y="52815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.09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44920" y="52815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.5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063440" y="5651640"/>
            <a:ext cx="122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Manufactu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25680" y="565164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2.1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76920" y="565164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1.7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95480" y="565164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5.3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044920" y="565164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.09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230120" y="6172200"/>
            <a:ext cx="244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Verdana"/>
              </a:rPr>
              <a:t>Fuente: INEI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134160" y="2209680"/>
            <a:ext cx="3969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Verdana"/>
              </a:rPr>
              <a:t>CRECIMIENTO PROMEDIO ANUA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89320" y="2587680"/>
            <a:ext cx="1474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Verdana"/>
              </a:rPr>
              <a:t>POR SECTOR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3270240"/>
            <a:ext cx="7756560" cy="6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5959440"/>
            <a:ext cx="7756560" cy="5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087560" y="3487680"/>
            <a:ext cx="1703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Arancel promed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(fin de periodo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599640" y="3733920"/>
            <a:ext cx="40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3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2960" y="3718080"/>
            <a:ext cx="40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6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91440" y="3718080"/>
            <a:ext cx="771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16.3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848720" y="3718080"/>
            <a:ext cx="936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13.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89000" y="407844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02080" y="407844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737400" y="4078440"/>
            <a:ext cx="28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3.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242200" y="4078440"/>
            <a:ext cx="28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3.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08440" y="4079880"/>
            <a:ext cx="213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Dispersión arancelar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90324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7848360" cy="43941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187280" y="6381720"/>
            <a:ext cx="4299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BCRP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932360" y="1989000"/>
            <a:ext cx="39196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Se ha dado de manera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(i) </a:t>
            </a:r>
            <a:r>
              <a:rPr b="1" lang="es-ES" sz="1800" spc="-1" strike="noStrike">
                <a:solidFill>
                  <a:srgbClr val="ffcc00"/>
                </a:solidFill>
                <a:latin typeface="Tahoma"/>
              </a:rPr>
              <a:t>Unilateral: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los países han ido rebajando paulatinamente sus tasas arancelari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(ii) </a:t>
            </a:r>
            <a:r>
              <a:rPr b="1" lang="es-ES" sz="1800" spc="-1" strike="noStrike">
                <a:solidFill>
                  <a:srgbClr val="ffcc00"/>
                </a:solidFill>
                <a:latin typeface="Tahoma"/>
              </a:rPr>
              <a:t>Bilateral: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en acuerdos de rebajas mutuas de aranceles, pactadas con otro paí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(iii) </a:t>
            </a:r>
            <a:r>
              <a:rPr b="1" lang="es-ES" sz="1800" spc="-1" strike="noStrike">
                <a:solidFill>
                  <a:srgbClr val="ffcc00"/>
                </a:solidFill>
                <a:latin typeface="Tahoma"/>
              </a:rPr>
              <a:t>Multilateral: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n sucesivas rondas de negociación en la Organización Mundial de Comerci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33440" y="1511280"/>
            <a:ext cx="696420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2280" y="6400800"/>
            <a:ext cx="822960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86400" y="5943600"/>
            <a:ext cx="1072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MEF, FMI</a:t>
            </a:r>
            <a:r>
              <a:rPr b="1" lang="es-MX" sz="800" spc="-1" strike="noStrike">
                <a:solidFill>
                  <a:srgbClr val="ffffff"/>
                </a:solidFill>
                <a:latin typeface="Arial"/>
              </a:rPr>
              <a:t>, IP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327960" y="2190600"/>
            <a:ext cx="4150440" cy="3387960"/>
            <a:chOff x="327960" y="2190600"/>
            <a:chExt cx="4150440" cy="3387960"/>
          </a:xfrm>
        </p:grpSpPr>
        <p:sp>
          <p:nvSpPr>
            <p:cNvPr id="185" name=""/>
            <p:cNvSpPr/>
            <p:nvPr/>
          </p:nvSpPr>
          <p:spPr>
            <a:xfrm>
              <a:off x="539640" y="2190600"/>
              <a:ext cx="3938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Verdana"/>
                </a:rPr>
                <a:t>Arancel promedio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Verdana"/>
                </a:rPr>
                <a:t>(en % ad valore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120680" y="4818240"/>
              <a:ext cx="2487600" cy="282240"/>
            </a:xfrm>
            <a:prstGeom prst="rect">
              <a:avLst/>
            </a:prstGeom>
            <a:solidFill>
              <a:srgbClr val="8c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120680" y="3548160"/>
              <a:ext cx="790560" cy="280800"/>
            </a:xfrm>
            <a:prstGeom prst="rect">
              <a:avLst/>
            </a:prstGeom>
            <a:solidFill>
              <a:srgbClr val="8c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120680" y="4535640"/>
              <a:ext cx="1349640" cy="2826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120680" y="3263760"/>
              <a:ext cx="550800" cy="2844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120680" y="4253040"/>
              <a:ext cx="239760" cy="282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120680" y="2982960"/>
              <a:ext cx="193680" cy="2808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120680" y="5313240"/>
              <a:ext cx="282096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1120680" y="5312880"/>
              <a:ext cx="180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159228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20606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25322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30020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34718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3941640" y="5312880"/>
              <a:ext cx="180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120680" y="2770200"/>
              <a:ext cx="1800" cy="2543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081080" y="5313240"/>
              <a:ext cx="3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081080" y="4041720"/>
              <a:ext cx="3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081080" y="277020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650400" y="48830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52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953360" y="36115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6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512440" y="460044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8.7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713960" y="33307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1.7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402560" y="43178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5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356480" y="30463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4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085400" y="5425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52208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9904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46168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9318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4016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8714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27960" y="4602240"/>
              <a:ext cx="695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Década 80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42000" y="3330720"/>
              <a:ext cx="681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Finales 90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755800" y="2959200"/>
              <a:ext cx="82800" cy="824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865960" y="2922480"/>
              <a:ext cx="1399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Países Industrializado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55800" y="3162240"/>
              <a:ext cx="82800" cy="8244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866320" y="3125880"/>
              <a:ext cx="1285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Sudamérica y Méxic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755800" y="3367080"/>
              <a:ext cx="82800" cy="81000"/>
            </a:xfrm>
            <a:prstGeom prst="rect">
              <a:avLst/>
            </a:prstGeom>
            <a:solidFill>
              <a:srgbClr val="8c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867040" y="333072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Perú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900000" y="231840"/>
            <a:ext cx="75438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86868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Perú: mapa de foros y acuerdos comerci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258560" y="1915920"/>
            <a:ext cx="6808680" cy="34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OM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L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TPDE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TLC EE.UU: en negocia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GP Unión Europe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GP Jap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LAD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México: hasta fin de añ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C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MERCOS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PEC: ¿TL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Tailandia: en negocia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6:13:51Z</dcterms:created>
  <dc:creator>Diego Isasi</dc:creator>
  <dc:description/>
  <dc:language>en-US</dc:language>
  <cp:lastModifiedBy>jore</cp:lastModifiedBy>
  <dcterms:modified xsi:type="dcterms:W3CDTF">2004-09-02T21:25:44Z</dcterms:modified>
  <cp:revision>743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562746039</vt:r8>
  </property>
  <property fmtid="{D5CDD505-2E9C-101B-9397-08002B2CF9AE}" pid="3" name="_AuthorEmail">
    <vt:lpwstr>jore@comexperu.org.pe</vt:lpwstr>
  </property>
  <property fmtid="{D5CDD505-2E9C-101B-9397-08002B2CF9AE}" pid="4" name="_AuthorEmailDisplayName">
    <vt:lpwstr>Juan Carlos Ore</vt:lpwstr>
  </property>
  <property fmtid="{D5CDD505-2E9C-101B-9397-08002B2CF9AE}" pid="5" name="_EmailSubject">
    <vt:lpwstr>PRESENTACIÓN DE LA SRA. TEULLET EN LA CONF.DE TRABAJADORES DEL PERÚ</vt:lpwstr>
  </property>
  <property fmtid="{D5CDD505-2E9C-101B-9397-08002B2CF9AE}" pid="6" name="_PreviousAdHocReviewCycleID">
    <vt:r8>1014498446</vt:r8>
  </property>
  <property fmtid="{D5CDD505-2E9C-101B-9397-08002B2CF9AE}" pid="7" name="_ReviewingToolsShownOnce">
    <vt:lpwstr/>
  </property>
</Properties>
</file>